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F97-290B-4974-A549-90598DFF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641-6907-401C-AF12-8843C4D3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C51-5B2B-4460-B89D-501907B8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33A-B74E-45D7-A68B-EC62BF3A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009-B9B0-4E0D-9063-8BD1AECC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62C-4C65-45F2-A5E5-D43B18FA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88C-DC38-451B-8025-2EE367AE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208-0620-457B-BAAF-4130F001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033-08BF-42C5-B0A2-30B8D9AB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B1C-942E-48C2-BBA4-B2F64989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438-008D-44FD-936E-DE5F9E96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17B-95FE-49A9-BECF-3276F769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DA5C-FCFE-47F4-B3E8-4897D28E7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 trajec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f 2 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nger une trajec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flipH="1">
            <a:off x="685440" y="2421000"/>
            <a:ext cx="1235160" cy="1081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i les démarches à sui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04760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nger une trajectoi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2278080"/>
            <a:ext cx="9144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électionner la trajectoire appliq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sir le bout de la trajectoire (cliquer quand il y a une flèche bidirectionnelle oblique), étirer la trajectoire le clic de la souris toujours enfonc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âcher quand la trajectoire est de la longueur recherch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81760"/>
            <a:ext cx="9144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’on veut changer la direction d’une trajectoire, on procède de la même man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flipH="1">
            <a:off x="-2126160" y="1339920"/>
            <a:ext cx="1235160" cy="108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6296E-006 L 0.69601 -2.96296E-006 E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.55556E-007 -4.07407E-006 L 0.23351 -4.07407E-006 E">
                                      <p:cBhvr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69601 -2.96296E-006 L 0.9323 -2.96296E-006 E">
                                      <p:cBhvr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6200" y="270000"/>
            <a:ext cx="41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698920" y="3479760"/>
            <a:ext cx="287280" cy="287280"/>
            <a:chOff x="2698920" y="3479760"/>
            <a:chExt cx="287280" cy="287280"/>
          </a:xfrm>
        </p:grpSpPr>
        <p:sp>
          <p:nvSpPr>
            <p:cNvPr id="53" name=""/>
            <p:cNvSpPr/>
            <p:nvPr/>
          </p:nvSpPr>
          <p:spPr>
            <a:xfrm>
              <a:off x="2843280" y="34797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98920" y="3624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476360" y="2060640"/>
            <a:ext cx="31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lectionner la 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2698920" y="3479760"/>
            <a:ext cx="287280" cy="287280"/>
            <a:chOff x="2698920" y="3479760"/>
            <a:chExt cx="287280" cy="287280"/>
          </a:xfrm>
        </p:grpSpPr>
        <p:sp>
          <p:nvSpPr>
            <p:cNvPr id="58" name=""/>
            <p:cNvSpPr/>
            <p:nvPr/>
          </p:nvSpPr>
          <p:spPr>
            <a:xfrm>
              <a:off x="2843280" y="34797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98920" y="3624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187280" y="1413000"/>
            <a:ext cx="316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r le bout de la trajec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54560" y="35114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771560"/>
            <a:ext cx="4825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isser le doigt enfoncé sur le clic de la sou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éti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87640" y="26964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384720" y="3479760"/>
            <a:ext cx="287280" cy="287280"/>
            <a:chOff x="3384720" y="3479760"/>
            <a:chExt cx="287280" cy="287280"/>
          </a:xfrm>
        </p:grpSpPr>
        <p:sp>
          <p:nvSpPr>
            <p:cNvPr id="65" name=""/>
            <p:cNvSpPr/>
            <p:nvPr/>
          </p:nvSpPr>
          <p:spPr>
            <a:xfrm>
              <a:off x="3529080" y="34797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84720" y="3624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564000" y="362268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2638440"/>
            <a:ext cx="316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â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351144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3000240"/>
            <a:ext cx="4714920" cy="38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88889E-006 -7.40741E-007 L 0.09844 -7.40741E-007 E">
                                      <p:cBhvr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9:59:52Z</dcterms:created>
  <dc:creator>Tribouillier</dc:creator>
  <dc:description/>
  <dc:language>en-US</dc:language>
  <cp:lastModifiedBy>Tribouillier</cp:lastModifiedBy>
  <dcterms:modified xsi:type="dcterms:W3CDTF">2008-02-23T10:13:05Z</dcterms:modified>
  <cp:revision>13</cp:revision>
  <dc:subject/>
  <dc:title>Manipuler un effet trajectoire 2</dc:title>
</cp:coreProperties>
</file>