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100-60BA-4220-92FF-858C667B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C6B-CF03-4B2B-AF72-07BA9DA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D1B-91A6-4270-9F57-50995CBE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278-35D3-4E39-8CCD-B5961203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86A-AF61-4667-8656-D879594E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566-B834-4B47-96CD-41D1C51B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0FB-72DA-4024-AD21-F609EEBD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599-E33D-4E58-B8FF-7A8BA6A5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8DE-1B0B-4528-A76D-99872CBF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D1C-559C-428A-85A7-21FC0E7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B9A-BA4C-45DD-B3A9-9C90FD75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BDA-70B6-43FF-8792-4186490D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F6D9-E611-4039-A450-873F380C5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f 2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nger une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>
            <a:off x="68544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i les démarches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04760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nger une trajecto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2278080"/>
            <a:ext cx="9144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a trajectoire appliq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sir le bout de la trajectoire (cliquer quand il y a une flèche bidirectionnelle oblique), étirer la trajectoire le clic de la souris toujours enfonc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âcher quand la trajectoire est de la longueur recherch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81760"/>
            <a:ext cx="914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’on veut changer la direction d’une trajectoire, on procède de la même man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>
            <a:off x="-2126160" y="1339920"/>
            <a:ext cx="1235160" cy="10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0.69601 -2.96296E-006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-4.07407E-006 L 0.23351 -4.07407E-006 E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9601 -2.96296E-006 L 0.9323 -2.96296E-006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6200" y="270000"/>
            <a:ext cx="41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698920" y="3479760"/>
            <a:ext cx="287280" cy="287280"/>
            <a:chOff x="2698920" y="3479760"/>
            <a:chExt cx="287280" cy="287280"/>
          </a:xfrm>
        </p:grpSpPr>
        <p:sp>
          <p:nvSpPr>
            <p:cNvPr id="53" name=""/>
            <p:cNvSpPr/>
            <p:nvPr/>
          </p:nvSpPr>
          <p:spPr>
            <a:xfrm>
              <a:off x="2843280" y="3479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98920" y="3624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476360" y="206064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698920" y="3479760"/>
            <a:ext cx="287280" cy="287280"/>
            <a:chOff x="2698920" y="3479760"/>
            <a:chExt cx="287280" cy="287280"/>
          </a:xfrm>
        </p:grpSpPr>
        <p:sp>
          <p:nvSpPr>
            <p:cNvPr id="58" name=""/>
            <p:cNvSpPr/>
            <p:nvPr/>
          </p:nvSpPr>
          <p:spPr>
            <a:xfrm>
              <a:off x="2843280" y="3479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98920" y="3624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187280" y="141300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r le bout de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54560" y="35114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771560"/>
            <a:ext cx="4825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r le doigt enfoncé sur le clic de la so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éti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640" y="2696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84720" y="3479760"/>
            <a:ext cx="287280" cy="287280"/>
            <a:chOff x="3384720" y="3479760"/>
            <a:chExt cx="287280" cy="287280"/>
          </a:xfrm>
        </p:grpSpPr>
        <p:sp>
          <p:nvSpPr>
            <p:cNvPr id="65" name=""/>
            <p:cNvSpPr/>
            <p:nvPr/>
          </p:nvSpPr>
          <p:spPr>
            <a:xfrm>
              <a:off x="3529080" y="3479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84720" y="3624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564000" y="362268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26384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35114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3000240"/>
            <a:ext cx="471492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-7.40741E-007 L 0.09844 -7.40741E-007 E">
                                      <p:cBhvr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9:59:52Z</dcterms:created>
  <dc:creator>Tribouillier</dc:creator>
  <dc:description/>
  <dc:language>en-US</dc:language>
  <cp:lastModifiedBy>Tribouillier</cp:lastModifiedBy>
  <dcterms:modified xsi:type="dcterms:W3CDTF">2008-02-23T10:13:05Z</dcterms:modified>
  <cp:revision>13</cp:revision>
  <dc:subject/>
  <dc:title>Manipuler un effet trajectoire 2</dc:title>
</cp:coreProperties>
</file>