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FCC-B302-4DDE-BD3B-E7A4191F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923-7E45-453C-B661-21C1468B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EE3-9D7A-45F1-9143-C5A939D3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347-C6B6-4995-9833-CAAEE456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AC3-223D-4D94-A0AE-349BAA4B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53E-6069-4F71-B2BD-151ABA96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8AD-0385-4610-8BCA-C444E9BA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848-C06F-4298-BE5A-4C9AE136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83B8-C50B-447F-BF9F-6253E4FB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5F3A-3F36-41D1-B170-7BE5C071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C0C-EE9C-4FB2-8DC8-95647CFF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B0E1-3875-4F60-B0D0-8059CF52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EC4E-D058-4E67-9572-73A750AD4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flipH="1">
            <a:off x="539280" y="2421000"/>
            <a:ext cx="1235160" cy="108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vous de jouer</a:t>
            </a:r>
            <a:br>
              <a:rPr sz="36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llonger la trajectoire de la vo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0:05:05Z</dcterms:created>
  <dc:creator>Tribouillier</dc:creator>
  <dc:description/>
  <dc:language>en-US</dc:language>
  <cp:lastModifiedBy>Tribouillier</cp:lastModifiedBy>
  <dcterms:modified xsi:type="dcterms:W3CDTF">2008-02-23T10:06:40Z</dcterms:modified>
  <cp:revision>1</cp:revision>
  <dc:subject/>
  <dc:title>Manipuler un effet de trajectoire 2</dc:title>
</cp:coreProperties>
</file>