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F80-815B-4F44-AD93-96002D44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85B-5270-4BF0-B9FE-A61396A9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EDB-543F-4604-BD5B-BFFE24BD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704-AE8E-4807-98D9-2A4D329D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28D-F14D-4301-AFAE-786C57A7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035-2869-42CB-B676-F7C5FE75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1F6-E505-4ABE-A4CC-4336A095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28A-7653-458F-A413-B9D552B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E4D-C5AF-4750-8358-C9B5FB74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805-20B6-4FC4-97BA-600ED39B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7FD-18E2-478F-9C1C-A2276942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EF1-86F8-4F63-AC29-445AA515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9463-72E8-459B-8F59-AAC31299B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539280" y="2421000"/>
            <a:ext cx="1235160" cy="10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ous de jouer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llonger la trajectoire de la vo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0:05:05Z</dcterms:created>
  <dc:creator>Tribouillier</dc:creator>
  <dc:description/>
  <dc:language>en-US</dc:language>
  <cp:lastModifiedBy>Tribouillier</cp:lastModifiedBy>
  <dcterms:modified xsi:type="dcterms:W3CDTF">2008-02-23T10:06:40Z</dcterms:modified>
  <cp:revision>1</cp:revision>
  <dc:subject/>
  <dc:title>Manipuler un effet de trajectoire 2</dc:title>
</cp:coreProperties>
</file>