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F7C-3214-4DA3-9E85-EA05F8CC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9D4-89D1-4662-B32F-48A317D1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77D-FBE6-4A89-873F-6E40D68A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C5A-A613-4937-9AB0-281A434B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E02-73EA-487B-9FC1-A2B5FB57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36D-F125-421B-B878-8CE1FF65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EC1-071A-4A7E-BC2B-63D5E01B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A0C-5304-4697-9559-7C47F65D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5D0-FE11-4836-A55B-892FC68D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093-60B4-4E5C-86D3-FEA5B546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2CC-8D64-4008-B33A-1D389787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276-7192-4EDD-BD63-39A3ADD0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5B7D-23AC-4A42-A1FC-373AC538218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f 1 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quer l’effet à un cli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>
            <a:off x="2061720" y="2421000"/>
            <a:ext cx="1235160" cy="1081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i les démarches à sui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3860640"/>
            <a:ext cx="822960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électionner la vo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« Personnaliser l’animation »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r sur « ajouter un effet »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sir « trajectoires »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is cliquer sur « droit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04760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quer une trajectoi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74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9:59:52Z</dcterms:created>
  <dc:creator>Tribouillier</dc:creator>
  <dc:description/>
  <dc:language>en-US</dc:language>
  <cp:lastModifiedBy>Tribouillier</cp:lastModifiedBy>
  <dcterms:modified xsi:type="dcterms:W3CDTF">2008-02-23T09:55:46Z</dcterms:modified>
  <cp:revision>7</cp:revision>
  <dc:subject/>
  <dc:title>Manipuler un effet trajectoire 1</dc:title>
</cp:coreProperties>
</file>