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CF7-C9DE-42F9-8A39-5A330175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1AF-DFF2-476D-A1B2-4903F3D7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FFA-F3BA-4EEB-B3A6-D4463D54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070-05C4-4FF1-A93B-2C86888D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A77-5C1B-4268-BC13-DC03BC90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40A-93C1-46C1-BAD5-2B5321AA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81D-DA8C-4DF4-AFF7-FCAA35B9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9AE-73AF-4F0E-9E4B-00E142BA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353-F563-459D-92A4-3FE6FC5D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DC2-EF16-49AC-84E2-89CBBABD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E6C-2DE4-470D-A78E-C5297EF8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7CB-468C-4106-85C7-7BD3AEA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122F-6589-49F6-8B15-B4FCDA18749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f 1 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quer l’effet à un cli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>
            <a:off x="2061720" y="2421000"/>
            <a:ext cx="1235160" cy="1081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i les démarches à sui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3860640"/>
            <a:ext cx="822960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électionner la vo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« Personnaliser l’animation »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r sur « ajouter un effet »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sir « trajectoires »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is cliquer sur « droit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04760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quer une trajectoi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74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9:59:52Z</dcterms:created>
  <dc:creator>Tribouillier</dc:creator>
  <dc:description/>
  <dc:language>en-US</dc:language>
  <cp:lastModifiedBy>Tribouillier</cp:lastModifiedBy>
  <dcterms:modified xsi:type="dcterms:W3CDTF">2008-02-23T09:55:46Z</dcterms:modified>
  <cp:revision>7</cp:revision>
  <dc:subject/>
  <dc:title>Manipuler un effet trajectoire 1</dc:title>
</cp:coreProperties>
</file>