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3608-612F-47BA-A976-FCE048D9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80D-BAD8-4C2C-A7DF-728CD617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C26-5FEF-4698-A71F-4CA2551F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3F7-2BC4-48BD-BD3C-A3097249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2DB-28C1-409A-A19C-860BCB4D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7A1-3A9B-4BE1-A568-5369FDAE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4DEB-C8C4-4675-A1AF-B45DEDC8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09C-7998-40E2-83DE-143E3DEB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AA97-78EC-422C-B45A-BE1002DE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5C7-D898-4F7D-BCFB-B946AF3D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2E21-FE64-4014-8374-0D84E675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DBE-4AC9-4EA2-B21A-756B4F8C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5874-7DCF-4CE5-AA12-561631C8B21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flipH="1">
            <a:off x="2061720" y="2421000"/>
            <a:ext cx="1235160" cy="1081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vous de jouer</a:t>
            </a:r>
            <a:br>
              <a:rPr sz="36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liquer une trajectoire droite vers la dro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09:53:33Z</dcterms:created>
  <dc:creator>Tribouillier</dc:creator>
  <dc:description/>
  <dc:language>en-US</dc:language>
  <cp:lastModifiedBy>Tribouillier</cp:lastModifiedBy>
  <dcterms:modified xsi:type="dcterms:W3CDTF">2008-02-23T09:53:59Z</dcterms:modified>
  <cp:revision>1</cp:revision>
  <dc:subject/>
  <dc:title>Manipuler un effet de trajectoire 1</dc:title>
</cp:coreProperties>
</file>