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DC2-D93F-4651-97E2-58A5A0A1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107-C885-4F4F-8BE7-A1B26057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63F-E53C-4E14-AB9C-4D36B7A5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9E0-C268-45A6-AB99-B67A8AF2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1F9-833A-479F-AC14-2CF9AF65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17F-50EF-4217-A2E3-400D163B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918-3E66-499F-9526-74F92D55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7890-6057-4947-A8CD-60B14558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0A9-2ADA-4228-83A1-BA1741D1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5BF-8C89-48E5-BFAC-1F4AC909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4E9-64E6-452B-A177-377DC534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EDF-D001-46FB-A0D4-30C7896A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FFC1-C2EC-42CB-B09B-AD15CB5BF89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flipH="1">
            <a:off x="2061720" y="2421000"/>
            <a:ext cx="1235160" cy="108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vous de jouer</a:t>
            </a:r>
            <a:br>
              <a:rPr sz="36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liquer une trajectoire droite vers la dro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09:53:33Z</dcterms:created>
  <dc:creator>Tribouillier</dc:creator>
  <dc:description/>
  <dc:language>en-US</dc:language>
  <cp:lastModifiedBy>Tribouillier</cp:lastModifiedBy>
  <dcterms:modified xsi:type="dcterms:W3CDTF">2008-02-23T09:53:59Z</dcterms:modified>
  <cp:revision>1</cp:revision>
  <dc:subject/>
  <dc:title>Manipuler un effet de trajectoire 1</dc:title>
</cp:coreProperties>
</file>