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526-9819-48D7-91FF-C22168E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8D8-0218-4D13-B0CF-EDCCE795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255-EF28-42C8-9ADA-81ABC416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06-1CC5-421C-B1A1-B0E69E07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7F9-984B-4AE0-B7D3-949B194D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47F-97D3-40A9-8F96-069A2CC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E42-9D06-464E-B947-39FDC78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A60-49C6-4778-B6CA-35FCE94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650-F45B-4EB9-8D16-8FD6EE8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C2A-2F4B-4167-8796-AA0C203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416-B6CB-4865-A23A-FE43BB0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28E-1C0F-47D5-99CB-D290149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ED1E-CFCC-4C8B-8708-A0FEC05E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3200" y="0"/>
            <a:ext cx="3961080" cy="5259240"/>
            <a:chOff x="133200" y="0"/>
            <a:chExt cx="3961080" cy="5259240"/>
          </a:xfrm>
        </p:grpSpPr>
        <p:sp>
          <p:nvSpPr>
            <p:cNvPr id="42" name=""/>
            <p:cNvSpPr/>
            <p:nvPr/>
          </p:nvSpPr>
          <p:spPr>
            <a:xfrm>
              <a:off x="133200" y="1298880"/>
              <a:ext cx="3961080" cy="3960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rcRect l="39863" t="0" r="42446" b="77145"/>
            <a:stretch/>
          </p:blipFill>
          <p:spPr>
            <a:xfrm>
              <a:off x="1573920" y="0"/>
              <a:ext cx="1041120" cy="134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7338 L 0.13732 0.15486 C 0.16614 0.17315 0.2092 0.1838 0.25416 0.1838 C 0.30555 0.1838 0.34635 0.17315 0.37534 0.15486 L 0.51302 0.0733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-1800000">
                                      <p:cBhvr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1800000">
                                      <p:cBhvr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-1800000">
                                      <p:cBhvr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7000"/>
                                  </p:stCondLst>
                                  <p:childTnLst>
                                    <p:animRot by="1800000">
                                      <p:cBhvr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2:59:07Z</dcterms:created>
  <dc:creator>Tribouillier</dc:creator>
  <dc:description/>
  <dc:language>en-US</dc:language>
  <cp:lastModifiedBy>Tribouillier</cp:lastModifiedBy>
  <dcterms:modified xsi:type="dcterms:W3CDTF">2008-04-03T12:43:28Z</dcterms:modified>
  <cp:revision>3</cp:revision>
  <dc:subject/>
  <dc:title>Diapositive 1</dc:title>
</cp:coreProperties>
</file>