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D99-E424-4777-96AE-CA6E8F78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10F-8922-4AC3-A038-F2EC8CAD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E3F-DB3B-44DE-BCED-4944F815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690-2CDF-49A7-9AC9-C1DFC06F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F8D-5698-4CCB-9C47-A4EF21B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5D7-F283-47AD-9993-FD9FB26A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519-5A86-4F98-9887-ADAFEF81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151-50D3-44A7-9AF5-64305DF2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35F-A0B8-404F-AA3B-DB67F4F1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ECC-EE52-4B5D-A4E5-FEDF889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7FB-C6F8-4C28-8A3E-F6C5990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B3E-DD0F-420C-BB82-3A0580A7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E96-D4A0-45D6-B5AF-BE662038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3200" y="0"/>
            <a:ext cx="3961080" cy="5259240"/>
            <a:chOff x="133200" y="0"/>
            <a:chExt cx="3961080" cy="5259240"/>
          </a:xfrm>
        </p:grpSpPr>
        <p:sp>
          <p:nvSpPr>
            <p:cNvPr id="42" name=""/>
            <p:cNvSpPr/>
            <p:nvPr/>
          </p:nvSpPr>
          <p:spPr>
            <a:xfrm>
              <a:off x="133200" y="1298880"/>
              <a:ext cx="3961080" cy="3960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rcRect l="39863" t="0" r="42446" b="77145"/>
            <a:stretch/>
          </p:blipFill>
          <p:spPr>
            <a:xfrm>
              <a:off x="1573920" y="0"/>
              <a:ext cx="1041120" cy="1345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7338 L 0.13732 0.15486 C 0.16614 0.17315 0.2092 0.1838 0.25416 0.1838 C 0.30555 0.1838 0.34635 0.17315 0.37534 0.15486 L 0.51302 0.07338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-1800000">
                                      <p:cBhvr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1800000">
                                      <p:cBhvr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-1800000">
                                      <p:cBhvr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7000"/>
                                  </p:stCondLst>
                                  <p:childTnLst>
                                    <p:animRot by="1800000">
                                      <p:cBhvr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2:59:07Z</dcterms:created>
  <dc:creator>Tribouillier</dc:creator>
  <dc:description/>
  <dc:language>en-US</dc:language>
  <cp:lastModifiedBy>Tribouillier</cp:lastModifiedBy>
  <dcterms:modified xsi:type="dcterms:W3CDTF">2008-04-03T12:43:28Z</dcterms:modified>
  <cp:revision>3</cp:revision>
  <dc:subject/>
  <dc:title>Diapositive 1</dc:title>
</cp:coreProperties>
</file>