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F9E-01D8-4197-9876-4E691000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39F-9D28-41E8-8945-559F1E1F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9B2-A3B9-410B-A746-1F5F8765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F8F-817E-4CA7-A49A-48FBF0A9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478-49C4-4D3B-A00C-742407FF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98C-E6B6-43C4-935C-D4CDD8D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932-EF2F-48BE-B6F2-AA59639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71C-D24A-4C53-A569-94F83594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7E6-3CF2-45E4-9654-9173FCA7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3F9-2A43-401B-A36D-26988445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A8A-9D02-4794-9E5E-0324C86C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C1F-C628-436B-B512-8B9E25F1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1BD-F2CD-4091-8350-4A8382A15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0464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Clipart sur Office On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84720" y="2406600"/>
            <a:ext cx="212400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40464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copier et à multip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trouver dans les rubriques « chat » et « animation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00360" y="2622600"/>
            <a:ext cx="2124000" cy="2030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16360" y="2838600"/>
            <a:ext cx="2124000" cy="203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032360" y="3054240"/>
            <a:ext cx="2124000" cy="203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dépla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flipH="1">
            <a:off x="2761920" y="2133720"/>
            <a:ext cx="2135160" cy="2041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60156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inverser 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epla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pier et déplacer la co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 flipH="1">
            <a:off x="1249200" y="2349360"/>
            <a:ext cx="2135520" cy="2041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0040" y="765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nd on travaille dessus, les lions ne rugissent pa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48751E-006 L 0.29341 -0.08279 E">
                                      <p:cBhvr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2 0.03146 L 0.27362 0.22156 E">
                                      <p:cBhvr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6 -0.1457 L 3.61111E-006 1.79463E-006 E">
                                      <p:cBhvr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69 -0.01249 L 1.66667E-006 1.78538E-006 E">
                                      <p:cBhvr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82 0.29186 L 3.05556E-006 -5.73543E-007 E">
                                      <p:cBhvr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inq lion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6:25:59Z</dcterms:created>
  <dc:creator>Tribouillier</dc:creator>
  <dc:description/>
  <dc:language>en-US</dc:language>
  <cp:lastModifiedBy>Tribouillier</cp:lastModifiedBy>
  <dcterms:modified xsi:type="dcterms:W3CDTF">2008-02-22T06:31:27Z</dcterms:modified>
  <cp:revision>55</cp:revision>
  <dc:subject/>
  <dc:title>les 5 lions</dc:title>
</cp:coreProperties>
</file>