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648-1439-41DF-9150-AB3C2B47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B6F-BFF7-4C82-AD11-FED00901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01F-9971-48B4-8450-D55814D3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773-5187-468B-A8B0-D109DE61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008-A678-4F25-A46F-288F7D84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0EB-1373-4E15-AF6D-614E5A6E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163-EA9E-4738-99E0-DCF1703D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472-4C90-4BC5-8300-22DBAA8F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531-BF8A-48F6-8EA7-85E06A1A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0CE-69E1-4A0A-8D5A-D349219E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EEC-2A25-42B2-B565-D7F2CA1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CC6-2929-4B35-B7CC-963ABDAF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2A96-066E-45DF-8D8F-9300AD6B3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0464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Clipart sur Office On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84720" y="2406600"/>
            <a:ext cx="212400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1280" y="40464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copier et à multip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76500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trouver dans les rubriques « chat » et « animation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00360" y="2622600"/>
            <a:ext cx="2124000" cy="2030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16360" y="2838600"/>
            <a:ext cx="2124000" cy="203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032360" y="3054240"/>
            <a:ext cx="2124000" cy="203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76500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dépla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flipH="1">
            <a:off x="2761920" y="2133720"/>
            <a:ext cx="2135160" cy="2041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60156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inverser 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76500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epla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76500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pier et déplacer la co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 flipH="1">
            <a:off x="1249200" y="2349360"/>
            <a:ext cx="2135520" cy="2041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0040" y="76500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nd on travaille dessus, les lions ne rugissent pa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48751E-006 L 0.29341 -0.08279 E">
                                      <p:cBhvr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2 0.03146 L 0.27362 0.22156 E">
                                      <p:cBhvr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6 -0.1457 L 3.61111E-006 1.79463E-006 E">
                                      <p:cBhvr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69 -0.01249 L 1.66667E-006 1.78538E-006 E">
                                      <p:cBhvr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82 0.29186 L 3.05556E-006 -5.73543E-007 E">
                                      <p:cBhvr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inq lion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6:25:59Z</dcterms:created>
  <dc:creator>Tribouillier</dc:creator>
  <dc:description/>
  <dc:language>en-US</dc:language>
  <cp:lastModifiedBy>Tribouillier</cp:lastModifiedBy>
  <dcterms:modified xsi:type="dcterms:W3CDTF">2008-02-22T06:31:27Z</dcterms:modified>
  <cp:revision>55</cp:revision>
  <dc:subject/>
  <dc:title>les 5 lions</dc:title>
</cp:coreProperties>
</file>