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B62-694E-42C7-B41D-1528818F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13C-B908-4DA4-A1DD-B153618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BC7-2C48-43D8-9BFE-DC9A467C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F7A-1B14-49AA-BC7A-8F06D62C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FB3-12EB-43B8-B467-67BB0255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648-87F6-44F5-8796-B080DC32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4BA-06A7-4059-AEAC-B99351B1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B34-6B42-4ABC-B9F1-32B73C21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AC1-3DB5-4314-99E8-BF4D7155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8D6-AB1F-447B-A674-8B3555D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B20-BD06-4E46-9025-CCA58B8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F41-F636-4283-AABC-C2E6BE4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2ED6-10D2-4C56-88B3-DA47749446D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287280"/>
            <a:ext cx="85788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Clipart sur Office Onl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 chat » « animation » à télécha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57560" y="3768840"/>
            <a:ext cx="1028880" cy="82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27280" y="2637000"/>
            <a:ext cx="3836880" cy="309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120" y="27468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coller et agrandir en tirant sur les co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clipart sur Office Onl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 chat » « son » à télécha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6040" y="314172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hercher par le volet Off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n « Miaulement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836880" cy="309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4760" y="33336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érer l’objet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0400" y="549360"/>
            <a:ext cx="822960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étrer l’eff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lecture du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mediacall" presetID="1">
                                  <p:stCondLst>
                                    <p:cond delay="2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6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36720" y="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10526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et Office « personnaliser l’animat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836720" y="-468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10526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Options de l’e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836720" y="0"/>
            <a:ext cx="10980720" cy="686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-1836720" y="-468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0526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let Minu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-1836720" y="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0526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péter l’e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-1836720" y="0"/>
            <a:ext cx="10980720" cy="68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3336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tre l’objet son en arrière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57560" y="3768840"/>
            <a:ext cx="10288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654280" y="2637000"/>
            <a:ext cx="3836880" cy="30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654280" y="2637000"/>
            <a:ext cx="3836880" cy="30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t qui miaul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6:25:59Z</dcterms:created>
  <dc:creator>Tribouillier</dc:creator>
  <dc:description/>
  <dc:language>en-US</dc:language>
  <cp:lastModifiedBy>Tribouillier</cp:lastModifiedBy>
  <dcterms:modified xsi:type="dcterms:W3CDTF">2008-02-21T19:28:00Z</dcterms:modified>
  <cp:revision>54</cp:revision>
  <dc:subject/>
  <dc:title>le chat qui miaule</dc:title>
</cp:coreProperties>
</file>