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33C-C690-466C-9E12-CE1F1F3C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90CE-1081-435A-B0DB-5BBAB1FF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A45C-4661-420D-9A23-CEBE31B2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FD47-A7C7-4385-ADD9-1540A898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CE97-E58E-4DE8-8FF5-28119C30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09F6-C36D-4B51-900A-C75A65D3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4FC-2454-4D6F-AFC8-F8F8C39E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6A1B-5BD9-437D-9E88-D6D7B976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A393-F8D0-4489-AEEC-602E806A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B665-C7C7-4253-ACF8-E654F5B1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9416-7B1B-498F-B28E-A5C2B33C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A069-9E32-4ED2-A638-96909FB2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5BF7-9C38-420F-9DB2-EA173A5D0FA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4280" y="287280"/>
            <a:ext cx="85788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Clipart sur Office Onl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 chat » « animation » à téléchar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57560" y="3768840"/>
            <a:ext cx="1028880" cy="828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627280" y="2637000"/>
            <a:ext cx="3836880" cy="309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120" y="274680"/>
            <a:ext cx="822960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à coller et agrandir en tirant sur les co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42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clipart sur Office Onl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 chat » « son » à téléchar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6040" y="3141720"/>
            <a:ext cx="822960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hercher par le volet Off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on « Miaulement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3836880" cy="309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4760" y="333360"/>
            <a:ext cx="822960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érer l’objet 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0400" y="549360"/>
            <a:ext cx="8229600" cy="20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étrer l’eff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lecture du 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mediacall" presetID="1">
                                  <p:stCondLst>
                                    <p:cond delay="2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86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836720" y="0"/>
            <a:ext cx="10980720" cy="6862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1052640"/>
            <a:ext cx="453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et Office « personnaliser l’animation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-1836720" y="-4680"/>
            <a:ext cx="10980720" cy="6862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1052640"/>
            <a:ext cx="453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Options de l’ef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1836720" y="0"/>
            <a:ext cx="10980720" cy="6862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-1836720" y="-4680"/>
            <a:ext cx="10980720" cy="6862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1052640"/>
            <a:ext cx="453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let Minu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-1836720" y="0"/>
            <a:ext cx="10980720" cy="6862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052640"/>
            <a:ext cx="453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péter l’ef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-1836720" y="0"/>
            <a:ext cx="10980720" cy="686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333360"/>
            <a:ext cx="822960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tre l’objet son en arrière-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057560" y="3768840"/>
            <a:ext cx="1028880" cy="828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654280" y="2637000"/>
            <a:ext cx="3836880" cy="3090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654280" y="2637000"/>
            <a:ext cx="3836880" cy="30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hat qui miaul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6:25:59Z</dcterms:created>
  <dc:creator>Tribouillier</dc:creator>
  <dc:description/>
  <dc:language>en-US</dc:language>
  <cp:lastModifiedBy>Tribouillier</cp:lastModifiedBy>
  <dcterms:modified xsi:type="dcterms:W3CDTF">2008-02-21T19:28:00Z</dcterms:modified>
  <cp:revision>54</cp:revision>
  <dc:subject/>
  <dc:title>le chat qui miaule</dc:title>
</cp:coreProperties>
</file>