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D0C1-CCA7-4924-A030-D576CFE42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B53E-9B15-48B2-BA47-1223573D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B468-DF69-4BC1-902D-5C2B586D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AF1B-6F6D-41EC-BB52-8FEF054D4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E1C3-48D1-470A-87F2-98B801D9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5305-B48F-4E20-9BFD-3C514991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CCDD-B60B-40F3-ADE4-24C403E3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EA76-4C2E-4777-A597-7D7E3383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0454-80B7-417F-8466-507BE316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9F2F-F308-4D27-8144-6D6E7052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B9DC-C9C8-4D9E-90EA-5FDEF1B9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0375-6C84-4673-8FF6-8938E6CB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04DD-8AF5-4382-99AB-7E56C265E14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r le sens d’une trajectoir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aire avec un clic droit sur la trajectoir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11640" y="2781360"/>
            <a:ext cx="619200" cy="542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6111" t="15150" r="37721" b="16817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18386" t="25278" r="44384" b="29633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autoRev="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2852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it en inversant les images clipar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it en inversant les trajectoir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ire en sorte que toutes les voitures aillent de l’avant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65300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y a deux diapositives différent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1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09600" y="4564080"/>
            <a:ext cx="1214640" cy="1063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flipH="1">
            <a:off x="1209240" y="5489640"/>
            <a:ext cx="1562040" cy="1368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792840" y="2773440"/>
            <a:ext cx="1130400" cy="990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1209600" y="1666800"/>
            <a:ext cx="986040" cy="863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 flipH="1">
            <a:off x="7524360" y="1103400"/>
            <a:ext cx="716040" cy="62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Motion origin="layout" path="M 1.66667E-006 -2.96296E-006 L 0.52066 -2.96296E-006 E">
                                      <p:cBhvr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44444E-006 L 0.59271 4.44444E-006 E">
                                      <p:cBhvr>
                                        <p:cTn id="60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8264 -3.7037E-007 L 2.5E-006 -3.7037E-007 E">
                                      <p:cBhvr>
                                        <p:cTn id="62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48148E-006 L 0.65243 1.48148E-006 E">
                                      <p:cBhvr>
                                        <p:cTn id="64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3993 -1.48148E-006 L 8.33333E-007 -1.48148E-006 E">
                                      <p:cBhvr>
                                        <p:cTn id="66" dur="5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2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 flipH="1">
            <a:off x="754200" y="4546440"/>
            <a:ext cx="1234800" cy="1081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358040" y="5481720"/>
            <a:ext cx="1571760" cy="1376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 flipH="1">
            <a:off x="7357680" y="2781360"/>
            <a:ext cx="1120680" cy="982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 flipH="1">
            <a:off x="296640" y="1730520"/>
            <a:ext cx="912600" cy="799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8240760" y="1077840"/>
            <a:ext cx="74448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Motion origin="layout" path="M -0.76077 2.96296E-006 L 5E-006 2.96296E-006 E">
                                      <p:cBhvr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3.33333E-006 L 0.69653 3.33333E-006 E">
                                      <p:cBhvr>
                                        <p:cTn id="74" dur="1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7239 0.00116 L -0.01944 0.00116 E">
                                      <p:cBhvr>
                                        <p:cTn id="7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85185E-006 L 0.83403 1.85185E-006 E">
                                      <p:cBhvr>
                                        <p:cTn id="78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9062 3.7037E-007 L -2.77778E-007 3.7037E-007 E">
                                      <p:cBhvr>
                                        <p:cTn id="80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06:25:59Z</dcterms:created>
  <dc:creator>Tribouillier</dc:creator>
  <dc:description/>
  <dc:language>en-US</dc:language>
  <cp:lastModifiedBy>Tribouillier</cp:lastModifiedBy>
  <dcterms:modified xsi:type="dcterms:W3CDTF">2008-02-21T19:28:48Z</dcterms:modified>
  <cp:revision>54</cp:revision>
  <dc:subject/>
  <dc:title>inversion de trajectoire et retournement de clipart</dc:title>
</cp:coreProperties>
</file>