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1A7-4553-420D-8E99-3BAD80D8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41A5-8086-4E0B-B2A3-4F240457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F72B-1158-43D8-BCB1-A9EF9BFD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CB9-29D7-438F-81C1-CBDB294C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06A-F8FB-46A3-994A-2B7E0282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7E9-413A-4EFF-B1A1-643321BB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C84A-F851-4E96-94BE-3B2E8307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064-CEC7-4DCD-B689-FD1AF39A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E0B-1E1A-42AC-85E0-18671B9E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91E5-87F5-44A8-AC06-79E1D85F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CE1-FE28-4A7F-83F7-81AEC6BE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07C-66E1-4070-B78A-9FA40FF9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CE05-B2A7-4D00-8393-AE2188C598D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r le sens d’une trajectoi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aire avec un clic droit sur la trajectoi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11640" y="278136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6111" t="15150" r="37721" b="16817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18386" t="25278" r="44384" b="29633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autoRev="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it en inversant les images clip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it en inversant les trajectoi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re en sorte que toutes les voitures aillent de l’avant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65300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 a deux diapositives différen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1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09600" y="4564080"/>
            <a:ext cx="1214640" cy="1063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flipH="1">
            <a:off x="1209240" y="5489640"/>
            <a:ext cx="1562040" cy="1368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792840" y="2773440"/>
            <a:ext cx="1130400" cy="99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209600" y="1666800"/>
            <a:ext cx="986040" cy="86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flipH="1">
            <a:off x="7524360" y="1103400"/>
            <a:ext cx="716040" cy="6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1.66667E-006 -2.96296E-006 L 0.52066 -2.96296E-006 E">
                                      <p:cBhvr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0.59271 4.44444E-006 E">
                                      <p:cBhvr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264 -3.7037E-007 L 2.5E-006 -3.7037E-007 E">
                                      <p:cBhvr>
                                        <p:cTn id="62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48148E-006 L 0.65243 1.48148E-006 E">
                                      <p:cBhvr>
                                        <p:cTn id="64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3993 -1.48148E-006 L 8.33333E-007 -1.48148E-006 E">
                                      <p:cBhvr>
                                        <p:cTn id="66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2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flipH="1">
            <a:off x="754200" y="4546440"/>
            <a:ext cx="1234800" cy="1081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358040" y="5481720"/>
            <a:ext cx="1571760" cy="137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 flipH="1">
            <a:off x="7357680" y="2781360"/>
            <a:ext cx="1120680" cy="98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 flipH="1">
            <a:off x="296640" y="1730520"/>
            <a:ext cx="912600" cy="799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8240760" y="1077840"/>
            <a:ext cx="7444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-0.76077 2.96296E-006 L 5E-006 2.96296E-006 E">
                                      <p:cBhvr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33333E-006 L 0.69653 3.33333E-006 E">
                                      <p:cBhvr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239 0.00116 L -0.01944 0.00116 E">
                                      <p:cBhvr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85185E-006 L 0.83403 1.85185E-006 E">
                                      <p:cBhvr>
                                        <p:cTn id="78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9062 3.7037E-007 L -2.77778E-007 3.7037E-007 E">
                                      <p:cBhvr>
                                        <p:cTn id="80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6:25:59Z</dcterms:created>
  <dc:creator>Tribouillier</dc:creator>
  <dc:description/>
  <dc:language>en-US</dc:language>
  <cp:lastModifiedBy>Tribouillier</cp:lastModifiedBy>
  <dcterms:modified xsi:type="dcterms:W3CDTF">2008-02-21T19:28:48Z</dcterms:modified>
  <cp:revision>54</cp:revision>
  <dc:subject/>
  <dc:title>inversion de trajectoire et retournement de clipart</dc:title>
</cp:coreProperties>
</file>