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28B-CE2D-4AF0-8250-0914C1E4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C14-9472-420C-AB72-CE706A21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302-23D0-4380-8BAF-8C52095B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204-CD2F-43BD-90CA-6D4B46FF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405-98DE-4FE8-9558-083549B1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271-1BF9-427D-91F2-82153974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3D8-372B-4B01-BF9D-35C82F5E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1EA-B93B-4344-8DE3-737A158B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6D8-9ABC-45DE-83BD-288A2E3A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6E1-0229-464A-85E2-41AB42A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8B6-676A-48A1-9DDB-95C1DD2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171-27D5-4909-80E1-459079D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B73-FCD1-4776-8BCB-F276E496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 d’eff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t d’emphase agrandir/rétréc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’image en cliquant dess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Diaporama / Personnaliser l’anim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e volet Office qui apparaît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Ajouter un effet 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sur « emphase 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sur «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randir et rétréc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 il n’est pas dans la liste des effets d’em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nièrement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autres effets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le chercher dans les effets «de base »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ppliquer l’eff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67640" y="44280"/>
            <a:ext cx="719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956720" y="260280"/>
            <a:ext cx="1105920" cy="1285920"/>
            <a:chOff x="7956720" y="260280"/>
            <a:chExt cx="1105920" cy="1285920"/>
          </a:xfrm>
        </p:grpSpPr>
        <p:sp>
          <p:nvSpPr>
            <p:cNvPr id="83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380360" y="46080"/>
            <a:ext cx="1474560" cy="10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4319640" cy="4319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135160" y="836640"/>
            <a:ext cx="7331040" cy="8071200"/>
            <a:chOff x="2135160" y="836640"/>
            <a:chExt cx="7331040" cy="8071200"/>
          </a:xfrm>
        </p:grpSpPr>
        <p:sp>
          <p:nvSpPr>
            <p:cNvPr id="88" name=""/>
            <p:cNvSpPr/>
            <p:nvPr/>
          </p:nvSpPr>
          <p:spPr>
            <a:xfrm>
              <a:off x="2135160" y="836640"/>
              <a:ext cx="5329800" cy="5330880"/>
            </a:xfrm>
            <a:prstGeom prst="ellipse">
              <a:avLst/>
            </a:prstGeom>
            <a:noFill/>
            <a:ln w="38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8504400">
              <a:off x="7618680" y="5161320"/>
              <a:ext cx="697680" cy="3954960"/>
            </a:xfrm>
            <a:custGeom>
              <a:avLst/>
              <a:gdLst>
                <a:gd name="textAreaLeft" fmla="*/ 153360 w 697680"/>
                <a:gd name="textAreaRight" fmla="*/ 544320 w 697680"/>
                <a:gd name="textAreaTop" fmla="*/ 869760 h 3954960"/>
                <a:gd name="textAreaBottom" fmla="*/ 3085200 h 39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Les options de l’eff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32000" y="2852280"/>
            <a:ext cx="4032360" cy="30574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aille et la vite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’eff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t direc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is le volet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060640"/>
            <a:ext cx="1800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71130" t="0" r="0" b="5366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796000" cy="6858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a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545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eut agrandir 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gr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nor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alis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ttre plus de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eut rétrécir e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pet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cu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alis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ttre moins de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eut aussi uniqu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arg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and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c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a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cochant : vertical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horizont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2060640"/>
            <a:ext cx="158436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71209" t="0" r="0" b="5635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ite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hoix à portée de 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rçu automa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 coché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ès que l’on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te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u un autre paramètr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isualise l’eff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a dia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5796000" cy="6858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3500280"/>
            <a:ext cx="1944720" cy="262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2205000"/>
            <a:ext cx="241128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71288" t="0" r="0" b="5879"/>
          <a:stretch/>
        </p:blipFill>
        <p:spPr>
          <a:xfrm>
            <a:off x="5796000" y="0"/>
            <a:ext cx="3348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51440" y="2421000"/>
            <a:ext cx="3257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1288" t="0" r="0" b="5883"/>
          <a:stretch/>
        </p:blipFill>
        <p:spPr>
          <a:xfrm>
            <a:off x="5796000" y="144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 fenêtre p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que eff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5338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est accessibl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liqu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fois rapid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a ligne qui représ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ffet dans le volet Offi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liquant s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Options d’effet...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« Minutage…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5796000" cy="6858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3284640"/>
            <a:ext cx="1368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20000" y="2421000"/>
            <a:ext cx="289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 Effet 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Options d’effet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2276640"/>
            <a:ext cx="79236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 Effet 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Options d’effet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708280"/>
            <a:ext cx="3168720" cy="28814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l’on retro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déroul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a tail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d’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2781360"/>
            <a:ext cx="1657440" cy="187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 Minutage 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Minutage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2133720"/>
            <a:ext cx="936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 Minutage 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Minutage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2708280"/>
            <a:ext cx="3168720" cy="28814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l’on retro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déroul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a vites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d’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2997360"/>
            <a:ext cx="1584360" cy="93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une loupe à partir des formes auto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un effet grossissant à la loupe en grossissant la c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dre connaissance des options d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t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avez les clefs en m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vous de jouer avec les différentes options, d’essayer différents paramètres afin de trouver ce qui correspond le mieux à l’effet de grossissement voul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35280" y="804960"/>
            <a:ext cx="7331040" cy="8071200"/>
            <a:chOff x="1835280" y="804960"/>
            <a:chExt cx="7331040" cy="8071200"/>
          </a:xfrm>
        </p:grpSpPr>
        <p:sp>
          <p:nvSpPr>
            <p:cNvPr id="47" name=""/>
            <p:cNvSpPr/>
            <p:nvPr/>
          </p:nvSpPr>
          <p:spPr>
            <a:xfrm>
              <a:off x="1835280" y="804960"/>
              <a:ext cx="5329440" cy="5330880"/>
            </a:xfrm>
            <a:prstGeom prst="ellipse">
              <a:avLst/>
            </a:prstGeom>
            <a:noFill/>
            <a:ln w="38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8504400">
              <a:off x="7318800" y="5129640"/>
              <a:ext cx="697680" cy="3954960"/>
            </a:xfrm>
            <a:custGeom>
              <a:avLst/>
              <a:gdLst>
                <a:gd name="textAreaLeft" fmla="*/ 153360 w 697680"/>
                <a:gd name="textAreaRight" fmla="*/ 544320 w 697680"/>
                <a:gd name="textAreaTop" fmla="*/ 869760 h 3954960"/>
                <a:gd name="textAreaBottom" fmla="*/ 3085200 h 39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m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la lo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e un c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e un ma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r les d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re une image en arrière-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érer l’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ttre en arrière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un effet grossissant à l’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er avec les options d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Affichage / barres d’outils Dessi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l’ellipse 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uyer (continuellement) sur la t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inuscules » avec la main gauch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quelque part sur la diapos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tirer jusqu’à faire un grand cer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âcher t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 le cercle n’est pas réussi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ux fois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être Format de la forme automatique / onglet Tai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crire la même ta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a hauteur que pour la larg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) Faire un ce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380360" y="46080"/>
            <a:ext cx="1474560" cy="1077840"/>
            <a:chOff x="7380360" y="46080"/>
            <a:chExt cx="1474560" cy="1077840"/>
          </a:xfrm>
        </p:grpSpPr>
        <p:sp>
          <p:nvSpPr>
            <p:cNvPr id="54" name=""/>
            <p:cNvSpPr/>
            <p:nvPr/>
          </p:nvSpPr>
          <p:spPr>
            <a:xfrm>
              <a:off x="7958160" y="274680"/>
              <a:ext cx="719280" cy="7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80360" y="46080"/>
              <a:ext cx="147456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ux fois rapidement sur l’obj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Format de la forme automatique / ong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eurs et trai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crire couleur du remplissag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aucun remplissage 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crire épaisseur du trai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30 pt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 : l’astuce « de la touche minuscules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ut pour toutes les for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 : faire un carré à partir de la forme auto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tan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ite Faire un ce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380360" y="46080"/>
            <a:ext cx="1474560" cy="1077840"/>
            <a:chOff x="7380360" y="46080"/>
            <a:chExt cx="1474560" cy="1077840"/>
          </a:xfrm>
        </p:grpSpPr>
        <p:sp>
          <p:nvSpPr>
            <p:cNvPr id="59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80360" y="46080"/>
              <a:ext cx="147456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b) Faire un m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7680"/>
            <a:ext cx="89647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outils Dessin / Formes automatique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s de b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sir le trapèz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la diap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étirer avec la souris pour obtenir un man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rapidement deux fois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a fenêtre Format de la forme automati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e Remplissage, face à Coule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ans le déroulant sur l’échantillon de la couleur n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âce à la poignée de ro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urner le trapèze et ajuster-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e déplaçant pour faire une manche à la lou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46080"/>
            <a:ext cx="1682280" cy="1500120"/>
            <a:chOff x="7380360" y="46080"/>
            <a:chExt cx="1682280" cy="1500120"/>
          </a:xfrm>
        </p:grpSpPr>
        <p:sp>
          <p:nvSpPr>
            <p:cNvPr id="64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80360" y="46080"/>
              <a:ext cx="147456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) Grouper les d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97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es deux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une for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uyer sur Ctrl (contro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appuyer sur l’autre 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r les deux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outils Dess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Dessin 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sur « Grouper » dans le défil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us pouvez déplacer les deux objets ensem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disposer ce groupe d’objets dans la dia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956720" y="260280"/>
            <a:ext cx="1105920" cy="1285920"/>
            <a:chOff x="7956720" y="260280"/>
            <a:chExt cx="1105920" cy="1285920"/>
          </a:xfrm>
        </p:grpSpPr>
        <p:sp>
          <p:nvSpPr>
            <p:cNvPr id="69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380360" y="46080"/>
            <a:ext cx="1474560" cy="10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ne im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arrière-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Insertion / Image / A partir du fichi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érer une im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ux fois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être Format de l’image / onglet Tail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érifier dans le paragraphe Ech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ase « proportionnelle » soit coch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irer l’image par les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la déplacer pour qu’elle pre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ace de la dia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roit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re à Ord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cliquer sur « mettre en arrière-pla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46080"/>
            <a:ext cx="93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956720" y="260280"/>
            <a:ext cx="1105920" cy="1285920"/>
            <a:chOff x="7956720" y="260280"/>
            <a:chExt cx="1105920" cy="1285920"/>
          </a:xfrm>
        </p:grpSpPr>
        <p:sp>
          <p:nvSpPr>
            <p:cNvPr id="76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380360" y="46080"/>
            <a:ext cx="1474560" cy="10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5:18:17Z</dcterms:created>
  <dc:creator>Tribouillier</dc:creator>
  <dc:description/>
  <dc:language>en-US</dc:language>
  <cp:lastModifiedBy>Tribouillier</cp:lastModifiedBy>
  <dcterms:modified xsi:type="dcterms:W3CDTF">2008-02-04T07:34:27Z</dcterms:modified>
  <cp:revision>24</cp:revision>
  <dc:subject/>
  <dc:title>Options effet</dc:title>
</cp:coreProperties>
</file>