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CCC-9125-4A0E-B378-328E03D2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009-5FE6-46F9-8A31-96DD357A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849-8232-440E-9569-67035944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F2E-695F-43E5-8816-CB43A50D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621-8B72-4C84-8C50-32F48BB4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F7C-1489-4227-953A-3FF78C5E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F89-9CEE-4755-AAE1-1DC88BB5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5F0-8F5F-4FD1-9648-9AF34D4D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84B-F1BE-4075-8A57-8F09E352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2EC-9E87-45E2-84C4-1C4FA73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5D6-A737-4F2E-A579-3E52A30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0EF-902A-4937-A587-299EF771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ECE9-960F-48BD-8E89-ACB9BA872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 d’eff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t d’emphase agrandir/rétréc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l’image en cliquant dess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Diaporama / Personnaliser l’anim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le volet Office qui apparaît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Ajouter un effet 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sur « emphase 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sur «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grandir et rétréc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 il n’est pas dans la liste des effets d’emp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nièrement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autres effets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le chercher dans les effets «de base »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ppliquer l’eff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67640" y="44280"/>
            <a:ext cx="719280" cy="7192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7956720" y="260280"/>
            <a:ext cx="1105920" cy="1285920"/>
            <a:chOff x="7956720" y="260280"/>
            <a:chExt cx="1105920" cy="1285920"/>
          </a:xfrm>
        </p:grpSpPr>
        <p:sp>
          <p:nvSpPr>
            <p:cNvPr id="83" name=""/>
            <p:cNvSpPr/>
            <p:nvPr/>
          </p:nvSpPr>
          <p:spPr>
            <a:xfrm>
              <a:off x="7956720" y="260280"/>
              <a:ext cx="720720" cy="72072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504400">
              <a:off x="8729640" y="869760"/>
              <a:ext cx="125280" cy="714240"/>
            </a:xfrm>
            <a:custGeom>
              <a:avLst/>
              <a:gdLst>
                <a:gd name="textAreaLeft" fmla="*/ 27360 w 125280"/>
                <a:gd name="textAreaRight" fmla="*/ 97920 w 125280"/>
                <a:gd name="textAreaTop" fmla="*/ 156960 h 714240"/>
                <a:gd name="textAreaBottom" fmla="*/ 5572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380360" y="46080"/>
            <a:ext cx="1474560" cy="10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44280"/>
            <a:ext cx="4319640" cy="4319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135160" y="836640"/>
            <a:ext cx="7331040" cy="8071200"/>
            <a:chOff x="2135160" y="836640"/>
            <a:chExt cx="7331040" cy="8071200"/>
          </a:xfrm>
        </p:grpSpPr>
        <p:sp>
          <p:nvSpPr>
            <p:cNvPr id="88" name=""/>
            <p:cNvSpPr/>
            <p:nvPr/>
          </p:nvSpPr>
          <p:spPr>
            <a:xfrm>
              <a:off x="2135160" y="836640"/>
              <a:ext cx="5329800" cy="5330880"/>
            </a:xfrm>
            <a:prstGeom prst="ellipse">
              <a:avLst/>
            </a:prstGeom>
            <a:noFill/>
            <a:ln w="38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8504400">
              <a:off x="7618680" y="5161320"/>
              <a:ext cx="697680" cy="3954960"/>
            </a:xfrm>
            <a:custGeom>
              <a:avLst/>
              <a:gdLst>
                <a:gd name="textAreaLeft" fmla="*/ 153360 w 697680"/>
                <a:gd name="textAreaRight" fmla="*/ 544320 w 697680"/>
                <a:gd name="textAreaTop" fmla="*/ 869760 h 3954960"/>
                <a:gd name="textAreaBottom" fmla="*/ 3085200 h 39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Les options de l’eff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32000" y="2852280"/>
            <a:ext cx="4032360" cy="30574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aille et la vite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l’eff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t direc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is le volet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060640"/>
            <a:ext cx="1800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71130" t="0" r="0" b="5366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5796000" cy="6858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a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5545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peut agrandir 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gr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nor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alis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ttre plus de 10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peut rétrécir e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pet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cu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alis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ttre moins de 10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peut aussi uniqu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arg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and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ci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a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cochant : vertical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horizont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2060640"/>
            <a:ext cx="158436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71209" t="0" r="0" b="5635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ite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hoix à portée de 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rçu automat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 coché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ès que l’on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ite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u un autre paramètre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visualise l’eff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la dia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5796000" cy="6858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3500280"/>
            <a:ext cx="1944720" cy="262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2205000"/>
            <a:ext cx="241128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71288" t="0" r="0" b="5879"/>
          <a:stretch/>
        </p:blipFill>
        <p:spPr>
          <a:xfrm>
            <a:off x="5796000" y="0"/>
            <a:ext cx="3348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851440" y="2421000"/>
            <a:ext cx="3257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71288" t="0" r="0" b="5883"/>
          <a:stretch/>
        </p:blipFill>
        <p:spPr>
          <a:xfrm>
            <a:off x="5796000" y="144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e fenêtre p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que eff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5338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est accessibl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liqu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fois rapid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la ligne qui représ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ffet dans le volet Offi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liquant s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Options d’effet... 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 « Minutage…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5796000" cy="6858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3284640"/>
            <a:ext cx="1368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20000" y="2421000"/>
            <a:ext cx="289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let « Effet »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 « Options d’effet…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2276640"/>
            <a:ext cx="79236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let « Effet »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 « Options d’effet…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2708280"/>
            <a:ext cx="3168720" cy="28814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l’on retro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déroul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la tail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d’au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2781360"/>
            <a:ext cx="1657440" cy="187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let « Minutage »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 « Minutage…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2133720"/>
            <a:ext cx="936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1578" t="0" r="0" b="5879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let « Minutage »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 « Minutage…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2708280"/>
            <a:ext cx="3168720" cy="28814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l’on retro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déroul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la vites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d’au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2997360"/>
            <a:ext cx="1584360" cy="93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er une loupe à partir des formes automa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un effet grossissant à la loupe en grossissant la c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dre connaissance des options d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t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s avez les clefs en m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vous de jouer avec les différentes options, d’essayer différents paramètres afin de trouver ce qui correspond le mieux à l’effet de grossissement voul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35280" y="804960"/>
            <a:ext cx="7331040" cy="8071200"/>
            <a:chOff x="1835280" y="804960"/>
            <a:chExt cx="7331040" cy="8071200"/>
          </a:xfrm>
        </p:grpSpPr>
        <p:sp>
          <p:nvSpPr>
            <p:cNvPr id="47" name=""/>
            <p:cNvSpPr/>
            <p:nvPr/>
          </p:nvSpPr>
          <p:spPr>
            <a:xfrm>
              <a:off x="1835280" y="804960"/>
              <a:ext cx="5329440" cy="5330880"/>
            </a:xfrm>
            <a:prstGeom prst="ellipse">
              <a:avLst/>
            </a:prstGeom>
            <a:noFill/>
            <a:ln w="38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8504400">
              <a:off x="7318800" y="5129640"/>
              <a:ext cx="697680" cy="3954960"/>
            </a:xfrm>
            <a:custGeom>
              <a:avLst/>
              <a:gdLst>
                <a:gd name="textAreaLeft" fmla="*/ 153360 w 697680"/>
                <a:gd name="textAreaRight" fmla="*/ 544320 w 697680"/>
                <a:gd name="textAreaTop" fmla="*/ 869760 h 3954960"/>
                <a:gd name="textAreaBottom" fmla="*/ 3085200 h 395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m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er la lo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e un ce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e un ma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r les d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re une image en arrière-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érer l’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ettre en arrière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quer un effet grossissant à l’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er avec les options d’eff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 Affichage / barres d’outils Dessi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l’ellipse 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uyer (continuellement) sur la to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inuscules » avec la main gauch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quelque part sur la diaposi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tirer jusqu’à faire un grand cerc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âcher t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 le cercle n’est pas réussi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eux fois des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être Format de la forme automatique / onglet Tai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crire la même tai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a hauteur que pour la larg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a) Faire un ce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380360" y="46080"/>
            <a:ext cx="1474560" cy="1077840"/>
            <a:chOff x="7380360" y="46080"/>
            <a:chExt cx="1474560" cy="1077840"/>
          </a:xfrm>
        </p:grpSpPr>
        <p:sp>
          <p:nvSpPr>
            <p:cNvPr id="54" name=""/>
            <p:cNvSpPr/>
            <p:nvPr/>
          </p:nvSpPr>
          <p:spPr>
            <a:xfrm>
              <a:off x="7958160" y="274680"/>
              <a:ext cx="719280" cy="7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80360" y="46080"/>
              <a:ext cx="1474560" cy="10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eux fois rapidement sur l’obj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Format de la forme automatique / ong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eurs et trai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crire couleur du remplissag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aucun remplissage 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crire épaisseur du trai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30 pt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 : l’astuce « de la touche minuscules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ut pour toutes les for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x : faire un carré à partir de la forme auto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tan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ite Faire un ce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380360" y="46080"/>
            <a:ext cx="1474560" cy="1077840"/>
            <a:chOff x="7380360" y="46080"/>
            <a:chExt cx="1474560" cy="1077840"/>
          </a:xfrm>
        </p:grpSpPr>
        <p:sp>
          <p:nvSpPr>
            <p:cNvPr id="59" name=""/>
            <p:cNvSpPr/>
            <p:nvPr/>
          </p:nvSpPr>
          <p:spPr>
            <a:xfrm>
              <a:off x="7956720" y="260280"/>
              <a:ext cx="720720" cy="72072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80360" y="46080"/>
              <a:ext cx="1474560" cy="10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b) Faire un man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7680"/>
            <a:ext cx="89647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’outils Dessin / Formes automatique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s de b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sir le trapèz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la diap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étirer avec la souris pour obtenir un man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rapidement deux fois des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a fenêtre Format de la forme automatiq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graphe Remplissage, face à Coule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ans le déroulant sur l’échantillon de la couleur no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âce à la poignée de ro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urner le trapèze et ajuster-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e déplaçant pour faire une manche à la lou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380360" y="46080"/>
            <a:ext cx="1682280" cy="1500120"/>
            <a:chOff x="7380360" y="46080"/>
            <a:chExt cx="1682280" cy="1500120"/>
          </a:xfrm>
        </p:grpSpPr>
        <p:sp>
          <p:nvSpPr>
            <p:cNvPr id="64" name=""/>
            <p:cNvSpPr/>
            <p:nvPr/>
          </p:nvSpPr>
          <p:spPr>
            <a:xfrm rot="8504400">
              <a:off x="8729640" y="869760"/>
              <a:ext cx="125280" cy="714240"/>
            </a:xfrm>
            <a:custGeom>
              <a:avLst/>
              <a:gdLst>
                <a:gd name="textAreaLeft" fmla="*/ 27360 w 125280"/>
                <a:gd name="textAreaRight" fmla="*/ 97920 w 125280"/>
                <a:gd name="textAreaTop" fmla="*/ 156960 h 714240"/>
                <a:gd name="textAreaBottom" fmla="*/ 5572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80360" y="46080"/>
              <a:ext cx="1474560" cy="10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) Grouper les d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97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ner les deux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une for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uyer sur Ctrl (control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appuyer sur l’autre fo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r les deux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 d’outils Dess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sur « Dessin 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sur « Grouper » dans le défil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us pouvez déplacer les deux objets ensem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disposer ce groupe d’objets dans la dia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956720" y="260280"/>
            <a:ext cx="1105920" cy="1285920"/>
            <a:chOff x="7956720" y="260280"/>
            <a:chExt cx="1105920" cy="1285920"/>
          </a:xfrm>
        </p:grpSpPr>
        <p:sp>
          <p:nvSpPr>
            <p:cNvPr id="69" name=""/>
            <p:cNvSpPr/>
            <p:nvPr/>
          </p:nvSpPr>
          <p:spPr>
            <a:xfrm>
              <a:off x="7956720" y="260280"/>
              <a:ext cx="720720" cy="72072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504400">
              <a:off x="8729640" y="869760"/>
              <a:ext cx="125280" cy="714240"/>
            </a:xfrm>
            <a:custGeom>
              <a:avLst/>
              <a:gdLst>
                <a:gd name="textAreaLeft" fmla="*/ 27360 w 125280"/>
                <a:gd name="textAreaRight" fmla="*/ 97920 w 125280"/>
                <a:gd name="textAreaTop" fmla="*/ 156960 h 714240"/>
                <a:gd name="textAreaBottom" fmla="*/ 5572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380360" y="46080"/>
            <a:ext cx="1474560" cy="10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Une im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arrière-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 Insertion / Image / A partir du fichi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érer une im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eux fois des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être Format de l’image / onglet Tail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érifier dans le paragraphe Ech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la case « proportionnelle » soit coch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irer l’image par les c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la déplacer pour qu’elle pre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ace de la dia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r droit des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re à Ord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cliquer sur « mettre en arrière-pla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24720" y="46080"/>
            <a:ext cx="934920" cy="93492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7956720" y="260280"/>
            <a:ext cx="1105920" cy="1285920"/>
            <a:chOff x="7956720" y="260280"/>
            <a:chExt cx="1105920" cy="1285920"/>
          </a:xfrm>
        </p:grpSpPr>
        <p:sp>
          <p:nvSpPr>
            <p:cNvPr id="76" name=""/>
            <p:cNvSpPr/>
            <p:nvPr/>
          </p:nvSpPr>
          <p:spPr>
            <a:xfrm>
              <a:off x="7956720" y="260280"/>
              <a:ext cx="720720" cy="72072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8504400">
              <a:off x="8729640" y="869760"/>
              <a:ext cx="125280" cy="714240"/>
            </a:xfrm>
            <a:custGeom>
              <a:avLst/>
              <a:gdLst>
                <a:gd name="textAreaLeft" fmla="*/ 27360 w 125280"/>
                <a:gd name="textAreaRight" fmla="*/ 97920 w 125280"/>
                <a:gd name="textAreaTop" fmla="*/ 156960 h 714240"/>
                <a:gd name="textAreaBottom" fmla="*/ 5572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380360" y="46080"/>
            <a:ext cx="1474560" cy="10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5:18:17Z</dcterms:created>
  <dc:creator>Tribouillier</dc:creator>
  <dc:description/>
  <dc:language>en-US</dc:language>
  <cp:lastModifiedBy>Tribouillier</cp:lastModifiedBy>
  <dcterms:modified xsi:type="dcterms:W3CDTF">2008-02-04T07:34:27Z</dcterms:modified>
  <cp:revision>24</cp:revision>
  <dc:subject/>
  <dc:title>Options effet</dc:title>
</cp:coreProperties>
</file>