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BFA-BD08-4345-9F5E-A5E6BA01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469-D018-402A-8888-B6D31D9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092-44C3-4E37-9DC7-C646D143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56D-2210-4ED5-B3BF-8EC29CF1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443-3FDD-42C4-B481-9024DD3E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A7C-A44B-4E1D-A84A-DF32E8E8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090-D800-47A2-8B13-F35835F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5A5-4F97-4E25-B4DC-EC731CF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71A-AFD0-4716-9C71-9ADC10E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B12-5DC3-47F9-83AC-E159AA15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CFD-7E58-4F21-8269-464E1A38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9AA-F43D-4F5A-ABBA-BA2DC14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47BE-31C0-4E2B-A0B2-D29405C8E4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1706400" cy="34448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851280" y="1484280"/>
            <a:ext cx="4463640" cy="4823640"/>
            <a:chOff x="3851280" y="1484280"/>
            <a:chExt cx="4463640" cy="4823640"/>
          </a:xfrm>
        </p:grpSpPr>
        <p:sp>
          <p:nvSpPr>
            <p:cNvPr id="43" name=""/>
            <p:cNvSpPr/>
            <p:nvPr/>
          </p:nvSpPr>
          <p:spPr>
            <a:xfrm>
              <a:off x="3851280" y="2834640"/>
              <a:ext cx="4463640" cy="347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1280" y="1484280"/>
              <a:ext cx="4463640" cy="1350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6:05:41Z</dcterms:created>
  <dc:creator>Tribouillier</dc:creator>
  <dc:description/>
  <dc:language>en-US</dc:language>
  <cp:lastModifiedBy>Tribouillier</cp:lastModifiedBy>
  <dcterms:modified xsi:type="dcterms:W3CDTF">2008-02-05T11:40:03Z</dcterms:modified>
  <cp:revision>6</cp:revision>
  <dc:subject/>
  <dc:title>Effet trajectoire</dc:title>
</cp:coreProperties>
</file>