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AF8-A297-40CA-9BA0-0BEFFA5A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797-76FE-42EE-A270-8F89CA26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1B5-A0BB-4240-9116-FCF24737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FC7-5349-48AA-B48D-6B6B504E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E25-E8AE-4108-9400-740A1020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161-ECA7-4A85-A128-04C46D45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3DE-D102-45D6-9831-DB6FD889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C5D-FAB5-4113-8AA6-A3DAAE2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ACE-E056-4A50-80D3-B2E56BD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E96-E5E1-4DC4-8FE8-8F0A5490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42F-C5EE-4112-81D9-C513B9B2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552-053A-4FF4-81A8-41783F5F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BE94-3516-4F60-B596-EA25032BB63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1706400" cy="34448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851280" y="1484280"/>
            <a:ext cx="4463640" cy="4823640"/>
            <a:chOff x="3851280" y="1484280"/>
            <a:chExt cx="4463640" cy="4823640"/>
          </a:xfrm>
        </p:grpSpPr>
        <p:sp>
          <p:nvSpPr>
            <p:cNvPr id="43" name=""/>
            <p:cNvSpPr/>
            <p:nvPr/>
          </p:nvSpPr>
          <p:spPr>
            <a:xfrm>
              <a:off x="3851280" y="2834640"/>
              <a:ext cx="4463640" cy="347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1280" y="1484280"/>
              <a:ext cx="4463640" cy="1350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6:05:41Z</dcterms:created>
  <dc:creator>Tribouillier</dc:creator>
  <dc:description/>
  <dc:language>en-US</dc:language>
  <cp:lastModifiedBy>Tribouillier</cp:lastModifiedBy>
  <dcterms:modified xsi:type="dcterms:W3CDTF">2008-02-05T11:40:03Z</dcterms:modified>
  <cp:revision>6</cp:revision>
  <dc:subject/>
  <dc:title>Effet trajectoire</dc:title>
</cp:coreProperties>
</file>