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DCB-967E-4887-A431-A983C973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EAC-A7AA-4642-90C9-A2BD7D52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393-3BA9-4402-BE40-E2BCC9BB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D03-CF10-4A9C-9B12-7C355F17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5E7-E2D7-45BF-A291-8C0E30AB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77C-9A5D-428D-ACAB-F7E3F42A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5C9-A0B6-49D5-B68E-0AED263D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C57-F2F6-4C05-8088-B7B9FAAF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AED-4C9E-4F9A-9721-FB5A1D03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529-6C0D-463B-92D2-D6EA0A41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16A-08B2-4125-9003-42201131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8AC-0B11-4EDD-B799-C7DF9C7A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1382-02F0-44EA-B555-7A90A08E9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objets aux eff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1080" y="3455640"/>
            <a:ext cx="81342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 observer et trouver ce qui ne va 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 agir su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mètre pour que ça a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l n’y a qu’une et une seule chose qui ne va pas sur chacune des diaposi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695760" cy="4724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0800000">
            <a:off x="4710240" y="-360"/>
            <a:ext cx="443376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2066 0.17662 E">
                                      <p:cBhvr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ignée (verte) de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2917800" cy="3452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31080" y="1916280"/>
            <a:ext cx="2917800" cy="3452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183440" y="1557360"/>
            <a:ext cx="3529080" cy="417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-900000" y="1557360"/>
            <a:ext cx="3529080" cy="41767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940200" y="1557360"/>
            <a:ext cx="2755800" cy="3811680"/>
            <a:chOff x="3940200" y="1557360"/>
            <a:chExt cx="2755800" cy="3811680"/>
          </a:xfrm>
        </p:grpSpPr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3940200" y="3422520"/>
              <a:ext cx="1263600" cy="19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716360" y="1557360"/>
              <a:ext cx="1979640" cy="158436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njour 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aille de l’effet rétrécir/agran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1747800" cy="1830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82520"/>
            <a:ext cx="4356360" cy="465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0.08009 C -0.02465 0.12407 0.04167 0.16018 0.12257 0.16018 C 0.21806 0.16018 0.25243 0.12014 0.26702 0.09606 L 0.28195 0.06412 C 0.29671 0.04004 0.33334 1.48148E-006 0.44115 1.48148E-006 C 0.51007 1.48148E-006 0.58855 0.03611 0.58855 0.08009 C 0.58855 0.12407 0.51007 0.16018 0.44115 0.16018 C 0.33334 0.16018 0.29671 0.12014 0.28195 0.09606 L 0.26702 0.06412 C 0.25243 0.04004 0.21806 1.48148E-006 0.12257 1.48148E-006 C 0.04167 1.48148E-006 -0.02465 0.03611 -0.02465 0.08009 Z">
                                      <p:cBhvr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 droit, Or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95760" y="1415880"/>
            <a:ext cx="4468680" cy="344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2280" y="2133720"/>
            <a:ext cx="1955520" cy="151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586560" y="63360"/>
            <a:ext cx="1508040" cy="207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92280" y="3646440"/>
            <a:ext cx="225252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0.07934 0.22963 E">
                                      <p:cBhvr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03716 0.04213 E">
                                      <p:cBhvr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ouche « Sup » pour supprimer l’int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5449680" cy="3306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4200" y="192240"/>
            <a:ext cx="7521480" cy="527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-304920" y="1026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imensionner un objet en le gardant proportionnel grâce à la touche « Minuscules 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8:12:49Z</dcterms:created>
  <dc:creator>Tribouillier</dc:creator>
  <dc:description/>
  <dc:language>en-US</dc:language>
  <cp:lastModifiedBy>Tribouillier</cp:lastModifiedBy>
  <dcterms:modified xsi:type="dcterms:W3CDTF">2008-02-21T17:37:24Z</dcterms:modified>
  <cp:revision>7</cp:revision>
  <dc:subject/>
  <dc:title>mini-test série</dc:title>
</cp:coreProperties>
</file>