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532-FD58-4D5F-952F-2551529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D88-ACCB-403B-849E-FF751CC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D65-B4AE-4716-88A5-5D39A169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2D0-E74B-41E8-B5FA-59CAF254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E39-B59A-438E-8B54-CBEF33F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4A8-862E-47D0-9F81-73DB75A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2BB-D23A-4A30-AAF0-6F4F111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8DE-CA7F-44E8-BF77-18DBD05F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02B-0293-42F9-99CA-DB5B75FC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3E6-F532-45B8-BB31-83350B7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756-E825-4814-A90F-55AD06E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42C-9F01-44B1-A0E7-EEB2FE7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7264-D9F5-427B-9E34-6919E29A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objets aux eff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80" y="3455640"/>
            <a:ext cx="81342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 observer et trouver ce qui ne va 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 agir s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ètre pour que ça a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l n’y a qu’une et une seule chose qui ne va pas sur chacune des diaposi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695760" cy="472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800000">
            <a:off x="4710240" y="-360"/>
            <a:ext cx="4433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2066 0.17662 E">
                                      <p:cBhvr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ignée (verte) de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917800" cy="345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31080" y="1916280"/>
            <a:ext cx="2917800" cy="34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83440" y="155736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900000" y="1557360"/>
            <a:ext cx="3529080" cy="4176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40200" y="1557360"/>
            <a:ext cx="2755800" cy="3811680"/>
            <a:chOff x="3940200" y="1557360"/>
            <a:chExt cx="2755800" cy="381168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940200" y="3422520"/>
              <a:ext cx="126360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716360" y="1557360"/>
              <a:ext cx="1979640" cy="158436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njour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aille de l’effet rétrécir/agra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1747800" cy="183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82520"/>
            <a:ext cx="4356360" cy="465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0.08009 C -0.02465 0.12407 0.04167 0.16018 0.12257 0.16018 C 0.21806 0.16018 0.25243 0.12014 0.26702 0.09606 L 0.28195 0.06412 C 0.29671 0.04004 0.33334 1.48148E-006 0.44115 1.48148E-006 C 0.51007 1.48148E-006 0.58855 0.03611 0.58855 0.08009 C 0.58855 0.12407 0.51007 0.16018 0.44115 0.16018 C 0.33334 0.16018 0.29671 0.12014 0.28195 0.09606 L 0.26702 0.06412 C 0.25243 0.04004 0.21806 1.48148E-006 0.12257 1.48148E-006 C 0.04167 1.48148E-006 -0.02465 0.03611 -0.02465 0.08009 Z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 droit, Or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5760" y="1415880"/>
            <a:ext cx="4468680" cy="344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280" y="2133720"/>
            <a:ext cx="195552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586560" y="63360"/>
            <a:ext cx="1508040" cy="207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92280" y="3646440"/>
            <a:ext cx="225252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934 0.22963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3716 0.04213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ouche « Sup » pour supprimer l’int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5449680" cy="3306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4200" y="192240"/>
            <a:ext cx="7521480" cy="527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304920" y="1026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mensionner un objet en le gardant proportionnel grâce à la touche « Minuscules 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8:12:49Z</dcterms:created>
  <dc:creator>Tribouillier</dc:creator>
  <dc:description/>
  <dc:language>en-US</dc:language>
  <cp:lastModifiedBy>Tribouillier</cp:lastModifiedBy>
  <dcterms:modified xsi:type="dcterms:W3CDTF">2008-02-21T17:37:24Z</dcterms:modified>
  <cp:revision>7</cp:revision>
  <dc:subject/>
  <dc:title>mini-test série</dc:title>
</cp:coreProperties>
</file>