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6B3-4E09-488F-9C6D-998FC2C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5B2-3886-4D1B-B107-4FC03B37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493-2EF3-4777-8454-70615BF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090-DA50-4EC6-94E5-2BA840A8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43A-9D88-411C-9FDF-1290AAD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8C4-96CD-441E-9818-773F27F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664-5AA2-4802-8713-082D341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6AB-7667-407F-A56A-A15C5A37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2BB-B161-4CA5-97D0-4C4CA34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C89-578C-4678-B56B-C75C6A4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6D2-81A3-4483-80D7-46B08FE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750-ED8E-4E94-BB6C-262678D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C47-0C4C-4B0A-964D-BF4EA06F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et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est la différence entre les 2 diapositiv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989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ponse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072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diapositive A qui se découvre avec une transition dite « Volet vertical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 se découvre en même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dans la diapositive B, l’effet « balayer » est appliqué au trait en pointill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l le trait se découvre de gauche à dro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re grande diffé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transition est une programmation automat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: on ne peut pas ici changer le nombre de volets verticaux ou leur s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les options de l’effet, on peut changer les paramètres de l’eff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: ici le sens comme décrit page sui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2060640"/>
            <a:ext cx="1584360" cy="1081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une se découvr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 trans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laquelle ?</a:t>
            </a: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’autre, la ligne en pointillés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effet d’ouver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laquell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deuxième vision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30:06Z</dcterms:created>
  <dc:creator>Tribouillier</dc:creator>
  <dc:description/>
  <dc:language>en-US</dc:language>
  <cp:lastModifiedBy>Tribouillier</cp:lastModifiedBy>
  <dcterms:modified xsi:type="dcterms:W3CDTF">2008-02-05T16:03:52Z</dcterms:modified>
  <cp:revision>10</cp:revision>
  <dc:subject/>
  <dc:title>Exercice 3 suite 1</dc:title>
</cp:coreProperties>
</file>