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30F-96EE-41C1-9FE9-BFEDA9C3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D24-B24B-48A3-8FA2-5DF77C29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804-2978-474C-B9B5-C00BA39E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CA5-6CF1-4ABD-971A-5871334A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85A-0392-44A7-BEE1-156ABCAD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E02-5BB7-4BAD-BB6D-94A0FFF0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691-FF57-40C7-90C8-3634FE15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772-BA6F-4E55-A245-06D3D424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9AF-3534-4D7D-A0EA-07A1BF02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D29-E9F1-4D34-BE66-F23E5361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057-FF5F-4995-A62F-E86981EF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F6B-19FC-4715-88E1-B78E534A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6CDD-9426-458E-8723-9F2218B44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 et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est la différence entre les 2 diapositiv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9898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ponses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24000" y="2133720"/>
            <a:ext cx="864072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a diapositive A qui se découvre avec une transition dite « Volet vertical 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t se découvre en même te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dans la diapositive B, l’effet « balayer » est appliqué au trait en pointill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ul le trait se découvre de gauche à dro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re grande différ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transition est une programmation automatiq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 : on ne peut pas ici changer le nombre de volets verticaux ou leur s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 les options de l’effet, on peut changer les paramètres de l’eff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 : ici le sens comme décrit page suiv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21578" t="0" r="0" b="5879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32720" y="2060640"/>
            <a:ext cx="1584360" cy="10810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429000"/>
            <a:ext cx="8497800" cy="0"/>
          </a:xfrm>
          <a:prstGeom prst="line">
            <a:avLst/>
          </a:prstGeom>
          <a:ln cap="rnd" w="101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positive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3429000"/>
            <a:ext cx="8497800" cy="0"/>
          </a:xfrm>
          <a:prstGeom prst="line">
            <a:avLst/>
          </a:prstGeom>
          <a:ln cap="rnd" w="101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positive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’une se découvre pa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e transi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laquelle ?</a:t>
            </a:r>
            <a:br>
              <a:rPr sz="2000"/>
            </a:br>
            <a:br>
              <a:rPr sz="2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ns l’autre, la ligne en pointillés 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 effet d’ouvertu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laquell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deuxième vision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3429000"/>
            <a:ext cx="8497800" cy="0"/>
          </a:xfrm>
          <a:prstGeom prst="line">
            <a:avLst/>
          </a:prstGeom>
          <a:ln cap="rnd" w="101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positive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3429000"/>
            <a:ext cx="8497800" cy="0"/>
          </a:xfrm>
          <a:prstGeom prst="line">
            <a:avLst/>
          </a:prstGeom>
          <a:ln cap="rnd" w="101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positive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30:06Z</dcterms:created>
  <dc:creator>Tribouillier</dc:creator>
  <dc:description/>
  <dc:language>en-US</dc:language>
  <cp:lastModifiedBy>Tribouillier</cp:lastModifiedBy>
  <dcterms:modified xsi:type="dcterms:W3CDTF">2008-02-05T16:03:52Z</dcterms:modified>
  <cp:revision>10</cp:revision>
  <dc:subject/>
  <dc:title>Exercice 3 suite 1</dc:title>
</cp:coreProperties>
</file>