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597-52F2-4310-AA84-40CBDD7D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9A0-B61E-4727-B5C1-63DE8866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D21-5201-4604-A660-DAF94884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6B9-8EFD-4FA1-9B19-C36CBACD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F6F-1B55-41E6-B207-F0452423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A7A-BE41-4158-BE44-1A103982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630-7FDC-4735-A2B5-270F9C3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D52-2548-48FA-95E6-766392A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F5A-43F9-4DA5-A489-886FF7D8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40F-CF90-463D-8159-F254F3A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340-DBA2-474D-B4E3-F5DE5BAC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597-904A-4673-A161-7E68069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1B6A-2A53-41B4-B81E-4E6C4F4E4E3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3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ser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760" y="3500280"/>
            <a:ext cx="2935080" cy="19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13320" y="3500280"/>
            <a:ext cx="237492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46600" y="3500280"/>
            <a:ext cx="201132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isiter les Pyramid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873000"/>
            <a:ext cx="6478560" cy="1619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oir le Sphin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à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900000" y="2924280"/>
            <a:ext cx="7489800" cy="3457440"/>
            <a:chOff x="900000" y="2924280"/>
            <a:chExt cx="7489800" cy="3457440"/>
          </a:xfrm>
        </p:grpSpPr>
        <p:sp>
          <p:nvSpPr>
            <p:cNvPr id="52" name=""/>
            <p:cNvSpPr/>
            <p:nvPr/>
          </p:nvSpPr>
          <p:spPr>
            <a:xfrm>
              <a:off x="900000" y="2924280"/>
              <a:ext cx="7489800" cy="345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3176280" y="3662280"/>
              <a:ext cx="2935440" cy="19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900000" y="2924280"/>
            <a:ext cx="7489800" cy="3457440"/>
            <a:chOff x="900000" y="2924280"/>
            <a:chExt cx="7489800" cy="3457440"/>
          </a:xfrm>
        </p:grpSpPr>
        <p:sp>
          <p:nvSpPr>
            <p:cNvPr id="55" name=""/>
            <p:cNvSpPr/>
            <p:nvPr/>
          </p:nvSpPr>
          <p:spPr>
            <a:xfrm>
              <a:off x="900000" y="2924280"/>
              <a:ext cx="7489800" cy="345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639960" y="3662280"/>
              <a:ext cx="2011320" cy="19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 Egypte, on pe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isiter les Pyramid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cendre le N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4520" y="468360"/>
            <a:ext cx="6478560" cy="1619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voir le Sphin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00000" y="2924280"/>
            <a:ext cx="7489800" cy="3457440"/>
            <a:chOff x="900000" y="2924280"/>
            <a:chExt cx="7489800" cy="3457440"/>
          </a:xfrm>
        </p:grpSpPr>
        <p:sp>
          <p:nvSpPr>
            <p:cNvPr id="62" name=""/>
            <p:cNvSpPr/>
            <p:nvPr/>
          </p:nvSpPr>
          <p:spPr>
            <a:xfrm>
              <a:off x="900000" y="2924280"/>
              <a:ext cx="7489800" cy="345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3457440" y="3662280"/>
              <a:ext cx="2374920" cy="197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7737480" y="669960"/>
            <a:ext cx="11602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6:22:57Z</dcterms:created>
  <dc:creator>Tribouillier</dc:creator>
  <dc:description/>
  <dc:language>en-US</dc:language>
  <cp:lastModifiedBy>Tribouillier</cp:lastModifiedBy>
  <dcterms:modified xsi:type="dcterms:W3CDTF">2008-03-07T09:17:09Z</dcterms:modified>
  <cp:revision>4</cp:revision>
  <dc:subject/>
  <dc:title>Egypte versions 1 et 2</dc:title>
</cp:coreProperties>
</file>