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35C-005B-4AC0-A29C-42679BDB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9C2-8E6A-4CE0-9B25-C49D0CA6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1D3-FA97-496E-AEBD-F898A1E1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DFF-A0A0-4D71-B2E8-7DDF3074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64B-7ACD-48F0-8594-5E15AD2E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EF5-DFC3-4D9F-AE97-BC54DB5B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5CD4-EB34-4B15-A11B-130598D9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C35-F01C-4930-A5A6-A351256A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14B-FA59-4D88-8C4A-D0A29E25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28F-421C-42F0-80F0-273DE8BA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C39-3C6C-4A5C-9394-C5E02AE4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940-9493-4BBE-B3DF-DCFA80C2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E2A9-56D7-4569-877E-CD4905EE283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3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yp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ser d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5760" y="3500280"/>
            <a:ext cx="2935080" cy="197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13320" y="3500280"/>
            <a:ext cx="2374920" cy="1979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46600" y="3500280"/>
            <a:ext cx="2011320" cy="197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58920" y="873000"/>
            <a:ext cx="6478560" cy="161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En Egypte, on pe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873000"/>
            <a:ext cx="6478560" cy="161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visiter les Pyramide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873000"/>
            <a:ext cx="6478560" cy="1619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descendre le N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873000"/>
            <a:ext cx="6478560" cy="1619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voir le Sphin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à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900000" y="2924280"/>
            <a:ext cx="7489800" cy="3457440"/>
            <a:chOff x="900000" y="2924280"/>
            <a:chExt cx="7489800" cy="3457440"/>
          </a:xfrm>
        </p:grpSpPr>
        <p:sp>
          <p:nvSpPr>
            <p:cNvPr id="52" name=""/>
            <p:cNvSpPr/>
            <p:nvPr/>
          </p:nvSpPr>
          <p:spPr>
            <a:xfrm>
              <a:off x="900000" y="2924280"/>
              <a:ext cx="7489800" cy="345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3176280" y="3662280"/>
              <a:ext cx="2935440" cy="19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900000" y="2924280"/>
            <a:ext cx="7489800" cy="3457440"/>
            <a:chOff x="900000" y="2924280"/>
            <a:chExt cx="7489800" cy="3457440"/>
          </a:xfrm>
        </p:grpSpPr>
        <p:sp>
          <p:nvSpPr>
            <p:cNvPr id="55" name=""/>
            <p:cNvSpPr/>
            <p:nvPr/>
          </p:nvSpPr>
          <p:spPr>
            <a:xfrm>
              <a:off x="900000" y="2924280"/>
              <a:ext cx="7489800" cy="345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3639960" y="3662280"/>
              <a:ext cx="2011320" cy="19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614520" y="468360"/>
            <a:ext cx="6478560" cy="1619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En Egypte, on pe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4520" y="468360"/>
            <a:ext cx="6478560" cy="161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visiter les Pyramide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4520" y="468360"/>
            <a:ext cx="6478560" cy="161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descendre le N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4520" y="468360"/>
            <a:ext cx="6478560" cy="1619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voir le Sphin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00000" y="2924280"/>
            <a:ext cx="7489800" cy="3457440"/>
            <a:chOff x="900000" y="2924280"/>
            <a:chExt cx="7489800" cy="3457440"/>
          </a:xfrm>
        </p:grpSpPr>
        <p:sp>
          <p:nvSpPr>
            <p:cNvPr id="62" name=""/>
            <p:cNvSpPr/>
            <p:nvPr/>
          </p:nvSpPr>
          <p:spPr>
            <a:xfrm>
              <a:off x="900000" y="2924280"/>
              <a:ext cx="7489800" cy="345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8"/>
            <a:stretch/>
          </p:blipFill>
          <p:spPr>
            <a:xfrm>
              <a:off x="3457440" y="3662280"/>
              <a:ext cx="2374920" cy="197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7737480" y="669960"/>
            <a:ext cx="1160280" cy="12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6:22:57Z</dcterms:created>
  <dc:creator>Tribouillier</dc:creator>
  <dc:description/>
  <dc:language>en-US</dc:language>
  <cp:lastModifiedBy>Tribouillier</cp:lastModifiedBy>
  <dcterms:modified xsi:type="dcterms:W3CDTF">2008-03-07T09:17:09Z</dcterms:modified>
  <cp:revision>4</cp:revision>
  <dc:subject/>
  <dc:title>Egypte versions 1 et 2</dc:title>
</cp:coreProperties>
</file>