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A3A-0606-445F-A18A-72E4FC1B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135-7300-40D6-96B4-6E235255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FA1-413F-489F-BB65-C8861E64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DFB-ED94-4104-BCFB-1FE8C139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076-D9AB-49AB-82F8-33DF03B8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43A-19ED-49D7-A01D-AEA9D85C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C52-B436-435A-933F-60A7B85C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2A9-5E1B-4703-BF3B-0F8FB14F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706-DF04-4013-A798-19A59E7C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C45-6741-4BCE-A53A-167FDF61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2E7-70FB-4508-89C9-BF0E379E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1A2-669B-4FA5-B354-1F68044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469F-8AE9-4570-B42B-9824ABB47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Quelles sont les différences avec la version 1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ellipses sont décentrées à gau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autre clipart est ajouté à dro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du titre « Egypte » monte pendant que le scarabée desc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effets du titre et du scarabée se déroulent ensem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liparts sont cent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rectangle noir (forme automatique) et ses deux copies sont ajout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que clipart est « groupé » à un rectangle n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d’ouverture qui est associé à chaque groupe est « estomper » alors que l’effet « toupie » était appliqué aux cli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vitesses des effets sont celles par défa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y a de nouveaux temps de délai 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ellipses Nil et Sphinx apparaissent après un délai d’1 s comme, seule, l’ellipse Pyramides dans la version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s les autres effets s’exécutent après un délai d’une demi-sec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09:13:16Z</dcterms:created>
  <dc:creator>Tribouillier</dc:creator>
  <dc:description/>
  <dc:language>en-US</dc:language>
  <cp:lastModifiedBy>Tribouillier</cp:lastModifiedBy>
  <dcterms:modified xsi:type="dcterms:W3CDTF">2008-03-07T10:28:41Z</dcterms:modified>
  <cp:revision>3</cp:revision>
  <dc:subject/>
  <dc:title>Egypte versions 1 et 2 différences </dc:title>
</cp:coreProperties>
</file>