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481-38C2-4BB4-AC33-06E1E3FA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7F1-C433-47C4-B3EB-F5FFA1B8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818-367E-4F86-92E0-7D23A37A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316-9908-4AFB-8C64-556F52F4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BCC-636D-4450-A239-69CB8B52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74E-9B6B-49AA-A007-3F1D6719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4E8-2B57-41C0-AD43-0AAE78B2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C4C-A42D-4380-98FC-69D09528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1F0-B326-4652-A381-1A5AB7CD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DFD-231C-4220-9B05-5E108355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7A5-8F50-484C-8B34-869BF434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5A5-4353-4B80-9714-5BC2E919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D4D5-7EAA-4049-95F5-99118D6C7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Quelles sont les différences avec la version 1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ellipses sont décentrées à gau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autre clipart est ajouté à dro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du titre « Egypte » monte pendant que le scarabée desc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effets du titre et du scarabée se déroulent ensem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liparts sont cent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rectangle noir (forme automatique) et ses deux copies sont ajout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que clipart est « groupé » à un rectangle n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d’ouverture qui est associé à chaque groupe est « estomper » alors que l’effet « toupie » était appliqué aux cli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vitesses des effets sont celles par défa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y a de nouveaux temps de délai 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ellipses Nil et Sphinx apparaissent après un délai d’1 s comme, seule, l’ellipse Pyramides dans la version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s les autres effets s’exécutent après un délai d’une demi-sec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09:13:16Z</dcterms:created>
  <dc:creator>Tribouillier</dc:creator>
  <dc:description/>
  <dc:language>en-US</dc:language>
  <cp:lastModifiedBy>Tribouillier</cp:lastModifiedBy>
  <dcterms:modified xsi:type="dcterms:W3CDTF">2008-03-07T10:28:41Z</dcterms:modified>
  <cp:revision>3</cp:revision>
  <dc:subject/>
  <dc:title>Egypte versions 1 et 2 différences </dc:title>
</cp:coreProperties>
</file>