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2AF-B876-4DB5-9D74-A1A5323D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409-3458-45B7-83A7-554BBECA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CC6-895D-460C-8DD3-60E6F1B2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357-1E0F-428D-BEAE-2ECC26FC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AF3-70A9-402E-A527-71C9E83A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83B-D842-4D3A-8C53-92FB7BD6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F1E-0310-44F0-8D85-601F5936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75C-7DFF-4F81-B0F9-41048A18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9CD-93FD-4B0E-87F6-43210CF2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51B-850D-4D25-B39D-3D49A7D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0E6-5C7C-4880-89C1-F4A3E4C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7B2-F459-4BC1-A167-C14CA95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A5A6-BD34-4FD2-8B41-6137F7D04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électionner tous les effets dans le volet Office, par le déroulant commun aux effets choisir « minutage », et programmer un début d’exécution après un délai de 0,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électionner seul l’effet de l’action 3 et programmer lui un délai de 1 sec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électionner seul l’effet de l’action 1 et lui programmer une durée d’une sec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92560" y="1341360"/>
            <a:ext cx="15644880" cy="5327640"/>
            <a:chOff x="4192560" y="1341360"/>
            <a:chExt cx="15644880" cy="5327640"/>
          </a:xfrm>
        </p:grpSpPr>
        <p:sp>
          <p:nvSpPr>
            <p:cNvPr id="235" name=""/>
            <p:cNvSpPr/>
            <p:nvPr/>
          </p:nvSpPr>
          <p:spPr>
            <a:xfrm>
              <a:off x="6281640" y="213372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0" y="1341360"/>
              <a:ext cx="503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29280" y="1341360"/>
              <a:ext cx="1009800" cy="57168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7078680" y="2282760"/>
              <a:ext cx="635040" cy="504720"/>
            </a:xfrm>
            <a:prstGeom prst="triangle">
              <a:avLst>
                <a:gd name="adj" fmla="val 50000"/>
              </a:avLst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2560" y="141768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49920" y="228924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40480" y="1341360"/>
              <a:ext cx="34131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’ellipse titre « Egypte » mo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09080" y="2924280"/>
              <a:ext cx="1512720" cy="57132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41840" y="174132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9080" y="2565360"/>
              <a:ext cx="96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64560" y="2133720"/>
              <a:ext cx="338472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titre « Pyramides » apparaî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48560" y="292428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18400" y="33242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90000" y="303516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953640" y="2924280"/>
              <a:ext cx="338472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clipart « Pyramides » tour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10320480" y="3865680"/>
              <a:ext cx="635040" cy="504720"/>
            </a:xfrm>
            <a:prstGeom prst="triangle">
              <a:avLst>
                <a:gd name="adj" fmla="val 50000"/>
              </a:avLst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448920" y="387180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33280" y="3716280"/>
              <a:ext cx="33843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titre « Nil » apparaî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09280" y="3794040"/>
              <a:ext cx="503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879120" y="419400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90360" y="450864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10920" y="458460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960200" y="490860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520720" y="4513320"/>
              <a:ext cx="1512720" cy="57132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265280" y="4513320"/>
              <a:ext cx="33843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clipart « Nil » tour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13571640" y="5451480"/>
              <a:ext cx="635040" cy="504720"/>
            </a:xfrm>
            <a:prstGeom prst="triangle">
              <a:avLst>
                <a:gd name="adj" fmla="val 50000"/>
              </a:avLst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700080" y="5457960"/>
              <a:ext cx="28728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284440" y="5302080"/>
              <a:ext cx="33843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titre « Sphinx » apparaî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060440" y="538020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130280" y="57801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78160" y="609300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698720" y="616896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148000" y="64929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708160" y="6097680"/>
              <a:ext cx="1513080" cy="57132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453080" y="6097680"/>
              <a:ext cx="33843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clipart « Sphinx » tour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552920" y="1265400"/>
            <a:ext cx="0" cy="5548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48200" y="274680"/>
            <a:ext cx="99036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901 -2.60116E-006 L 1.11022E-016 -2.60116E-006 E">
                                      <p:cBhvr>
                                        <p:cTn id="295" dur="2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760" y="3500280"/>
            <a:ext cx="2935080" cy="19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13320" y="3500280"/>
            <a:ext cx="237492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46600" y="3500280"/>
            <a:ext cx="201132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isiter les Pyramid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oir le Sphin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ère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 droit sur la diapositive, puis cliquer sur « arrière-plan », choisir « Motifs et Textures », puis « Textures », cliquer sur l’échantillon « Papyrus », faire « Ok », puis « appliquer » pour que l’arrière-plan ne court que sur la diapo d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: l’avantage de l’arrière-plan c’est qu’il permet d’avoir un fond sans avoir recours à une forme automatique et donc permet de pouvoir cliquer sur toute la diapo sans craindre d’interférer avec le f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56000" y="27432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440" y="1600200"/>
            <a:ext cx="914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llipse en forme automat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clics dessus pour la mettre en form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re « parchemin 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s trait aut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 droit pour ajouter du texte, soit « En Egypte, on peut… »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ttre en forme : cliquer sur l’encadré de la forme (avoir la bordure en pointillé) puis choisir, dans les déroulants de la barre d’outils « mise en forme », la police « Papyrus » et la taille de police « 28 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i appliquer l’effet d’ouverture « monter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55520"/>
            <a:ext cx="2738520" cy="1395360"/>
            <a:chOff x="0" y="155520"/>
            <a:chExt cx="2738520" cy="1395360"/>
          </a:xfrm>
        </p:grpSpPr>
        <p:grpSp>
          <p:nvGrpSpPr>
            <p:cNvPr id="55" name=""/>
            <p:cNvGrpSpPr/>
            <p:nvPr/>
          </p:nvGrpSpPr>
          <p:grpSpPr>
            <a:xfrm>
              <a:off x="1800" y="155520"/>
              <a:ext cx="2736720" cy="1395360"/>
              <a:chOff x="1800" y="155520"/>
              <a:chExt cx="2736720" cy="1395360"/>
            </a:xfrm>
          </p:grpSpPr>
          <p:sp>
            <p:nvSpPr>
              <p:cNvPr id="56" name=""/>
              <p:cNvSpPr/>
              <p:nvPr/>
            </p:nvSpPr>
            <p:spPr>
              <a:xfrm>
                <a:off x="1297080" y="155520"/>
                <a:ext cx="144360" cy="144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00" y="699840"/>
                <a:ext cx="2736720" cy="836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3080" y="860400"/>
                <a:ext cx="2556000" cy="51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98520" y="69984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8520" y="139212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9416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9416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0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70160" y="29988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0" y="777600"/>
              <a:ext cx="2737080" cy="68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155520"/>
            <a:ext cx="2736720" cy="1395360"/>
            <a:chOff x="0" y="155520"/>
            <a:chExt cx="2736720" cy="1395360"/>
          </a:xfrm>
        </p:grpSpPr>
        <p:grpSp>
          <p:nvGrpSpPr>
            <p:cNvPr id="68" name=""/>
            <p:cNvGrpSpPr/>
            <p:nvPr/>
          </p:nvGrpSpPr>
          <p:grpSpPr>
            <a:xfrm>
              <a:off x="0" y="155520"/>
              <a:ext cx="2736720" cy="1395360"/>
              <a:chOff x="0" y="155520"/>
              <a:chExt cx="2736720" cy="1395360"/>
            </a:xfrm>
          </p:grpSpPr>
          <p:sp>
            <p:nvSpPr>
              <p:cNvPr id="69" name=""/>
              <p:cNvSpPr/>
              <p:nvPr/>
            </p:nvSpPr>
            <p:spPr>
              <a:xfrm>
                <a:off x="1295280" y="155520"/>
                <a:ext cx="144360" cy="144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99840"/>
                <a:ext cx="2736720" cy="836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280" y="860400"/>
                <a:ext cx="2556000" cy="51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96720" y="69984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96720" y="139212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59236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59236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68360" y="29988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0" y="753840"/>
              <a:ext cx="2736720" cy="6843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-1440" y="162000"/>
            <a:ext cx="2736720" cy="1395360"/>
            <a:chOff x="-1440" y="162000"/>
            <a:chExt cx="2736720" cy="1395360"/>
          </a:xfrm>
        </p:grpSpPr>
        <p:grpSp>
          <p:nvGrpSpPr>
            <p:cNvPr id="81" name=""/>
            <p:cNvGrpSpPr/>
            <p:nvPr/>
          </p:nvGrpSpPr>
          <p:grpSpPr>
            <a:xfrm>
              <a:off x="-1440" y="162000"/>
              <a:ext cx="2736720" cy="1395360"/>
              <a:chOff x="-1440" y="162000"/>
              <a:chExt cx="2736720" cy="1395360"/>
            </a:xfrm>
          </p:grpSpPr>
          <p:sp>
            <p:nvSpPr>
              <p:cNvPr id="82" name=""/>
              <p:cNvSpPr/>
              <p:nvPr/>
            </p:nvSpPr>
            <p:spPr>
              <a:xfrm>
                <a:off x="1293840" y="162000"/>
                <a:ext cx="144360" cy="144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1440" y="706680"/>
                <a:ext cx="2736720" cy="836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840" y="866880"/>
                <a:ext cx="2556000" cy="51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95280" y="70668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95280" y="139860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-144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59092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90920" y="69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-1440" y="69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66920" y="30672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-1440" y="781200"/>
              <a:ext cx="2736720" cy="6843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 Egypte, on peu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1440" y="12852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40" y="162000"/>
            <a:ext cx="2736720" cy="1395360"/>
            <a:chOff x="-1440" y="162000"/>
            <a:chExt cx="2736720" cy="1395360"/>
          </a:xfrm>
        </p:grpSpPr>
        <p:grpSp>
          <p:nvGrpSpPr>
            <p:cNvPr id="95" name=""/>
            <p:cNvGrpSpPr/>
            <p:nvPr/>
          </p:nvGrpSpPr>
          <p:grpSpPr>
            <a:xfrm>
              <a:off x="-1440" y="162000"/>
              <a:ext cx="2736720" cy="1395360"/>
              <a:chOff x="-1440" y="162000"/>
              <a:chExt cx="2736720" cy="1395360"/>
            </a:xfrm>
          </p:grpSpPr>
          <p:sp>
            <p:nvSpPr>
              <p:cNvPr id="96" name=""/>
              <p:cNvSpPr/>
              <p:nvPr/>
            </p:nvSpPr>
            <p:spPr>
              <a:xfrm>
                <a:off x="1293840" y="162000"/>
                <a:ext cx="144360" cy="144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-1440" y="706320"/>
                <a:ext cx="2736720" cy="836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840" y="866880"/>
                <a:ext cx="2556000" cy="51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95280" y="70632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95280" y="139860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-144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9092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0920" y="6937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-1440" y="6937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66920" y="30636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-1440" y="762120"/>
              <a:ext cx="2736720" cy="6843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 Egypte, on peu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440" y="762120"/>
            <a:ext cx="2737080" cy="684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-2.89017E-006 L -0.00017 -0.1015 E">
                                      <p:cBhvr>
                                        <p:cTn id="7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-2.89017E-006 L -0.00017 -0.1015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25434E-006 L 8.33333E-007 -0.10243 E">
                                      <p:cBhvr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-1.38728E-006 L 8.33333E-007 -0.11561 E">
                                      <p:cBhvr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17 3.75723E-006 L 8.33333E-007 -0.10405 E">
                                      <p:cBhvr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57440" y="274320"/>
            <a:ext cx="25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760" y="2637000"/>
            <a:ext cx="87966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pier et coller, puis cliquer au milieu de la copie pour en changer le texte par « … visiter les Pyramides… »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ant que la copie est sélectionnée, en profiter pour modifier son effet en effet d’ouverture « apparaître ». La copier et la coller deux f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le texte de la première ellipse sur le dessus et écrire le texte « … voir le Sphinx. »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éplacer un peu sur la côté en la faisant glisser avec la souris, pour découvrir l’ellipse au-dess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9280" y="-458640"/>
            <a:ext cx="2736720" cy="1395360"/>
            <a:chOff x="179280" y="-458640"/>
            <a:chExt cx="2736720" cy="1395360"/>
          </a:xfrm>
        </p:grpSpPr>
        <p:sp>
          <p:nvSpPr>
            <p:cNvPr id="111" name=""/>
            <p:cNvSpPr/>
            <p:nvPr/>
          </p:nvSpPr>
          <p:spPr>
            <a:xfrm>
              <a:off x="1474560" y="-45864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9280" y="85680"/>
              <a:ext cx="2736720" cy="836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560" y="24624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6000" y="8568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76000" y="7779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80" y="792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792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73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80" y="73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47640" y="-3142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79280" y="189000"/>
            <a:ext cx="2737080" cy="684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28720" y="54000"/>
            <a:ext cx="2736720" cy="1395360"/>
            <a:chOff x="828720" y="54000"/>
            <a:chExt cx="2736720" cy="1395360"/>
          </a:xfrm>
        </p:grpSpPr>
        <p:sp>
          <p:nvSpPr>
            <p:cNvPr id="123" name=""/>
            <p:cNvSpPr/>
            <p:nvPr/>
          </p:nvSpPr>
          <p:spPr>
            <a:xfrm>
              <a:off x="2124000" y="5400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8720" y="598320"/>
              <a:ext cx="2736720" cy="83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75888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5440" y="598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5440" y="12906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8720" y="1305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080" y="1305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1080" y="58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8720" y="58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7080" y="1983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28720" y="701640"/>
            <a:ext cx="2736720" cy="684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40000" y="1062000"/>
            <a:ext cx="2736720" cy="1395360"/>
            <a:chOff x="2340000" y="1062000"/>
            <a:chExt cx="2736720" cy="1395360"/>
          </a:xfrm>
        </p:grpSpPr>
        <p:sp>
          <p:nvSpPr>
            <p:cNvPr id="135" name=""/>
            <p:cNvSpPr/>
            <p:nvPr/>
          </p:nvSpPr>
          <p:spPr>
            <a:xfrm>
              <a:off x="3635280" y="106200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0000" y="1606680"/>
              <a:ext cx="2736720" cy="83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11280" y="1766880"/>
              <a:ext cx="255600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6720" y="1606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36720" y="229860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000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236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236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000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8360" y="120672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28720" y="81000"/>
            <a:ext cx="2736720" cy="1395360"/>
            <a:chOff x="828720" y="81000"/>
            <a:chExt cx="2736720" cy="1395360"/>
          </a:xfrm>
        </p:grpSpPr>
        <p:sp>
          <p:nvSpPr>
            <p:cNvPr id="146" name=""/>
            <p:cNvSpPr/>
            <p:nvPr/>
          </p:nvSpPr>
          <p:spPr>
            <a:xfrm>
              <a:off x="2124000" y="8100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8720" y="625680"/>
              <a:ext cx="2736720" cy="836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0000" y="785880"/>
              <a:ext cx="255600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25440" y="625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5440" y="131760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8720" y="1332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1080" y="1332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1080" y="612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8720" y="612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7080" y="22572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28720" y="701640"/>
            <a:ext cx="2736720" cy="6843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82560" y="558720"/>
            <a:ext cx="2736720" cy="1395360"/>
            <a:chOff x="1582560" y="558720"/>
            <a:chExt cx="2736720" cy="1395360"/>
          </a:xfrm>
        </p:grpSpPr>
        <p:sp>
          <p:nvSpPr>
            <p:cNvPr id="158" name=""/>
            <p:cNvSpPr/>
            <p:nvPr/>
          </p:nvSpPr>
          <p:spPr>
            <a:xfrm>
              <a:off x="2877840" y="558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2560" y="1103040"/>
              <a:ext cx="2736720" cy="83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53840" y="126360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79280" y="11030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79280" y="179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2560" y="1809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74920" y="1809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4920" y="1090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2560" y="1090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0920" y="7030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82560" y="1177920"/>
            <a:ext cx="2737080" cy="6843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341440" y="1062000"/>
            <a:ext cx="2736720" cy="1395360"/>
            <a:chOff x="2341440" y="1062000"/>
            <a:chExt cx="2736720" cy="1395360"/>
          </a:xfrm>
        </p:grpSpPr>
        <p:sp>
          <p:nvSpPr>
            <p:cNvPr id="170" name=""/>
            <p:cNvSpPr/>
            <p:nvPr/>
          </p:nvSpPr>
          <p:spPr>
            <a:xfrm>
              <a:off x="3636720" y="106200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41440" y="1606320"/>
              <a:ext cx="2736720" cy="8366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12720" y="176688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38160" y="1606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38160" y="22986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4144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3380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33800" y="1593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41440" y="1593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9800" y="12063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343240" y="1700280"/>
            <a:ext cx="2736720" cy="684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1440" y="1657440"/>
            <a:ext cx="2737080" cy="684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oir le Sphi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1440" y="-55440"/>
            <a:ext cx="2872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2720" y="58896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112536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5960" y="163512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1658 2.59259E-006 E">
                                      <p:cBhvr>
                                        <p:cTn id="15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9259E-006 L 0.16563 2.59259E-006 E">
                                      <p:cBhvr>
                                        <p:cTn id="16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16546 -1.11111E-006 E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16563 -1.11111E-006 E">
                                      <p:cBhvr>
                                        <p:cTn id="16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0717 L 0.16511 -0.00717 E">
                                      <p:cBhvr>
                                        <p:cTn id="16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8472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028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le texte de l’ellipse au-dessous ainsi découverte, et écrire à la place « … descendre le Nil…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toutes les ellipses, dans la barre d’outils « Dessin », dans « aligner ou répartir », cocher « par rapport à la diapositive ». Retourner dans Aligner ou répartir, puis cliquer sur « centrer », recommencer puis cliquer sur « aligner au milieu ». Monter avec la flèche directionnelle du pavé sur le clav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1440" y="-55440"/>
            <a:ext cx="2738160" cy="928440"/>
            <a:chOff x="-1440" y="-55440"/>
            <a:chExt cx="2738160" cy="928440"/>
          </a:xfrm>
        </p:grpSpPr>
        <p:sp>
          <p:nvSpPr>
            <p:cNvPr id="189" name=""/>
            <p:cNvSpPr/>
            <p:nvPr/>
          </p:nvSpPr>
          <p:spPr>
            <a:xfrm>
              <a:off x="0" y="189000"/>
              <a:ext cx="2736720" cy="684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En Egypte, on peu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1440" y="-55440"/>
              <a:ext cx="28728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2720" y="588960"/>
            <a:ext cx="2808360" cy="860400"/>
            <a:chOff x="612720" y="588960"/>
            <a:chExt cx="2808360" cy="860400"/>
          </a:xfrm>
        </p:grpSpPr>
        <p:sp>
          <p:nvSpPr>
            <p:cNvPr id="192" name=""/>
            <p:cNvSpPr/>
            <p:nvPr/>
          </p:nvSpPr>
          <p:spPr>
            <a:xfrm>
              <a:off x="684360" y="765000"/>
              <a:ext cx="2736720" cy="684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… </a:t>
              </a: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visiter les Pyramid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720" y="58896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295280" y="112536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30200" y="774720"/>
            <a:ext cx="2736720" cy="1395360"/>
            <a:chOff x="1330200" y="774720"/>
            <a:chExt cx="2736720" cy="1395360"/>
          </a:xfrm>
        </p:grpSpPr>
        <p:sp>
          <p:nvSpPr>
            <p:cNvPr id="196" name=""/>
            <p:cNvSpPr/>
            <p:nvPr/>
          </p:nvSpPr>
          <p:spPr>
            <a:xfrm>
              <a:off x="2625480" y="77472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0200" y="1319400"/>
              <a:ext cx="2736720" cy="83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1480" y="1479600"/>
              <a:ext cx="255600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26920" y="131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26920" y="2011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0200" y="202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22560" y="202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22560" y="13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30200" y="13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8560" y="919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368360" y="1417680"/>
            <a:ext cx="2737080" cy="684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780000" y="1568520"/>
            <a:ext cx="2736720" cy="852480"/>
            <a:chOff x="3780000" y="1568520"/>
            <a:chExt cx="2736720" cy="852480"/>
          </a:xfrm>
        </p:grpSpPr>
        <p:sp>
          <p:nvSpPr>
            <p:cNvPr id="208" name=""/>
            <p:cNvSpPr/>
            <p:nvPr/>
          </p:nvSpPr>
          <p:spPr>
            <a:xfrm>
              <a:off x="3780000" y="1736640"/>
              <a:ext cx="2736720" cy="6843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… </a:t>
              </a: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voir le Sphin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80000" y="156852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368360" y="1417680"/>
            <a:ext cx="2737080" cy="684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L 0.35052 0.44 E">
                                      <p:cBhvr>
                                        <p:cTn id="18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93642E-007 L 0.27951 0.35098 E">
                                      <p:cBhvr>
                                        <p:cTn id="18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4798E-006 L 0.34271 0.31029 E">
                                      <p:cBhvr>
                                        <p:cTn id="18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3699E-006 L 0.19688 0.2467 E">
                                      <p:cBhvr>
                                        <p:cTn id="19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3699E-006 L 0.19688 0.2467 E">
                                      <p:cBhvr>
                                        <p:cTn id="19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62428E-006 L -0.06684 0.20902 E">
                                      <p:cBhvr>
                                        <p:cTn id="19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52 0.44 L 0.35052 0.08902 E">
                                      <p:cBhvr>
                                        <p:cTn id="19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951 0.35098 L 0.27951 6.93642E-007 E">
                                      <p:cBhvr>
                                        <p:cTn id="20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271 0.31029 L 0.33889 -0.04069 E">
                                      <p:cBhvr>
                                        <p:cTn id="20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86 0.28508 L 0.20486 -0.0659 E">
                                      <p:cBhvr>
                                        <p:cTn id="205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4324 L 0.20069 -0.10774 E">
                                      <p:cBhvr>
                                        <p:cTn id="20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20902 L -0.06302 -0.14196 E">
                                      <p:cBhvr>
                                        <p:cTn id="20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4324 L 0.19687 -0.10774 E"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rois cliparts se trouvent en recherchant « Egypte » dans les collections web et sous forme d’images de la biblioth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charger les trois cliparts dans l’ordre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yramides, le Nil, le Sphi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chargés, sélectionnés ensemble, les distribuer dans la largeur de la page comme sui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a barre d’outils Dessin, par « Dessin / Aligner ou répartir », cocher « par rapport à la diapositive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6560" y="6254640"/>
            <a:ext cx="650880" cy="439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227480" y="6134040"/>
            <a:ext cx="690480" cy="679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246560" y="6202440"/>
            <a:ext cx="652320" cy="54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is refaire « Dessin / Aligner ou répartir » et cliquer sur distribuer horizontalement. Les descendre un peu dans la diaposi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jours sélectionnés, leur appliquer l’effet d’ouverture « toupie ». Dans le même mouvement, programmer le début de chaque effet indépendamment : dans le volet Office en face de « Début : » cliquer « Au clic »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ont alors les numéros d’action 5, 6 et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87400" y="6254640"/>
            <a:ext cx="650880" cy="439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26040" y="6134040"/>
            <a:ext cx="690480" cy="679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703920" y="6202440"/>
            <a:ext cx="652680" cy="54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5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e volet Office cliquer sur l’action du premier clipart notée 5 qui se retrouve alors encadré de bleu. Cliquer dessus et laisser le doigt appuyé sur la souris pour le faire glisser après l’action 2. Décliquer ; il porte alors le numéro d’action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éder de même pour faire glisser l’action du second clipart (notée 6) après l’action 4 ; il porte alors le numéro d’action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7400" y="6254640"/>
            <a:ext cx="650880" cy="4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26040" y="6134040"/>
            <a:ext cx="690480" cy="679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703920" y="6202440"/>
            <a:ext cx="652680" cy="544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54450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3:19:55Z</dcterms:created>
  <dc:creator>Tribouillier</dc:creator>
  <dc:description/>
  <dc:language>en-US</dc:language>
  <cp:lastModifiedBy>Tribouillier</cp:lastModifiedBy>
  <dcterms:modified xsi:type="dcterms:W3CDTF">2008-03-07T06:47:03Z</dcterms:modified>
  <cp:revision>12</cp:revision>
  <dc:subject/>
  <dc:title>Egypte version 1</dc:title>
</cp:coreProperties>
</file>