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3A78-E785-4FF2-8002-B1552F99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35F8-B028-41E0-AC78-3BE759F7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1641-1A47-443C-BB37-548E7552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FE08-8F6B-45BE-914A-EA50CF2D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8881-1845-4C72-BA53-B7B9720C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4A6F-A3F8-4C99-BCF3-F6CD3E52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BA94-F340-4752-8D51-B95F0EFC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61CA-C0B0-41B3-8AC0-0130B553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D61A-E82F-4352-BA9D-6B46A454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AE03-0B97-459D-801E-DB894BF4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3F84-3615-410C-994C-7C445D3C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8E5-B517-4479-8587-3D67C811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E2A2-B0E6-4B5F-9690-DC00FCB30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5.jpeg"/><Relationship Id="rId10" Type="http://schemas.openxmlformats.org/officeDocument/2006/relationships/image" Target="../media/image6.pn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7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gyp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ét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électionner tous les effets dans le volet Office, par le déroulant commun aux effets choisir « minutage », et programmer un début d’exécution après un délai de 0,5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électionner seul l’effet de l’action 3 et programmer lui un délai de 1 sec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électionner seul l’effet de l’action 1 et lui programmer une durée d’une sec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ét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192560" y="1341360"/>
            <a:ext cx="15644880" cy="5327640"/>
            <a:chOff x="4192560" y="1341360"/>
            <a:chExt cx="15644880" cy="5327640"/>
          </a:xfrm>
        </p:grpSpPr>
        <p:sp>
          <p:nvSpPr>
            <p:cNvPr id="235" name=""/>
            <p:cNvSpPr/>
            <p:nvPr/>
          </p:nvSpPr>
          <p:spPr>
            <a:xfrm>
              <a:off x="6281640" y="2133720"/>
              <a:ext cx="50328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0" y="1341360"/>
              <a:ext cx="503280" cy="5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,5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29280" y="1341360"/>
              <a:ext cx="1009800" cy="571680"/>
            </a:xfrm>
            <a:prstGeom prst="rect">
              <a:avLst/>
            </a:prstGeom>
            <a:solidFill>
              <a:srgbClr val="7a9ed8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5400000">
              <a:off x="7078680" y="2282760"/>
              <a:ext cx="635040" cy="504720"/>
            </a:xfrm>
            <a:prstGeom prst="triangle">
              <a:avLst>
                <a:gd name="adj" fmla="val 50000"/>
              </a:avLst>
            </a:prstGeom>
            <a:solidFill>
              <a:srgbClr val="7a9ed8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92560" y="1417680"/>
              <a:ext cx="2872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49920" y="2289240"/>
              <a:ext cx="2872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40480" y="1341360"/>
              <a:ext cx="34131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’ellipse titre « Egypte » mo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09080" y="2924280"/>
              <a:ext cx="1512720" cy="571320"/>
            </a:xfrm>
            <a:prstGeom prst="rect">
              <a:avLst/>
            </a:prstGeom>
            <a:solidFill>
              <a:srgbClr val="7a9ed8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41840" y="1741320"/>
              <a:ext cx="4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39080" y="2565360"/>
              <a:ext cx="96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64560" y="2133720"/>
              <a:ext cx="338472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 titre « Pyramides » apparaî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48560" y="2924280"/>
              <a:ext cx="50328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,5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18400" y="3324240"/>
              <a:ext cx="4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290000" y="3035160"/>
              <a:ext cx="2872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953640" y="2924280"/>
              <a:ext cx="338472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 clipart « Pyramides » tour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10320480" y="3865680"/>
              <a:ext cx="635040" cy="504720"/>
            </a:xfrm>
            <a:prstGeom prst="triangle">
              <a:avLst>
                <a:gd name="adj" fmla="val 50000"/>
              </a:avLst>
            </a:prstGeom>
            <a:solidFill>
              <a:srgbClr val="7a9ed8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448920" y="3871800"/>
              <a:ext cx="2872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033280" y="3716280"/>
              <a:ext cx="33843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 titre « Nil » apparaî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809280" y="3794040"/>
              <a:ext cx="503280" cy="5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,5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879120" y="4194000"/>
              <a:ext cx="4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890360" y="4508640"/>
              <a:ext cx="50328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,5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510920" y="4584600"/>
              <a:ext cx="2872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960200" y="4908600"/>
              <a:ext cx="4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520720" y="4513320"/>
              <a:ext cx="1512720" cy="571320"/>
            </a:xfrm>
            <a:prstGeom prst="rect">
              <a:avLst/>
            </a:prstGeom>
            <a:solidFill>
              <a:srgbClr val="7a9ed8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265280" y="4513320"/>
              <a:ext cx="33843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 clipart « Nil » tour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13571640" y="5451480"/>
              <a:ext cx="635040" cy="504720"/>
            </a:xfrm>
            <a:prstGeom prst="triangle">
              <a:avLst>
                <a:gd name="adj" fmla="val 50000"/>
              </a:avLst>
            </a:prstGeom>
            <a:solidFill>
              <a:srgbClr val="7a9ed8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700080" y="5457960"/>
              <a:ext cx="287280" cy="34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284440" y="5302080"/>
              <a:ext cx="33843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 titre « Sphinx » apparaî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3060440" y="5380200"/>
              <a:ext cx="50328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,5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130280" y="5780160"/>
              <a:ext cx="4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078160" y="6093000"/>
              <a:ext cx="50328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,5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698720" y="6168960"/>
              <a:ext cx="2872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148000" y="6492960"/>
              <a:ext cx="4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708160" y="6097680"/>
              <a:ext cx="1513080" cy="571320"/>
            </a:xfrm>
            <a:prstGeom prst="rect">
              <a:avLst/>
            </a:prstGeom>
            <a:solidFill>
              <a:srgbClr val="7a9ed8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453080" y="6097680"/>
              <a:ext cx="33843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 clipart « Sphinx » tour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552920" y="1265400"/>
            <a:ext cx="0" cy="5548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048200" y="274680"/>
            <a:ext cx="99036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901 -2.60116E-006 L 1.11022E-016 -2.60116E-006 E">
                                      <p:cBhvr>
                                        <p:cTn id="295" dur="20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5760" y="3500280"/>
            <a:ext cx="2935080" cy="197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313320" y="3500280"/>
            <a:ext cx="2374920" cy="1979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846600" y="3500280"/>
            <a:ext cx="2011320" cy="1979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58920" y="873000"/>
            <a:ext cx="6478560" cy="161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En Egypte, on pe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873000"/>
            <a:ext cx="6478560" cy="1619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visiter les Pyramides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873000"/>
            <a:ext cx="6478560" cy="16192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descendre le N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873000"/>
            <a:ext cx="6478560" cy="16192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voir le Sphin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ière-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 droit sur la diapositive, puis cliquer sur « arrière-plan », choisir « Motifs et Textures », puis « Textures », cliquer sur l’échantillon « Papyrus », faire « Ok », puis « appliquer » pour que l’arrière-plan ne court que sur la diapo di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: l’avantage de l’arrière-plan c’est qu’il permet d’avoir un fond sans avoir recours à une forme automatique et donc permet de pouvoir cliquer sur toute la diapo sans craindre d’interférer avec le fo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56000" y="274320"/>
            <a:ext cx="253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1440" y="1600200"/>
            <a:ext cx="9145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ellipse en forme automat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clics dessus pour la mettre en form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ure « parchemin 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s trait aut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 droit pour ajouter du texte, soit « En Egypte, on peut… »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ettre en forme : cliquer sur l’encadré de la forme (avoir la bordure en pointillé) puis choisir, dans les déroulants de la barre d’outils « mise en forme », la police « Papyrus » et la taille de police « 28 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i appliquer l’effet d’ouverture « monter 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155520"/>
            <a:ext cx="2738520" cy="1395360"/>
            <a:chOff x="0" y="155520"/>
            <a:chExt cx="2738520" cy="1395360"/>
          </a:xfrm>
        </p:grpSpPr>
        <p:grpSp>
          <p:nvGrpSpPr>
            <p:cNvPr id="55" name=""/>
            <p:cNvGrpSpPr/>
            <p:nvPr/>
          </p:nvGrpSpPr>
          <p:grpSpPr>
            <a:xfrm>
              <a:off x="1800" y="155520"/>
              <a:ext cx="2736720" cy="1395360"/>
              <a:chOff x="1800" y="155520"/>
              <a:chExt cx="2736720" cy="1395360"/>
            </a:xfrm>
          </p:grpSpPr>
          <p:sp>
            <p:nvSpPr>
              <p:cNvPr id="56" name=""/>
              <p:cNvSpPr/>
              <p:nvPr/>
            </p:nvSpPr>
            <p:spPr>
              <a:xfrm>
                <a:off x="1297080" y="155520"/>
                <a:ext cx="144360" cy="1443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00" y="699840"/>
                <a:ext cx="2736720" cy="8366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3080" y="860400"/>
                <a:ext cx="2556000" cy="51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298520" y="699840"/>
                <a:ext cx="14472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298520" y="1392120"/>
                <a:ext cx="1447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00" y="140652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594160" y="140652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594160" y="68724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800" y="68724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370160" y="29988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0" y="777600"/>
              <a:ext cx="2737080" cy="68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0" y="155520"/>
            <a:ext cx="2736720" cy="1395360"/>
            <a:chOff x="0" y="155520"/>
            <a:chExt cx="2736720" cy="1395360"/>
          </a:xfrm>
        </p:grpSpPr>
        <p:grpSp>
          <p:nvGrpSpPr>
            <p:cNvPr id="68" name=""/>
            <p:cNvGrpSpPr/>
            <p:nvPr/>
          </p:nvGrpSpPr>
          <p:grpSpPr>
            <a:xfrm>
              <a:off x="0" y="155520"/>
              <a:ext cx="2736720" cy="1395360"/>
              <a:chOff x="0" y="155520"/>
              <a:chExt cx="2736720" cy="1395360"/>
            </a:xfrm>
          </p:grpSpPr>
          <p:sp>
            <p:nvSpPr>
              <p:cNvPr id="69" name=""/>
              <p:cNvSpPr/>
              <p:nvPr/>
            </p:nvSpPr>
            <p:spPr>
              <a:xfrm>
                <a:off x="1295280" y="155520"/>
                <a:ext cx="144360" cy="1443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699840"/>
                <a:ext cx="2736720" cy="8366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1280" y="860400"/>
                <a:ext cx="2556000" cy="51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296720" y="699840"/>
                <a:ext cx="14472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296720" y="1392120"/>
                <a:ext cx="1447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40652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592360" y="140652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592360" y="68724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68724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368360" y="29988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0" y="753840"/>
              <a:ext cx="2736720" cy="6843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-1440" y="162000"/>
            <a:ext cx="2736720" cy="1395360"/>
            <a:chOff x="-1440" y="162000"/>
            <a:chExt cx="2736720" cy="1395360"/>
          </a:xfrm>
        </p:grpSpPr>
        <p:grpSp>
          <p:nvGrpSpPr>
            <p:cNvPr id="81" name=""/>
            <p:cNvGrpSpPr/>
            <p:nvPr/>
          </p:nvGrpSpPr>
          <p:grpSpPr>
            <a:xfrm>
              <a:off x="-1440" y="162000"/>
              <a:ext cx="2736720" cy="1395360"/>
              <a:chOff x="-1440" y="162000"/>
              <a:chExt cx="2736720" cy="1395360"/>
            </a:xfrm>
          </p:grpSpPr>
          <p:sp>
            <p:nvSpPr>
              <p:cNvPr id="82" name=""/>
              <p:cNvSpPr/>
              <p:nvPr/>
            </p:nvSpPr>
            <p:spPr>
              <a:xfrm>
                <a:off x="1293840" y="162000"/>
                <a:ext cx="144360" cy="1447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-1440" y="706680"/>
                <a:ext cx="2736720" cy="8366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840" y="866880"/>
                <a:ext cx="2556000" cy="514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295280" y="706680"/>
                <a:ext cx="1447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295280" y="1398600"/>
                <a:ext cx="14472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-1440" y="141300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590920" y="141300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590920" y="693720"/>
                <a:ext cx="14436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-1440" y="693720"/>
                <a:ext cx="14436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366920" y="30672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-1440" y="781200"/>
              <a:ext cx="2736720" cy="68436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 Egypte, on peut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-1440" y="128520"/>
            <a:ext cx="28728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-1440" y="162000"/>
            <a:ext cx="2736720" cy="1395360"/>
            <a:chOff x="-1440" y="162000"/>
            <a:chExt cx="2736720" cy="1395360"/>
          </a:xfrm>
        </p:grpSpPr>
        <p:grpSp>
          <p:nvGrpSpPr>
            <p:cNvPr id="95" name=""/>
            <p:cNvGrpSpPr/>
            <p:nvPr/>
          </p:nvGrpSpPr>
          <p:grpSpPr>
            <a:xfrm>
              <a:off x="-1440" y="162000"/>
              <a:ext cx="2736720" cy="1395360"/>
              <a:chOff x="-1440" y="162000"/>
              <a:chExt cx="2736720" cy="1395360"/>
            </a:xfrm>
          </p:grpSpPr>
          <p:sp>
            <p:nvSpPr>
              <p:cNvPr id="96" name=""/>
              <p:cNvSpPr/>
              <p:nvPr/>
            </p:nvSpPr>
            <p:spPr>
              <a:xfrm>
                <a:off x="1293840" y="162000"/>
                <a:ext cx="144360" cy="1443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-1440" y="706320"/>
                <a:ext cx="2736720" cy="83664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9840" y="866880"/>
                <a:ext cx="2556000" cy="51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295280" y="706320"/>
                <a:ext cx="14472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295280" y="1398600"/>
                <a:ext cx="14472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-1440" y="141300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590920" y="141300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590920" y="69372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-1440" y="69372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366920" y="30636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-1440" y="762120"/>
              <a:ext cx="2736720" cy="6843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 Egypte, on peut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440" y="762120"/>
            <a:ext cx="2737080" cy="6840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En Egypte, on peu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6 -2.89017E-006 L -0.00017 -0.1015 E">
                                      <p:cBhvr>
                                        <p:cTn id="71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6 -2.89017E-006 L -0.00017 -0.1015 E">
                                      <p:cBhvr>
                                        <p:cTn id="7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8.33333E-007 2.25434E-006 L 8.33333E-007 -0.10243 E">
                                      <p:cBhvr>
                                        <p:cTn id="7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8.33333E-007 -1.38728E-006 L 8.33333E-007 -0.11561 E">
                                      <p:cBhvr>
                                        <p:cTn id="77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017 3.75723E-006 L 8.33333E-007 -0.10405 E">
                                      <p:cBhvr>
                                        <p:cTn id="79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57440" y="274320"/>
            <a:ext cx="25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7760" y="2637000"/>
            <a:ext cx="8796600" cy="40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pier et coller, puis cliquer au milieu de la copie pour en changer le texte par « … visiter les Pyramides… »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dant que la copie est sélectionnée, en profiter pour modifier son effet en effet d’ouverture « apparaître ». La copier et la coller deux f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quer sur le texte de la première ellipse sur le dessus et écrire le texte « … voir le Sphinx. »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déplacer un peu sur la côté en la faisant glisser avec la souris, pour découvrir l’ellipse au-dess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79280" y="-458640"/>
            <a:ext cx="2736720" cy="1395360"/>
            <a:chOff x="179280" y="-458640"/>
            <a:chExt cx="2736720" cy="1395360"/>
          </a:xfrm>
        </p:grpSpPr>
        <p:sp>
          <p:nvSpPr>
            <p:cNvPr id="111" name=""/>
            <p:cNvSpPr/>
            <p:nvPr/>
          </p:nvSpPr>
          <p:spPr>
            <a:xfrm>
              <a:off x="1474560" y="-458640"/>
              <a:ext cx="144360" cy="144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9280" y="85680"/>
              <a:ext cx="2736720" cy="836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0560" y="246240"/>
              <a:ext cx="2556000" cy="51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76000" y="85680"/>
              <a:ext cx="14472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76000" y="777960"/>
              <a:ext cx="1447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9280" y="7923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71640" y="7923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71640" y="73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9280" y="73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47640" y="-31428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79280" y="189000"/>
            <a:ext cx="2737080" cy="684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En Egypte, on peu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828720" y="54000"/>
            <a:ext cx="2736720" cy="1395360"/>
            <a:chOff x="828720" y="54000"/>
            <a:chExt cx="2736720" cy="1395360"/>
          </a:xfrm>
        </p:grpSpPr>
        <p:sp>
          <p:nvSpPr>
            <p:cNvPr id="123" name=""/>
            <p:cNvSpPr/>
            <p:nvPr/>
          </p:nvSpPr>
          <p:spPr>
            <a:xfrm>
              <a:off x="2124000" y="54000"/>
              <a:ext cx="144360" cy="144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8720" y="598320"/>
              <a:ext cx="2736720" cy="836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00000" y="758880"/>
              <a:ext cx="2556000" cy="51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25440" y="598320"/>
              <a:ext cx="14472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25440" y="12906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28720" y="13050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080" y="13050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21080" y="585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28720" y="585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97080" y="19836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828720" y="701640"/>
            <a:ext cx="2736720" cy="6843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En Egypte, on peu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340000" y="1062000"/>
            <a:ext cx="2736720" cy="1395360"/>
            <a:chOff x="2340000" y="1062000"/>
            <a:chExt cx="2736720" cy="1395360"/>
          </a:xfrm>
        </p:grpSpPr>
        <p:sp>
          <p:nvSpPr>
            <p:cNvPr id="135" name=""/>
            <p:cNvSpPr/>
            <p:nvPr/>
          </p:nvSpPr>
          <p:spPr>
            <a:xfrm>
              <a:off x="3635280" y="1062000"/>
              <a:ext cx="144360" cy="144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40000" y="1606680"/>
              <a:ext cx="2736720" cy="836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11280" y="1766880"/>
              <a:ext cx="2556000" cy="51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36720" y="16066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36720" y="2298600"/>
              <a:ext cx="14472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40000" y="23130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32360" y="23130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32360" y="159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40000" y="159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08360" y="120672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828720" y="81000"/>
            <a:ext cx="2736720" cy="1395360"/>
            <a:chOff x="828720" y="81000"/>
            <a:chExt cx="2736720" cy="1395360"/>
          </a:xfrm>
        </p:grpSpPr>
        <p:sp>
          <p:nvSpPr>
            <p:cNvPr id="146" name=""/>
            <p:cNvSpPr/>
            <p:nvPr/>
          </p:nvSpPr>
          <p:spPr>
            <a:xfrm>
              <a:off x="2124000" y="81000"/>
              <a:ext cx="144360" cy="144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28720" y="625680"/>
              <a:ext cx="2736720" cy="8366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00000" y="785880"/>
              <a:ext cx="2556000" cy="51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25440" y="6256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25440" y="1317600"/>
              <a:ext cx="14472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8720" y="13320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1080" y="13320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21080" y="612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8720" y="612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97080" y="22572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828720" y="701640"/>
            <a:ext cx="2736720" cy="6843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visiter les Pyramid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582560" y="558720"/>
            <a:ext cx="2736720" cy="1395360"/>
            <a:chOff x="1582560" y="558720"/>
            <a:chExt cx="2736720" cy="1395360"/>
          </a:xfrm>
        </p:grpSpPr>
        <p:sp>
          <p:nvSpPr>
            <p:cNvPr id="158" name=""/>
            <p:cNvSpPr/>
            <p:nvPr/>
          </p:nvSpPr>
          <p:spPr>
            <a:xfrm>
              <a:off x="2877840" y="558720"/>
              <a:ext cx="144360" cy="144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82560" y="1103040"/>
              <a:ext cx="2736720" cy="8366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53840" y="1263600"/>
              <a:ext cx="2556000" cy="51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79280" y="1103040"/>
              <a:ext cx="14472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79280" y="1795320"/>
              <a:ext cx="1447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82560" y="1809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74920" y="1809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4920" y="10904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82560" y="10904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50920" y="70308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582560" y="1177920"/>
            <a:ext cx="2737080" cy="68436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visiter les Pyramid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341440" y="1062000"/>
            <a:ext cx="2736720" cy="1395360"/>
            <a:chOff x="2341440" y="1062000"/>
            <a:chExt cx="2736720" cy="1395360"/>
          </a:xfrm>
        </p:grpSpPr>
        <p:sp>
          <p:nvSpPr>
            <p:cNvPr id="170" name=""/>
            <p:cNvSpPr/>
            <p:nvPr/>
          </p:nvSpPr>
          <p:spPr>
            <a:xfrm>
              <a:off x="3636720" y="1062000"/>
              <a:ext cx="144360" cy="144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41440" y="1606320"/>
              <a:ext cx="2736720" cy="8366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12720" y="1766880"/>
              <a:ext cx="2556000" cy="51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38160" y="1606320"/>
              <a:ext cx="14472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38160" y="22986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41440" y="23130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33800" y="23130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33800" y="1593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41440" y="1593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09800" y="120636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343240" y="1700280"/>
            <a:ext cx="2736720" cy="6840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visiter les Pyramid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41440" y="1657440"/>
            <a:ext cx="2737080" cy="68400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voir le Sphin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1440" y="-55440"/>
            <a:ext cx="287280" cy="34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2720" y="588960"/>
            <a:ext cx="28728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95280" y="1125360"/>
            <a:ext cx="28728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55960" y="1635120"/>
            <a:ext cx="28728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5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35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35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35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59259E-006 L 0.1658 2.59259E-006 E">
                                      <p:cBhvr>
                                        <p:cTn id="159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59259E-006 L 0.16563 2.59259E-006 E">
                                      <p:cBhvr>
                                        <p:cTn id="161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0.16546 -1.11111E-006 E">
                                      <p:cBhvr>
                                        <p:cTn id="163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11111E-006 L 0.16563 -1.11111E-006 E">
                                      <p:cBhvr>
                                        <p:cTn id="165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0.00717 L 0.16511 -0.00717 E">
                                      <p:cBhvr>
                                        <p:cTn id="167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84720" y="27432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0280" y="2421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quer sur le texte de l’ellipse au-dessous ainsi découverte, et écrire à la place « … descendre le Nil… 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électionner toutes les ellipses, dans la barre d’outils « Dessin », dans « aligner ou répartir », cocher « par rapport à la diapositive ». Retourner dans Aligner ou répartir, puis cliquer sur « centrer », recommencer puis cliquer sur « aligner au milieu ». Monter avec la flèche directionnelle du pavé sur le clav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-1440" y="-55440"/>
            <a:ext cx="2738160" cy="928440"/>
            <a:chOff x="-1440" y="-55440"/>
            <a:chExt cx="2738160" cy="928440"/>
          </a:xfrm>
        </p:grpSpPr>
        <p:sp>
          <p:nvSpPr>
            <p:cNvPr id="189" name=""/>
            <p:cNvSpPr/>
            <p:nvPr/>
          </p:nvSpPr>
          <p:spPr>
            <a:xfrm>
              <a:off x="0" y="189000"/>
              <a:ext cx="2736720" cy="6840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pyrus"/>
                </a:rPr>
                <a:t>En Egypte, on peut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-1440" y="-55440"/>
              <a:ext cx="287280" cy="34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12720" y="588960"/>
            <a:ext cx="2808360" cy="860400"/>
            <a:chOff x="612720" y="588960"/>
            <a:chExt cx="2808360" cy="860400"/>
          </a:xfrm>
        </p:grpSpPr>
        <p:sp>
          <p:nvSpPr>
            <p:cNvPr id="192" name=""/>
            <p:cNvSpPr/>
            <p:nvPr/>
          </p:nvSpPr>
          <p:spPr>
            <a:xfrm>
              <a:off x="684360" y="765000"/>
              <a:ext cx="2736720" cy="6843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pyrus"/>
                </a:rPr>
                <a:t>… </a:t>
              </a:r>
              <a:r>
                <a:rPr b="0" lang="en-US" sz="1200" spc="-1" strike="noStrike">
                  <a:solidFill>
                    <a:srgbClr val="000000"/>
                  </a:solidFill>
                  <a:latin typeface="Papyrus"/>
                </a:rPr>
                <a:t>visiter les Pyramides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2720" y="588960"/>
              <a:ext cx="2872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295280" y="1125360"/>
            <a:ext cx="28728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330200" y="774720"/>
            <a:ext cx="2736720" cy="1395360"/>
            <a:chOff x="1330200" y="774720"/>
            <a:chExt cx="2736720" cy="1395360"/>
          </a:xfrm>
        </p:grpSpPr>
        <p:sp>
          <p:nvSpPr>
            <p:cNvPr id="196" name=""/>
            <p:cNvSpPr/>
            <p:nvPr/>
          </p:nvSpPr>
          <p:spPr>
            <a:xfrm>
              <a:off x="2625480" y="774720"/>
              <a:ext cx="144360" cy="144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30200" y="1319400"/>
              <a:ext cx="2736720" cy="836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01480" y="1479600"/>
              <a:ext cx="2556000" cy="51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26920" y="13194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26920" y="2011320"/>
              <a:ext cx="14472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30200" y="2025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22560" y="2025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22560" y="13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30200" y="13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98560" y="91944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368360" y="1417680"/>
            <a:ext cx="2737080" cy="6840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visiter les Pyramid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780000" y="1568520"/>
            <a:ext cx="2736720" cy="852480"/>
            <a:chOff x="3780000" y="1568520"/>
            <a:chExt cx="2736720" cy="852480"/>
          </a:xfrm>
        </p:grpSpPr>
        <p:sp>
          <p:nvSpPr>
            <p:cNvPr id="208" name=""/>
            <p:cNvSpPr/>
            <p:nvPr/>
          </p:nvSpPr>
          <p:spPr>
            <a:xfrm>
              <a:off x="3780000" y="1736640"/>
              <a:ext cx="2736720" cy="68436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pyrus"/>
                </a:rPr>
                <a:t>… </a:t>
              </a:r>
              <a:r>
                <a:rPr b="0" lang="en-US" sz="1200" spc="-1" strike="noStrike">
                  <a:solidFill>
                    <a:srgbClr val="000000"/>
                  </a:solidFill>
                  <a:latin typeface="Papyrus"/>
                </a:rPr>
                <a:t>voir le Sphinx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80000" y="1568520"/>
              <a:ext cx="2872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368360" y="1417680"/>
            <a:ext cx="2737080" cy="6840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descendre le Nil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96532E-006 L 0.35052 0.44 E">
                                      <p:cBhvr>
                                        <p:cTn id="185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6.93642E-007 L 0.27951 0.35098 E">
                                      <p:cBhvr>
                                        <p:cTn id="187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94798E-006 L 0.34271 0.31029 E">
                                      <p:cBhvr>
                                        <p:cTn id="189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23699E-006 L 0.19688 0.2467 E">
                                      <p:cBhvr>
                                        <p:cTn id="191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23699E-006 L 0.19688 0.2467 E">
                                      <p:cBhvr>
                                        <p:cTn id="193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62428E-006 L -0.06684 0.20902 E">
                                      <p:cBhvr>
                                        <p:cTn id="195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052 0.44 L 0.35052 0.08902 E">
                                      <p:cBhvr>
                                        <p:cTn id="199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951 0.35098 L 0.27951 6.93642E-007 E">
                                      <p:cBhvr>
                                        <p:cTn id="201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271 0.31029 L 0.33889 -0.04069 E">
                                      <p:cBhvr>
                                        <p:cTn id="203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486 0.28508 L 0.20486 -0.0659 E">
                                      <p:cBhvr>
                                        <p:cTn id="205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69 0.24324 L 0.20069 -0.10774 E">
                                      <p:cBhvr>
                                        <p:cTn id="207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02 0.20902 L -0.06302 -0.14196 E">
                                      <p:cBhvr>
                                        <p:cTn id="209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69 0.24324 L 0.19687 -0.10774 E">
                                      <p:cBhvr>
                                        <p:cTn id="211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trois cliparts se trouvent en recherchant « Egypte » dans les collections web et sous forme d’images de la bibliothè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lécharger les trois cliparts dans l’ordre 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yramides, le Nil, le Sphin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léchargés, sélectionnés ensemble, les distribuer dans la largeur de la page comme suit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 la barre d’outils Dessin, par « Dessin / Aligner ou répartir », cocher « par rapport à la diapositive 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246560" y="6254640"/>
            <a:ext cx="650880" cy="439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227480" y="6134040"/>
            <a:ext cx="690480" cy="679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246560" y="6202440"/>
            <a:ext cx="652320" cy="54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is refaire « Dessin / Aligner ou répartir » et cliquer sur distribuer horizontalement. Les descendre un peu dans la diapositi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jours sélectionnés, leur appliquer l’effet d’ouverture « toupie ». Dans le même mouvement, programmer le début de chaque effet indépendamment : dans le volet Office en face de « Début : » cliquer « Au clic »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 ont alors les numéros d’action 5, 6 et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787400" y="6254640"/>
            <a:ext cx="650880" cy="439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226040" y="6134040"/>
            <a:ext cx="690480" cy="679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703920" y="6202440"/>
            <a:ext cx="652680" cy="54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5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5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5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 le volet Office cliquer sur l’action du premier clipart notée 5 qui se retrouve alors encadré de bleu. Cliquer dessus et laisser le doigt appuyé sur la souris pour le faire glisser après l’action 2. Décliquer ; il porte alors le numéro d’action 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éder de même pour faire glisser l’action du second clipart (notée 6) après l’action 4 ; il porte alors le numéro d’action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87400" y="6254640"/>
            <a:ext cx="650880" cy="439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226040" y="6134040"/>
            <a:ext cx="690480" cy="6796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6703920" y="6202440"/>
            <a:ext cx="652680" cy="5443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755640" y="544500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19640" y="544500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84720" y="544500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5640" y="544500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19640" y="544500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13:19:55Z</dcterms:created>
  <dc:creator>Tribouillier</dc:creator>
  <dc:description/>
  <dc:language>en-US</dc:language>
  <cp:lastModifiedBy>Tribouillier</cp:lastModifiedBy>
  <dcterms:modified xsi:type="dcterms:W3CDTF">2008-03-07T06:47:03Z</dcterms:modified>
  <cp:revision>12</cp:revision>
  <dc:subject/>
  <dc:title>Egypte version 1</dc:title>
</cp:coreProperties>
</file>