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13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jpeg" ContentType="image/jpeg"/>
  <Override PartName="/ppt/media/image18.jpeg" ContentType="image/jpeg"/>
  <Override PartName="/ppt/media/image21.wmf" ContentType="image/x-wmf"/>
  <Override PartName="/ppt/media/image1.jpeg" ContentType="image/jpeg"/>
  <Override PartName="/ppt/media/image16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media/image3.wmf" ContentType="image/x-wmf"/>
  <Override PartName="/ppt/media/image26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506-B95C-45C6-95FF-4A85CED6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A6D-5062-4CCB-92BC-9B9901F0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326-7E69-4549-8F9B-CB703885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F78-8C94-478D-8E93-57E226B0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0A48-9AC7-455D-BF94-9109E86D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DCF6-270F-4FBA-ADD7-1B2CECB9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8F18-4F6E-4554-8E6C-8A93DCD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EF53-9B2F-40EA-B5C7-7C04EC6A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CA0C-BDFA-4130-B775-2F3CA7B5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5FDB-5399-4D4A-8B48-1584C2F8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B15D-40A9-4F91-9665-42BBA8E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D96-3797-47A5-871E-25AFA1DB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A244-4D31-43E4-B26C-2A1C63C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CAB6-E937-4E77-A898-4E879FD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C1BA-4080-4E4B-8D0A-1BEE4CE5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9D4E-4A67-4874-87A3-8010BC2A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8956-AB23-4270-A1A6-EB540CE2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077-D98E-4B08-AD82-86118654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524-E05D-4452-8DC9-30BD760F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8EE-F2F9-4C7B-9D2E-DF62A571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856-1FFB-40FE-ADFF-DC413896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FE0-6B97-4F66-9FAA-C0B4B6C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BF5-A86C-4419-B26C-14B7CDC4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E7B-E32D-4CE8-B13F-8CA8795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5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244920"/>
            <a:ext cx="13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86920" y="624492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0DD0-26AE-426A-9D0D-CF7786544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0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8600" y="6244920"/>
            <a:ext cx="17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979280" y="6244920"/>
            <a:ext cx="51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59EB-CC62-4C31-8D31-9D6B99189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3.wmf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2.wmf"/><Relationship Id="rId8" Type="http://schemas.openxmlformats.org/officeDocument/2006/relationships/image" Target="../media/image26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3.wmf"/><Relationship Id="rId12" Type="http://schemas.openxmlformats.org/officeDocument/2006/relationships/image" Target="../media/image25.wmf"/><Relationship Id="rId13" Type="http://schemas.openxmlformats.org/officeDocument/2006/relationships/image" Target="../media/image25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visions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de manipulation d’obj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78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re à l’identiq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4000" y="836640"/>
            <a:ext cx="403200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53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CINEM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356000" y="3933720"/>
            <a:ext cx="403236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53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CINEM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A70-C9F6-4DC1-BB3C-8F23BF596F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960720" cy="320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788000" y="1341360"/>
            <a:ext cx="3960720" cy="32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F3F-5A8E-460F-B27D-95B010C325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35280" y="3201840"/>
            <a:ext cx="5291280" cy="346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1323" t="4174" r="26493" b="27202"/>
          <a:stretch/>
        </p:blipFill>
        <p:spPr>
          <a:xfrm>
            <a:off x="971640" y="333360"/>
            <a:ext cx="2232000" cy="23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605-7A45-41BF-9456-582B85D3DF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2492280"/>
            <a:ext cx="2698560" cy="309564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916280"/>
            <a:ext cx="2880000" cy="3744720"/>
          </a:xfrm>
          <a:prstGeom prst="flowChartMagneticDisk">
            <a:avLst/>
          </a:prstGeom>
          <a:solidFill>
            <a:srgbClr val="bbe0e3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02360" y="1916280"/>
            <a:ext cx="2879640" cy="3744720"/>
          </a:xfrm>
          <a:prstGeom prst="flowChartMagneticDisk">
            <a:avLst/>
          </a:prstGeom>
          <a:solidFill>
            <a:srgbClr val="bbe0e3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2492280"/>
            <a:ext cx="2698920" cy="3095640"/>
          </a:xfrm>
          <a:prstGeom prst="flowChartMagneticDisk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51E-04A7-4970-90C6-936A70B8988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06560" y="1954080"/>
            <a:ext cx="2808360" cy="28800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292720" y="1988640"/>
            <a:ext cx="2879640" cy="2808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BDB-3204-4F61-9708-E5DBBFE177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1628640"/>
            <a:ext cx="4176720" cy="2737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8200" y="1916280"/>
            <a:ext cx="3457440" cy="216036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torou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1628640"/>
            <a:ext cx="4176720" cy="2737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1916280"/>
            <a:ext cx="3457800" cy="2160360"/>
          </a:xfrm>
          <a:custGeom>
            <a:avLst/>
            <a:gdLst>
              <a:gd name="textAreaLeft" fmla="*/ 0 w 3457800"/>
              <a:gd name="textAreaRight" fmla="*/ 3458160 w 345780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8A3-7A0D-4A34-A74C-4B33455069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268280"/>
            <a:ext cx="3457440" cy="3384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Edwardian Script ITC"/>
              </a:rPr>
              <a:t>Oyé, oyé 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Edwardian Script ITC"/>
              </a:rPr>
              <a:t>Bonnes 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268280"/>
            <a:ext cx="3457800" cy="3384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yé, oyé 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Bonnes 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DDA-8695-429B-BAA7-BA48FBA2CC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489480" y="1343160"/>
            <a:ext cx="1728720" cy="7905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ho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1343160"/>
            <a:ext cx="1728720" cy="79056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89480" y="2925720"/>
            <a:ext cx="1728720" cy="79056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l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925720"/>
            <a:ext cx="1728720" cy="7905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2925720"/>
            <a:ext cx="1728720" cy="79056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4510080"/>
            <a:ext cx="1728720" cy="7905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89480" y="4510080"/>
            <a:ext cx="1728720" cy="79056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4" idx="2"/>
            <a:endCxn id="163" idx="2"/>
          </p:cNvCxnSpPr>
          <p:nvPr/>
        </p:nvCxnSpPr>
        <p:spPr>
          <a:xfrm flipH="1" rot="16200000">
            <a:off x="3274200" y="1055520"/>
            <a:ext cx="2160" cy="21582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7" idx="0"/>
            <a:endCxn id="165" idx="0"/>
          </p:cNvCxnSpPr>
          <p:nvPr/>
        </p:nvCxnSpPr>
        <p:spPr>
          <a:xfrm flipH="1" rot="16200000">
            <a:off x="3274560" y="1846800"/>
            <a:ext cx="2520" cy="2158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/>
          <p:nvPr/>
        </p:nvCxnSpPr>
        <p:spPr>
          <a:xfrm flipV="1">
            <a:off x="3276360" y="234864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C4C-7F39-4B60-923B-4580244D38D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47640" y="1936800"/>
            <a:ext cx="1914840" cy="1492200"/>
          </a:xfrm>
          <a:prstGeom prst="rect">
            <a:avLst/>
          </a:prstGeom>
          <a:ln w="0">
            <a:noFill/>
          </a:ln>
          <a:effectLst>
            <a:outerShdw dist="927307" dir="3995992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1936800"/>
            <a:ext cx="1914480" cy="149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F13-25F6-4FDD-8D6B-4F65D603768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1193760" cy="1866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flipH="1">
            <a:off x="6691320" y="2565360"/>
            <a:ext cx="1193760" cy="1866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95640" y="836640"/>
            <a:ext cx="1800000" cy="144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jou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ça v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836640"/>
            <a:ext cx="1800000" cy="1441440"/>
          </a:xfrm>
          <a:prstGeom prst="wedgeEllipseCallout">
            <a:avLst>
              <a:gd name="adj1" fmla="val -156879"/>
              <a:gd name="adj2" fmla="val 87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i merci, et vous-mêm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57B-618A-4CD7-8AC8-188CA2C5834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1916280"/>
            <a:ext cx="3095640" cy="3095280"/>
          </a:xfrm>
          <a:prstGeom prst="star5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1916280"/>
            <a:ext cx="1297080" cy="3095280"/>
          </a:xfrm>
          <a:prstGeom prst="star5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971-9806-4ED1-BA8E-2FE245D5D07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63800" y="2643120"/>
            <a:ext cx="2577960" cy="3024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603520" y="1305000"/>
            <a:ext cx="1539720" cy="1841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227640" y="4365720"/>
            <a:ext cx="1724040" cy="2022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919920" y="1305000"/>
            <a:ext cx="1539720" cy="184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055-A58A-44EA-9611-21EBF43E174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11280" y="1079640"/>
            <a:ext cx="3571920" cy="5013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260360" y="2664000"/>
            <a:ext cx="16542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932360" y="2664000"/>
            <a:ext cx="16542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956120" y="2664000"/>
            <a:ext cx="1630440" cy="228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A88-C7CA-45B1-AAD1-A451B00F3AF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06560" y="836640"/>
            <a:ext cx="1800000" cy="43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4920" y="1700280"/>
            <a:ext cx="863640" cy="1006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66920" y="3500280"/>
            <a:ext cx="1079280" cy="1079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33480" y="2490840"/>
            <a:ext cx="1944720" cy="7221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55640" y="4184640"/>
            <a:ext cx="503280" cy="136836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1655640" y="2922480"/>
            <a:ext cx="503280" cy="26305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1330920" y="2273760"/>
            <a:ext cx="1150920" cy="201600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4200" y="836640"/>
            <a:ext cx="503280" cy="1368360"/>
          </a:xfrm>
          <a:prstGeom prst="diamond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66000" y="873000"/>
            <a:ext cx="1800000" cy="432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26360" y="1736640"/>
            <a:ext cx="863280" cy="100656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26360" y="3537000"/>
            <a:ext cx="1079280" cy="10792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21280" y="2527200"/>
            <a:ext cx="1944720" cy="72252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4920" y="4221000"/>
            <a:ext cx="503280" cy="1368720"/>
          </a:xfrm>
          <a:prstGeom prst="diamond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6750000" y="2958840"/>
            <a:ext cx="503280" cy="26305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6211080" y="2310120"/>
            <a:ext cx="1150920" cy="2016360"/>
          </a:xfrm>
          <a:prstGeom prst="diamond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4000" y="873000"/>
            <a:ext cx="503280" cy="1368720"/>
          </a:xfrm>
          <a:prstGeom prst="diamond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6560" y="549360"/>
            <a:ext cx="0" cy="5327640"/>
          </a:xfrm>
          <a:prstGeom prst="line">
            <a:avLst/>
          </a:prstGeom>
          <a:ln cap="rnd" w="108000">
            <a:solidFill>
              <a:srgbClr val="eec1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036920" y="549360"/>
            <a:ext cx="17640" cy="5327640"/>
          </a:xfrm>
          <a:prstGeom prst="line">
            <a:avLst/>
          </a:prstGeom>
          <a:ln cap="rnd" w="108000">
            <a:solidFill>
              <a:srgbClr val="eec1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D68-622A-49DE-9A7B-B71804E6EBC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21284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42424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363708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84812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06096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272360" y="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377820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399420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421020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442584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464184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4857840" y="4032360"/>
            <a:ext cx="1871640" cy="2852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4"/>
          <a:stretch/>
        </p:blipFill>
        <p:spPr>
          <a:xfrm>
            <a:off x="5073480" y="4032360"/>
            <a:ext cx="1872000" cy="28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E25-CDB2-4C86-948D-D9859600B1B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24000" y="549360"/>
          <a:ext cx="3527280" cy="360036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1175760"/>
              </a:tblGrid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68360" y="765000"/>
            <a:ext cx="79200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1916280"/>
            <a:ext cx="792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3141720"/>
            <a:ext cx="792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40040" y="1844280"/>
            <a:ext cx="793800" cy="958680"/>
            <a:chOff x="2840040" y="1844280"/>
            <a:chExt cx="793800" cy="958680"/>
          </a:xfrm>
        </p:grpSpPr>
        <p:sp>
          <p:nvSpPr>
            <p:cNvPr id="224" name=""/>
            <p:cNvSpPr/>
            <p:nvPr/>
          </p:nvSpPr>
          <p:spPr>
            <a:xfrm flipV="1">
              <a:off x="2841840" y="1844280"/>
              <a:ext cx="792000" cy="95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0040" y="1928880"/>
              <a:ext cx="79236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841480" y="705960"/>
            <a:ext cx="793800" cy="958680"/>
            <a:chOff x="2841480" y="705960"/>
            <a:chExt cx="793800" cy="958680"/>
          </a:xfrm>
        </p:grpSpPr>
        <p:sp>
          <p:nvSpPr>
            <p:cNvPr id="227" name=""/>
            <p:cNvSpPr/>
            <p:nvPr/>
          </p:nvSpPr>
          <p:spPr>
            <a:xfrm flipV="1">
              <a:off x="2843280" y="705960"/>
              <a:ext cx="792000" cy="95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41480" y="790560"/>
              <a:ext cx="79236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5219640" y="1844640"/>
          <a:ext cx="3527640" cy="360036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1176120"/>
              </a:tblGrid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5364000" y="2060640"/>
            <a:ext cx="79236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3211560"/>
            <a:ext cx="79236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38920" y="4437000"/>
            <a:ext cx="79236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736040" y="3139560"/>
            <a:ext cx="793080" cy="958680"/>
            <a:chOff x="7736040" y="3139560"/>
            <a:chExt cx="793080" cy="958680"/>
          </a:xfrm>
        </p:grpSpPr>
        <p:sp>
          <p:nvSpPr>
            <p:cNvPr id="234" name=""/>
            <p:cNvSpPr/>
            <p:nvPr/>
          </p:nvSpPr>
          <p:spPr>
            <a:xfrm flipV="1">
              <a:off x="7737480" y="3139560"/>
              <a:ext cx="791640" cy="95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36040" y="3224160"/>
              <a:ext cx="79200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737480" y="2001600"/>
            <a:ext cx="793800" cy="958680"/>
            <a:chOff x="7737480" y="2001600"/>
            <a:chExt cx="793800" cy="958680"/>
          </a:xfrm>
        </p:grpSpPr>
        <p:sp>
          <p:nvSpPr>
            <p:cNvPr id="237" name=""/>
            <p:cNvSpPr/>
            <p:nvPr/>
          </p:nvSpPr>
          <p:spPr>
            <a:xfrm flipV="1">
              <a:off x="7739280" y="2001600"/>
              <a:ext cx="792000" cy="95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37480" y="2086200"/>
              <a:ext cx="79236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4F5-1B96-4AB8-8E3C-80D7D9F3F4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24200" y="1197000"/>
            <a:ext cx="1774800" cy="1866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8120" y="1450800"/>
            <a:ext cx="1756080" cy="186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157480" y="2738520"/>
            <a:ext cx="1539720" cy="1825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61800" y="2365200"/>
            <a:ext cx="1756080" cy="1864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052640" y="331488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361800" y="364968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610320" y="1222200"/>
            <a:ext cx="1774800" cy="1866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6453360" y="1832040"/>
            <a:ext cx="1076040" cy="1838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4854600" y="1476360"/>
            <a:ext cx="1755720" cy="1863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6843600" y="2763720"/>
            <a:ext cx="1540080" cy="1825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5048280" y="2390760"/>
            <a:ext cx="1755720" cy="1863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2"/>
          <a:stretch/>
        </p:blipFill>
        <p:spPr>
          <a:xfrm>
            <a:off x="6610320" y="350028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3"/>
          <a:stretch/>
        </p:blipFill>
        <p:spPr>
          <a:xfrm>
            <a:off x="5738760" y="334008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4"/>
          <a:stretch/>
        </p:blipFill>
        <p:spPr>
          <a:xfrm>
            <a:off x="5048280" y="3675240"/>
            <a:ext cx="133668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5"/>
          <a:stretch/>
        </p:blipFill>
        <p:spPr>
          <a:xfrm>
            <a:off x="6804000" y="2390760"/>
            <a:ext cx="1076400" cy="18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E86-C98A-4A3B-AA32-D5E40C4BD87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6093000"/>
            <a:ext cx="1908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fini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ndez-vous sur le site à « http://pagesperso-orange.fr/apprendreppt/page2.htm » pour voir les solutions si beso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E5E-C892-4F19-8DEC-963CF162A64E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1628640"/>
            <a:ext cx="3167280" cy="3600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1628640"/>
            <a:ext cx="3167280" cy="360072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FB8-5F0B-4776-8D7E-1DDC00D6F5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1080" y="1077840"/>
            <a:ext cx="4259160" cy="4427640"/>
          </a:xfrm>
          <a:custGeom>
            <a:avLst/>
            <a:gdLst/>
            <a:ahLst/>
            <a:rect l="l" t="t" r="r" b="b"/>
            <a:pathLst>
              <a:path w="2683" h="2789">
                <a:moveTo>
                  <a:pt x="1496" y="392"/>
                </a:moveTo>
                <a:cubicBezTo>
                  <a:pt x="1152" y="196"/>
                  <a:pt x="808" y="0"/>
                  <a:pt x="589" y="211"/>
                </a:cubicBezTo>
                <a:cubicBezTo>
                  <a:pt x="370" y="422"/>
                  <a:pt x="0" y="1239"/>
                  <a:pt x="181" y="1662"/>
                </a:cubicBezTo>
                <a:cubicBezTo>
                  <a:pt x="362" y="2085"/>
                  <a:pt x="1276" y="2789"/>
                  <a:pt x="1677" y="2751"/>
                </a:cubicBezTo>
                <a:cubicBezTo>
                  <a:pt x="2078" y="2713"/>
                  <a:pt x="2683" y="1678"/>
                  <a:pt x="2585" y="1436"/>
                </a:cubicBezTo>
                <a:cubicBezTo>
                  <a:pt x="2487" y="1194"/>
                  <a:pt x="1787" y="1247"/>
                  <a:pt x="1088" y="1300"/>
                </a:cubicBezTo>
              </a:path>
            </a:pathLst>
          </a:custGeom>
          <a:noFill/>
          <a:ln w="63360">
            <a:solidFill>
              <a:srgbClr val="60a8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052640"/>
            <a:ext cx="4124160" cy="4427280"/>
          </a:xfrm>
          <a:custGeom>
            <a:avLst/>
            <a:gdLst/>
            <a:ahLst/>
            <a:rect l="l" t="t" r="r" b="b"/>
            <a:pathLst>
              <a:path w="2598" h="2789">
                <a:moveTo>
                  <a:pt x="1496" y="392"/>
                </a:moveTo>
                <a:cubicBezTo>
                  <a:pt x="1152" y="196"/>
                  <a:pt x="808" y="0"/>
                  <a:pt x="589" y="211"/>
                </a:cubicBezTo>
                <a:cubicBezTo>
                  <a:pt x="370" y="422"/>
                  <a:pt x="0" y="1239"/>
                  <a:pt x="181" y="1662"/>
                </a:cubicBezTo>
                <a:cubicBezTo>
                  <a:pt x="362" y="2085"/>
                  <a:pt x="1276" y="2789"/>
                  <a:pt x="1677" y="2751"/>
                </a:cubicBezTo>
                <a:cubicBezTo>
                  <a:pt x="2078" y="2713"/>
                  <a:pt x="2598" y="1817"/>
                  <a:pt x="2585" y="1436"/>
                </a:cubicBezTo>
                <a:cubicBezTo>
                  <a:pt x="2572" y="1055"/>
                  <a:pt x="1804" y="668"/>
                  <a:pt x="1599" y="466"/>
                </a:cubicBezTo>
              </a:path>
            </a:pathLst>
          </a:custGeom>
          <a:noFill/>
          <a:ln w="63360">
            <a:solidFill>
              <a:srgbClr val="60a8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669-5261-4D41-9413-A47A64CE04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8920" y="2133720"/>
            <a:ext cx="2736720" cy="2388960"/>
          </a:xfrm>
          <a:custGeom>
            <a:avLst/>
            <a:gdLst>
              <a:gd name="textAreaLeft" fmla="*/ 642960 w 2736720"/>
              <a:gd name="textAreaRight" fmla="*/ 2091600 w 2736720"/>
              <a:gd name="textAreaTop" fmla="*/ 280800 h 2388960"/>
              <a:gd name="textAreaBottom" fmla="*/ 1498680 h 238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2133720"/>
            <a:ext cx="2737080" cy="2388960"/>
          </a:xfrm>
          <a:custGeom>
            <a:avLst/>
            <a:gdLst>
              <a:gd name="textAreaLeft" fmla="*/ 643320 w 2737080"/>
              <a:gd name="textAreaRight" fmla="*/ 2091960 w 2737080"/>
              <a:gd name="textAreaTop" fmla="*/ 280800 h 2388960"/>
              <a:gd name="textAreaBottom" fmla="*/ 1498680 h 238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305-310A-4406-8FF4-509DB3B1EF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0560" y="1989000"/>
            <a:ext cx="2449800" cy="3600720"/>
          </a:xfrm>
          <a:prstGeom prst="rightArrow">
            <a:avLst>
              <a:gd name="adj1" fmla="val 59704"/>
              <a:gd name="adj2" fmla="val 42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1989000"/>
            <a:ext cx="2449440" cy="3600720"/>
          </a:xfrm>
          <a:prstGeom prst="rightArrow">
            <a:avLst>
              <a:gd name="adj1" fmla="val 19046"/>
              <a:gd name="adj2" fmla="val 42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FE4-C4DA-4AD7-888B-80DDDB42B2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360" y="1989000"/>
            <a:ext cx="3095640" cy="3024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1989000"/>
            <a:ext cx="3095640" cy="3024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8E7-02B0-4D04-8B37-9380990920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71640" y="3395520"/>
            <a:ext cx="1366920" cy="219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5040" y="1072440"/>
            <a:ext cx="4232880" cy="2889360"/>
            <a:chOff x="275040" y="1072440"/>
            <a:chExt cx="4232880" cy="2889360"/>
          </a:xfrm>
        </p:grpSpPr>
        <p:sp>
          <p:nvSpPr>
            <p:cNvPr id="99" name=""/>
            <p:cNvSpPr/>
            <p:nvPr/>
          </p:nvSpPr>
          <p:spPr>
            <a:xfrm rot="220800">
              <a:off x="355320" y="1200240"/>
              <a:ext cx="4071960" cy="2633400"/>
            </a:xfrm>
            <a:prstGeom prst="cloudCallout">
              <a:avLst>
                <a:gd name="adj1" fmla="val -7356"/>
                <a:gd name="adj2" fmla="val 22273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0a8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834120" y="2345040"/>
              <a:ext cx="476280" cy="555120"/>
              <a:chOff x="834120" y="2345040"/>
              <a:chExt cx="476280" cy="555120"/>
            </a:xfrm>
          </p:grpSpPr>
          <p:sp>
            <p:nvSpPr>
              <p:cNvPr id="101" name=""/>
              <p:cNvSpPr/>
              <p:nvPr/>
            </p:nvSpPr>
            <p:spPr>
              <a:xfrm rot="17575200">
                <a:off x="883800" y="2477880"/>
                <a:ext cx="376560" cy="357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4217600">
                <a:off x="871560" y="241128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0582400">
                <a:off x="847440" y="246852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058920" y="2437560"/>
              <a:ext cx="410040" cy="476280"/>
              <a:chOff x="3058920" y="2437560"/>
              <a:chExt cx="410040" cy="476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058920" y="2538000"/>
                <a:ext cx="358560" cy="375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8242400">
                <a:off x="3286440" y="2508480"/>
                <a:ext cx="20232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3006600">
                <a:off x="3227400" y="2508120"/>
                <a:ext cx="202320" cy="59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811520" y="2915280"/>
              <a:ext cx="408960" cy="478080"/>
              <a:chOff x="1811520" y="2915280"/>
              <a:chExt cx="408960" cy="47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1811520" y="3016080"/>
                <a:ext cx="357120" cy="377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8242400">
                <a:off x="2037600" y="298620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3006600">
                <a:off x="1978200" y="298656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797200" y="1521720"/>
              <a:ext cx="507600" cy="587880"/>
              <a:chOff x="2797200" y="1521720"/>
              <a:chExt cx="507600" cy="587880"/>
            </a:xfrm>
          </p:grpSpPr>
          <p:sp>
            <p:nvSpPr>
              <p:cNvPr id="113" name=""/>
              <p:cNvSpPr/>
              <p:nvPr/>
            </p:nvSpPr>
            <p:spPr>
              <a:xfrm rot="18246600">
                <a:off x="2862360" y="1674360"/>
                <a:ext cx="376920" cy="357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889000">
                <a:off x="2894040" y="159156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1253800">
                <a:off x="2859480" y="1642680"/>
                <a:ext cx="192240" cy="622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512000" y="1828080"/>
              <a:ext cx="410040" cy="478080"/>
              <a:chOff x="1512000" y="1828080"/>
              <a:chExt cx="410040" cy="47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1512000" y="1928880"/>
                <a:ext cx="358560" cy="377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8242400">
                <a:off x="1739160" y="189900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006600">
                <a:off x="1679760" y="1898640"/>
                <a:ext cx="203040" cy="59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6159600" y="3395520"/>
            <a:ext cx="1366560" cy="219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62640" y="1072440"/>
            <a:ext cx="4232880" cy="2889360"/>
            <a:chOff x="4562640" y="1072440"/>
            <a:chExt cx="4232880" cy="2889360"/>
          </a:xfrm>
        </p:grpSpPr>
        <p:sp>
          <p:nvSpPr>
            <p:cNvPr id="122" name=""/>
            <p:cNvSpPr/>
            <p:nvPr/>
          </p:nvSpPr>
          <p:spPr>
            <a:xfrm rot="220800">
              <a:off x="4642920" y="1200240"/>
              <a:ext cx="4071960" cy="2633400"/>
            </a:xfrm>
            <a:prstGeom prst="cloudCallout">
              <a:avLst>
                <a:gd name="adj1" fmla="val -7356"/>
                <a:gd name="adj2" fmla="val 22273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0a82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121720" y="2345040"/>
              <a:ext cx="476280" cy="555120"/>
              <a:chOff x="5121720" y="2345040"/>
              <a:chExt cx="476280" cy="555120"/>
            </a:xfrm>
          </p:grpSpPr>
          <p:sp>
            <p:nvSpPr>
              <p:cNvPr id="124" name=""/>
              <p:cNvSpPr/>
              <p:nvPr/>
            </p:nvSpPr>
            <p:spPr>
              <a:xfrm rot="17575200">
                <a:off x="5171400" y="2477880"/>
                <a:ext cx="376560" cy="357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4217600">
                <a:off x="5159160" y="241128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582400">
                <a:off x="5135040" y="246852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346520" y="2437560"/>
              <a:ext cx="410040" cy="476280"/>
              <a:chOff x="7346520" y="2437560"/>
              <a:chExt cx="410040" cy="476280"/>
            </a:xfrm>
          </p:grpSpPr>
          <p:sp>
            <p:nvSpPr>
              <p:cNvPr id="128" name=""/>
              <p:cNvSpPr/>
              <p:nvPr/>
            </p:nvSpPr>
            <p:spPr>
              <a:xfrm>
                <a:off x="7346520" y="2538000"/>
                <a:ext cx="358560" cy="375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242400">
                <a:off x="7574040" y="2508480"/>
                <a:ext cx="20232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006600">
                <a:off x="7515000" y="2508120"/>
                <a:ext cx="202320" cy="59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099120" y="2915280"/>
              <a:ext cx="408960" cy="478080"/>
              <a:chOff x="6099120" y="2915280"/>
              <a:chExt cx="408960" cy="47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6099120" y="3016080"/>
                <a:ext cx="357120" cy="377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8242400">
                <a:off x="6325200" y="298620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006600">
                <a:off x="6265800" y="298656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084800" y="1521720"/>
              <a:ext cx="507600" cy="587880"/>
              <a:chOff x="7084800" y="1521720"/>
              <a:chExt cx="507600" cy="587880"/>
            </a:xfrm>
          </p:grpSpPr>
          <p:sp>
            <p:nvSpPr>
              <p:cNvPr id="136" name=""/>
              <p:cNvSpPr/>
              <p:nvPr/>
            </p:nvSpPr>
            <p:spPr>
              <a:xfrm rot="18246600">
                <a:off x="7149960" y="1674360"/>
                <a:ext cx="376920" cy="35784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4889000">
                <a:off x="7181640" y="1591560"/>
                <a:ext cx="192240" cy="61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253800">
                <a:off x="7147080" y="1642680"/>
                <a:ext cx="192240" cy="622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799600" y="1828080"/>
              <a:ext cx="410040" cy="478080"/>
              <a:chOff x="5799600" y="1828080"/>
              <a:chExt cx="410040" cy="478080"/>
            </a:xfrm>
          </p:grpSpPr>
          <p:sp>
            <p:nvSpPr>
              <p:cNvPr id="140" name=""/>
              <p:cNvSpPr/>
              <p:nvPr/>
            </p:nvSpPr>
            <p:spPr>
              <a:xfrm>
                <a:off x="5799600" y="1928880"/>
                <a:ext cx="358560" cy="37728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8242400">
                <a:off x="6026760" y="1899000"/>
                <a:ext cx="203040" cy="586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006600">
                <a:off x="5967360" y="1898640"/>
                <a:ext cx="203040" cy="59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AFC-38D8-4107-B1F8-32B81E26C75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1773360"/>
            <a:ext cx="3673440" cy="275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1773360"/>
            <a:ext cx="3673440" cy="2754360"/>
          </a:xfrm>
          <a:prstGeom prst="ellipse">
            <a:avLst/>
          </a:prstGeom>
          <a:solidFill>
            <a:srgbClr val="bbe0e3"/>
          </a:solidFill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erc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5A6-66C3-4882-A630-3499DAFF047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7:28:55Z</dcterms:created>
  <dc:creator>Tribouillier</dc:creator>
  <dc:description/>
  <dc:language>en-US</dc:language>
  <cp:lastModifiedBy>Tribouillier</cp:lastModifiedBy>
  <dcterms:modified xsi:type="dcterms:W3CDTF">2008-02-09T09:54:24Z</dcterms:modified>
  <cp:revision>70</cp:revision>
  <dc:subject/>
  <dc:title>Diapositive 1</dc:title>
</cp:coreProperties>
</file>