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6.jpeg" ContentType="image/jpeg"/>
  <Override PartName="/ppt/media/image9.wmf" ContentType="image/x-wmf"/>
  <Override PartName="/ppt/media/image5.jpeg" ContentType="image/jpeg"/>
  <Override PartName="/ppt/media/image13.jpeg" ContentType="image/jpeg"/>
  <Override PartName="/ppt/media/image24.wmf" ContentType="image/x-wmf"/>
  <Override PartName="/ppt/media/image23.wmf" ContentType="image/x-wmf"/>
  <Override PartName="/ppt/media/image22.wmf" ContentType="image/x-wmf"/>
  <Override PartName="/ppt/media/image19.jpeg" ContentType="image/jpeg"/>
  <Override PartName="/ppt/media/image18.jpeg" ContentType="image/jpeg"/>
  <Override PartName="/ppt/media/image21.wmf" ContentType="image/x-wmf"/>
  <Override PartName="/ppt/media/image1.jpeg" ContentType="image/jpeg"/>
  <Override PartName="/ppt/media/image16.jpeg" ContentType="image/jpeg"/>
  <Override PartName="/ppt/media/image14.jpeg" ContentType="image/jpeg"/>
  <Override PartName="/ppt/media/image25.wmf" ContentType="image/x-wmf"/>
  <Override PartName="/ppt/media/image2.jpeg" ContentType="image/jpeg"/>
  <Override PartName="/ppt/media/image3.wmf" ContentType="image/x-wmf"/>
  <Override PartName="/ppt/media/image26.wmf" ContentType="image/x-wmf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FCB4-2748-474B-AC5B-F411B9381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0721-2439-4CF7-BD85-FA99E19A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5668-737C-40FE-BA3F-670FC3F3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C9CF-96A6-4BEB-9D94-A6A7832F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51FA-1EEE-4EA1-ADA9-98FBA1E65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8E8B-45D4-4F11-B704-123A76C7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3C21-C0AF-4DE2-BD88-7810634B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8639-F630-4454-A6B8-71921DF9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080F-518D-4B9E-AFF6-146E01BE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DF41-6EBE-4905-8703-3A469199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ED9A-FF89-45F8-98D0-EA939C04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5451-167B-4A3C-A201-60FF1115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7DC8-97FD-486E-99BC-42622D05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BCEE-08AE-4EE9-A766-1E085EFF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3B40-9BE6-491C-8495-680CF2AB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544C-5A6C-408C-B769-F1C104B92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F038-9AD2-437E-8F2E-DA2D78A7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4524-3F15-4F78-90F6-9BD36982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B78F-898D-4064-B6E8-9CFE0CCD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56B0-D2C8-4210-9D62-7C4872E3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8CCA-E559-4DBA-A363-00990388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A3FE-19F6-4419-82C9-9A438EB5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CE41-D2A5-4161-947D-0DB24844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BB62-E8B6-4269-BB39-521D8E4E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9564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0560" y="6244920"/>
            <a:ext cx="1368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86920" y="624492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8C72-0BBB-451C-9CF9-3FABD61282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02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28600" y="6244920"/>
            <a:ext cx="1751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1979280" y="6244920"/>
            <a:ext cx="517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F98F-8B25-41C4-A234-4A285386FD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0.jpeg"/><Relationship Id="rId1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image" Target="../media/image21.wmf"/><Relationship Id="rId6" Type="http://schemas.openxmlformats.org/officeDocument/2006/relationships/image" Target="../media/image21.wmf"/><Relationship Id="rId7" Type="http://schemas.openxmlformats.org/officeDocument/2006/relationships/image" Target="../media/image21.wmf"/><Relationship Id="rId8" Type="http://schemas.openxmlformats.org/officeDocument/2006/relationships/image" Target="../media/image21.wmf"/><Relationship Id="rId9" Type="http://schemas.openxmlformats.org/officeDocument/2006/relationships/image" Target="../media/image21.wmf"/><Relationship Id="rId10" Type="http://schemas.openxmlformats.org/officeDocument/2006/relationships/image" Target="../media/image21.wmf"/><Relationship Id="rId11" Type="http://schemas.openxmlformats.org/officeDocument/2006/relationships/image" Target="../media/image21.wmf"/><Relationship Id="rId12" Type="http://schemas.openxmlformats.org/officeDocument/2006/relationships/image" Target="../media/image21.wmf"/><Relationship Id="rId13" Type="http://schemas.openxmlformats.org/officeDocument/2006/relationships/image" Target="../media/image21.wmf"/><Relationship Id="rId14" Type="http://schemas.openxmlformats.org/officeDocument/2006/relationships/image" Target="../media/image21.wmf"/><Relationship Id="rId1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3.wmf"/><Relationship Id="rId5" Type="http://schemas.openxmlformats.org/officeDocument/2006/relationships/image" Target="../media/image25.wmf"/><Relationship Id="rId6" Type="http://schemas.openxmlformats.org/officeDocument/2006/relationships/image" Target="../media/image25.wmf"/><Relationship Id="rId7" Type="http://schemas.openxmlformats.org/officeDocument/2006/relationships/image" Target="../media/image22.wmf"/><Relationship Id="rId8" Type="http://schemas.openxmlformats.org/officeDocument/2006/relationships/image" Target="../media/image26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image" Target="../media/image23.wmf"/><Relationship Id="rId12" Type="http://schemas.openxmlformats.org/officeDocument/2006/relationships/image" Target="../media/image25.wmf"/><Relationship Id="rId13" Type="http://schemas.openxmlformats.org/officeDocument/2006/relationships/image" Target="../media/image25.wmf"/><Relationship Id="rId14" Type="http://schemas.openxmlformats.org/officeDocument/2006/relationships/image" Target="../media/image25.wmf"/><Relationship Id="rId15" Type="http://schemas.openxmlformats.org/officeDocument/2006/relationships/image" Target="../media/image26.wmf"/><Relationship Id="rId1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visions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de manipulation d’obj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278136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dre à l’identiqu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24000" y="836640"/>
            <a:ext cx="4032000" cy="216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536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</a:rPr>
              <a:t>CINEMA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fff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356000" y="3933720"/>
            <a:ext cx="4032360" cy="216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536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</a:rPr>
              <a:t>CINEMA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fff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6D01-E09C-41DC-84BF-E79D81E7BEE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3960720" cy="3202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788000" y="1341360"/>
            <a:ext cx="3960720" cy="320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4889-058C-43A5-B573-51789583F61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635280" y="3201840"/>
            <a:ext cx="5291280" cy="3461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rcRect l="31323" t="4174" r="26493" b="27202"/>
          <a:stretch/>
        </p:blipFill>
        <p:spPr>
          <a:xfrm>
            <a:off x="971640" y="333360"/>
            <a:ext cx="2232000" cy="237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34F4-0A5A-4651-BFEA-9D1798AE0F3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90720" y="2492280"/>
            <a:ext cx="2698560" cy="3095640"/>
          </a:xfrm>
          <a:prstGeom prst="flowChartMagneticDisk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1916280"/>
            <a:ext cx="2880000" cy="3744720"/>
          </a:xfrm>
          <a:prstGeom prst="flowChartMagneticDisk">
            <a:avLst/>
          </a:prstGeom>
          <a:solidFill>
            <a:srgbClr val="bbe0e3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02360" y="1916280"/>
            <a:ext cx="2879640" cy="3744720"/>
          </a:xfrm>
          <a:prstGeom prst="flowChartMagneticDisk">
            <a:avLst/>
          </a:prstGeom>
          <a:solidFill>
            <a:srgbClr val="bbe0e3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92720" y="2492280"/>
            <a:ext cx="2698920" cy="3095640"/>
          </a:xfrm>
          <a:prstGeom prst="flowChartMagneticDisk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731C-FEE0-4F0D-8A8E-3AE12CD084F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006560" y="1954080"/>
            <a:ext cx="2808360" cy="288000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292720" y="1988640"/>
            <a:ext cx="2879640" cy="280836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6884-28C1-41A0-8F2F-F6CE0D57779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50920" y="1628640"/>
            <a:ext cx="4176720" cy="2737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2737080"/>
              <a:gd name="textAreaBottom" fmla="*/ 2737440 h 27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8200" y="1916280"/>
            <a:ext cx="3457440" cy="2160360"/>
          </a:xfrm>
          <a:custGeom>
            <a:avLst/>
            <a:gdLst>
              <a:gd name="textAreaLeft" fmla="*/ 0 w 3457440"/>
              <a:gd name="textAreaRight" fmla="*/ 3457800 w 3457440"/>
              <a:gd name="textAreaTop" fmla="*/ 0 h 2160360"/>
              <a:gd name="textAreaBottom" fmla="*/ 216072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utorou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16360" y="1628640"/>
            <a:ext cx="4176720" cy="2737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2737080"/>
              <a:gd name="textAreaBottom" fmla="*/ 2737440 h 27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03640" y="1916280"/>
            <a:ext cx="3457800" cy="2160360"/>
          </a:xfrm>
          <a:custGeom>
            <a:avLst/>
            <a:gdLst>
              <a:gd name="textAreaLeft" fmla="*/ 0 w 3457800"/>
              <a:gd name="textAreaRight" fmla="*/ 3458160 w 3457800"/>
              <a:gd name="textAreaTop" fmla="*/ 0 h 2160360"/>
              <a:gd name="textAreaBottom" fmla="*/ 216072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D61D-C1F3-43D9-920E-2BA5CCB7B38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11280" y="1268280"/>
            <a:ext cx="3457440" cy="3384720"/>
          </a:xfrm>
          <a:prstGeom prst="vertic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Edwardian Script ITC"/>
              </a:rPr>
              <a:t>Oyé, oyé </a:t>
            </a: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Edwardian Script ITC"/>
              </a:rPr>
              <a:t>Bonnes 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59280" y="1268280"/>
            <a:ext cx="3457800" cy="338472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Oyé, oyé </a:t>
            </a: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Bonnes 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3C2C-7986-4A23-B02E-1B6026D189B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489480" y="1343160"/>
            <a:ext cx="1728720" cy="7905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nho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32000" y="1343160"/>
            <a:ext cx="1728720" cy="790560"/>
          </a:xfrm>
          <a:prstGeom prst="flowChart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89480" y="2925720"/>
            <a:ext cx="1728720" cy="790560"/>
          </a:xfrm>
          <a:prstGeom prst="flowChart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ol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51640" y="2925720"/>
            <a:ext cx="1728720" cy="7905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32000" y="2925720"/>
            <a:ext cx="1728720" cy="790560"/>
          </a:xfrm>
          <a:prstGeom prst="flowChart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651640" y="4510080"/>
            <a:ext cx="1728720" cy="7905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89480" y="4510080"/>
            <a:ext cx="1728720" cy="790560"/>
          </a:xfrm>
          <a:prstGeom prst="flowChart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"/>
          <p:cNvCxnSpPr>
            <a:stCxn id="164" idx="2"/>
            <a:endCxn id="163" idx="2"/>
          </p:cNvCxnSpPr>
          <p:nvPr/>
        </p:nvCxnSpPr>
        <p:spPr>
          <a:xfrm flipH="1" rot="16200000">
            <a:off x="3274200" y="1055520"/>
            <a:ext cx="2160" cy="215820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67" idx="0"/>
            <a:endCxn id="165" idx="0"/>
          </p:cNvCxnSpPr>
          <p:nvPr/>
        </p:nvCxnSpPr>
        <p:spPr>
          <a:xfrm flipH="1" rot="16200000">
            <a:off x="3274560" y="1846800"/>
            <a:ext cx="2520" cy="2158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2" name=""/>
          <p:cNvCxnSpPr/>
          <p:nvPr/>
        </p:nvCxnSpPr>
        <p:spPr>
          <a:xfrm flipV="1">
            <a:off x="3276360" y="2348640"/>
            <a:ext cx="108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AA57-A5BB-41C6-8070-AC09C57BA9E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47640" y="1936800"/>
            <a:ext cx="1914840" cy="1492200"/>
          </a:xfrm>
          <a:prstGeom prst="rect">
            <a:avLst/>
          </a:prstGeom>
          <a:ln w="0">
            <a:noFill/>
          </a:ln>
          <a:effectLst>
            <a:outerShdw dist="927307" dir="3995992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076720" y="1936800"/>
            <a:ext cx="1914480" cy="149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E244-AF5D-41C4-9816-B1082871590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258920" y="2565360"/>
            <a:ext cx="1193760" cy="18669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 flipH="1">
            <a:off x="6691320" y="2565360"/>
            <a:ext cx="1193760" cy="1866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195640" y="836640"/>
            <a:ext cx="1800000" cy="14414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njour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ça va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48360" y="836640"/>
            <a:ext cx="1800000" cy="1441440"/>
          </a:xfrm>
          <a:prstGeom prst="wedgeEllipseCallout">
            <a:avLst>
              <a:gd name="adj1" fmla="val -156879"/>
              <a:gd name="adj2" fmla="val 872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i merci, et vous-mêm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B09A-B1BA-4E16-BE61-549D8C7B92F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71640" y="1916280"/>
            <a:ext cx="3095640" cy="3095280"/>
          </a:xfrm>
          <a:prstGeom prst="star5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96000" y="1916280"/>
            <a:ext cx="1297080" cy="3095280"/>
          </a:xfrm>
          <a:prstGeom prst="star5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98F8-9FB3-4101-9352-0D56CE63E33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063800" y="2643120"/>
            <a:ext cx="2577960" cy="3024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603520" y="1305000"/>
            <a:ext cx="1539720" cy="18414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227640" y="4365720"/>
            <a:ext cx="1724040" cy="20224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6919920" y="1305000"/>
            <a:ext cx="1539720" cy="1841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31BA-D523-4ED5-A505-92FCF44CFFF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11280" y="1079640"/>
            <a:ext cx="3571920" cy="5013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260360" y="2664000"/>
            <a:ext cx="1654200" cy="18288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932360" y="2664000"/>
            <a:ext cx="1654200" cy="18288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4956120" y="2664000"/>
            <a:ext cx="1630440" cy="2287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2E5E-43CD-441A-9032-77A8D57F9C1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06560" y="836640"/>
            <a:ext cx="1800000" cy="431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74920" y="1700280"/>
            <a:ext cx="863640" cy="10065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66920" y="3500280"/>
            <a:ext cx="1079280" cy="10796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33480" y="2490840"/>
            <a:ext cx="1944720" cy="7221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55640" y="4184640"/>
            <a:ext cx="503280" cy="1368360"/>
          </a:xfrm>
          <a:prstGeom prst="diamond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16200000">
            <a:off x="1655640" y="2922480"/>
            <a:ext cx="503280" cy="2630520"/>
          </a:xfrm>
          <a:prstGeom prst="diamond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1330920" y="2273760"/>
            <a:ext cx="1150920" cy="2016000"/>
          </a:xfrm>
          <a:prstGeom prst="diamond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54200" y="836640"/>
            <a:ext cx="503280" cy="1368360"/>
          </a:xfrm>
          <a:prstGeom prst="diamond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66000" y="873000"/>
            <a:ext cx="1800000" cy="4320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26360" y="1736640"/>
            <a:ext cx="863280" cy="100656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26360" y="3537000"/>
            <a:ext cx="1079280" cy="10792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21280" y="2527200"/>
            <a:ext cx="1944720" cy="72252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84920" y="4221000"/>
            <a:ext cx="503280" cy="1368720"/>
          </a:xfrm>
          <a:prstGeom prst="diamond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6750000" y="2958840"/>
            <a:ext cx="503280" cy="2630520"/>
          </a:xfrm>
          <a:prstGeom prst="diamond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6211080" y="2310120"/>
            <a:ext cx="1150920" cy="2016360"/>
          </a:xfrm>
          <a:prstGeom prst="diamond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4000" y="873000"/>
            <a:ext cx="503280" cy="1368720"/>
          </a:xfrm>
          <a:prstGeom prst="diamond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06560" y="549360"/>
            <a:ext cx="0" cy="5327640"/>
          </a:xfrm>
          <a:prstGeom prst="line">
            <a:avLst/>
          </a:prstGeom>
          <a:ln cap="rnd" w="108000">
            <a:solidFill>
              <a:srgbClr val="eec1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7036920" y="549360"/>
            <a:ext cx="17640" cy="5327640"/>
          </a:xfrm>
          <a:prstGeom prst="line">
            <a:avLst/>
          </a:prstGeom>
          <a:ln cap="rnd" w="108000">
            <a:solidFill>
              <a:srgbClr val="eec1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8BDB-9084-4A14-8482-08EE659C908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2852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212840" y="0"/>
            <a:ext cx="1871640" cy="2852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2424240" y="0"/>
            <a:ext cx="1871640" cy="28526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3637080" y="0"/>
            <a:ext cx="1871640" cy="2852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4848120" y="0"/>
            <a:ext cx="1871640" cy="28526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6060960" y="0"/>
            <a:ext cx="1871640" cy="28526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7"/>
          <a:stretch/>
        </p:blipFill>
        <p:spPr>
          <a:xfrm>
            <a:off x="7272360" y="0"/>
            <a:ext cx="1871640" cy="2852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8"/>
          <a:stretch/>
        </p:blipFill>
        <p:spPr>
          <a:xfrm>
            <a:off x="3778200" y="4032360"/>
            <a:ext cx="1871640" cy="28526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9"/>
          <a:stretch/>
        </p:blipFill>
        <p:spPr>
          <a:xfrm>
            <a:off x="3994200" y="4032360"/>
            <a:ext cx="1871640" cy="2852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0"/>
          <a:stretch/>
        </p:blipFill>
        <p:spPr>
          <a:xfrm>
            <a:off x="4210200" y="4032360"/>
            <a:ext cx="1871640" cy="2852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1"/>
          <a:stretch/>
        </p:blipFill>
        <p:spPr>
          <a:xfrm>
            <a:off x="4425840" y="4032360"/>
            <a:ext cx="1871640" cy="2852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2"/>
          <a:stretch/>
        </p:blipFill>
        <p:spPr>
          <a:xfrm>
            <a:off x="4641840" y="4032360"/>
            <a:ext cx="1871640" cy="28526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3"/>
          <a:stretch/>
        </p:blipFill>
        <p:spPr>
          <a:xfrm>
            <a:off x="4857840" y="4032360"/>
            <a:ext cx="1871640" cy="28526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4"/>
          <a:stretch/>
        </p:blipFill>
        <p:spPr>
          <a:xfrm>
            <a:off x="5073480" y="4032360"/>
            <a:ext cx="1872000" cy="285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63A1-CD00-4F82-B149-B86672B60CA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324000" y="549360"/>
          <a:ext cx="3527280" cy="3600360"/>
        </p:xfrm>
        <a:graphic>
          <a:graphicData uri="http://schemas.openxmlformats.org/drawingml/2006/table">
            <a:tbl>
              <a:tblPr/>
              <a:tblGrid>
                <a:gridCol w="1175760"/>
                <a:gridCol w="1175760"/>
                <a:gridCol w="1175760"/>
              </a:tblGrid>
              <a:tr h="119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20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19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468360" y="765000"/>
            <a:ext cx="792000" cy="79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92360" y="1916280"/>
            <a:ext cx="792000" cy="79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43280" y="3141720"/>
            <a:ext cx="792000" cy="79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840040" y="1844280"/>
            <a:ext cx="793800" cy="958680"/>
            <a:chOff x="2840040" y="1844280"/>
            <a:chExt cx="793800" cy="958680"/>
          </a:xfrm>
        </p:grpSpPr>
        <p:sp>
          <p:nvSpPr>
            <p:cNvPr id="224" name=""/>
            <p:cNvSpPr/>
            <p:nvPr/>
          </p:nvSpPr>
          <p:spPr>
            <a:xfrm flipV="1">
              <a:off x="2841840" y="1844280"/>
              <a:ext cx="792000" cy="95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40040" y="1928880"/>
              <a:ext cx="792360" cy="79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2841480" y="705960"/>
            <a:ext cx="793800" cy="958680"/>
            <a:chOff x="2841480" y="705960"/>
            <a:chExt cx="793800" cy="958680"/>
          </a:xfrm>
        </p:grpSpPr>
        <p:sp>
          <p:nvSpPr>
            <p:cNvPr id="227" name=""/>
            <p:cNvSpPr/>
            <p:nvPr/>
          </p:nvSpPr>
          <p:spPr>
            <a:xfrm flipV="1">
              <a:off x="2843280" y="705960"/>
              <a:ext cx="792000" cy="95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41480" y="790560"/>
              <a:ext cx="792360" cy="79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9" name=""/>
          <p:cNvGraphicFramePr/>
          <p:nvPr/>
        </p:nvGraphicFramePr>
        <p:xfrm>
          <a:off x="5219640" y="1844640"/>
          <a:ext cx="3527640" cy="3600360"/>
        </p:xfrm>
        <a:graphic>
          <a:graphicData uri="http://schemas.openxmlformats.org/drawingml/2006/table">
            <a:tbl>
              <a:tblPr/>
              <a:tblGrid>
                <a:gridCol w="1175760"/>
                <a:gridCol w="1175760"/>
                <a:gridCol w="1176120"/>
              </a:tblGrid>
              <a:tr h="119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5364000" y="2060640"/>
            <a:ext cx="792360" cy="79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8000" y="3211560"/>
            <a:ext cx="792360" cy="79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738920" y="4437000"/>
            <a:ext cx="792360" cy="79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7736040" y="3139560"/>
            <a:ext cx="793080" cy="958680"/>
            <a:chOff x="7736040" y="3139560"/>
            <a:chExt cx="793080" cy="958680"/>
          </a:xfrm>
        </p:grpSpPr>
        <p:sp>
          <p:nvSpPr>
            <p:cNvPr id="234" name=""/>
            <p:cNvSpPr/>
            <p:nvPr/>
          </p:nvSpPr>
          <p:spPr>
            <a:xfrm flipV="1">
              <a:off x="7737480" y="3139560"/>
              <a:ext cx="791640" cy="95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736040" y="3224160"/>
              <a:ext cx="792000" cy="79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737480" y="2001600"/>
            <a:ext cx="793800" cy="958680"/>
            <a:chOff x="7737480" y="2001600"/>
            <a:chExt cx="793800" cy="958680"/>
          </a:xfrm>
        </p:grpSpPr>
        <p:sp>
          <p:nvSpPr>
            <p:cNvPr id="237" name=""/>
            <p:cNvSpPr/>
            <p:nvPr/>
          </p:nvSpPr>
          <p:spPr>
            <a:xfrm flipV="1">
              <a:off x="7739280" y="2001600"/>
              <a:ext cx="792000" cy="95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737480" y="2086200"/>
              <a:ext cx="792360" cy="79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E80B-FDCE-40BD-A9C8-3A82F0123E4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924200" y="1197000"/>
            <a:ext cx="1774800" cy="18669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68120" y="1450800"/>
            <a:ext cx="1756080" cy="18640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2157480" y="2738520"/>
            <a:ext cx="1539720" cy="18255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361800" y="2365200"/>
            <a:ext cx="1756080" cy="1864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1052640" y="3314880"/>
            <a:ext cx="1336680" cy="18288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361800" y="3649680"/>
            <a:ext cx="1336680" cy="1828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>
            <a:off x="6610320" y="1222200"/>
            <a:ext cx="1774800" cy="18669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8"/>
          <a:stretch/>
        </p:blipFill>
        <p:spPr>
          <a:xfrm>
            <a:off x="6453360" y="1832040"/>
            <a:ext cx="1076040" cy="18381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9"/>
          <a:stretch/>
        </p:blipFill>
        <p:spPr>
          <a:xfrm>
            <a:off x="4854600" y="1476360"/>
            <a:ext cx="1755720" cy="18637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0"/>
          <a:stretch/>
        </p:blipFill>
        <p:spPr>
          <a:xfrm>
            <a:off x="6843600" y="2763720"/>
            <a:ext cx="1540080" cy="1825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1"/>
          <a:stretch/>
        </p:blipFill>
        <p:spPr>
          <a:xfrm>
            <a:off x="5048280" y="2390760"/>
            <a:ext cx="1755720" cy="18637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12"/>
          <a:stretch/>
        </p:blipFill>
        <p:spPr>
          <a:xfrm>
            <a:off x="6610320" y="3500280"/>
            <a:ext cx="1336680" cy="18288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3"/>
          <a:stretch/>
        </p:blipFill>
        <p:spPr>
          <a:xfrm>
            <a:off x="5738760" y="3340080"/>
            <a:ext cx="1336680" cy="18288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14"/>
          <a:stretch/>
        </p:blipFill>
        <p:spPr>
          <a:xfrm>
            <a:off x="5048280" y="3675240"/>
            <a:ext cx="1336680" cy="18288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5"/>
          <a:stretch/>
        </p:blipFill>
        <p:spPr>
          <a:xfrm>
            <a:off x="6804000" y="2390760"/>
            <a:ext cx="1076400" cy="183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DA7D-1719-40CE-B7CF-E09204011F3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6093000"/>
            <a:ext cx="1908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’est fini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ndez-vous sur le site à « http://pagesperso-orange.fr/apprendreppt/page2.htm » pour voir les solutions si beso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7592-18E0-4A66-94A8-923270B0A7F9}" type="slidenum">
              <a:t>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00000" y="1628640"/>
            <a:ext cx="3167280" cy="3600720"/>
          </a:xfrm>
          <a:prstGeom prst="line">
            <a:avLst/>
          </a:prstGeom>
          <a:ln w="127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19640" y="1628640"/>
            <a:ext cx="3167280" cy="3600720"/>
          </a:xfrm>
          <a:prstGeom prst="line">
            <a:avLst/>
          </a:prstGeom>
          <a:ln w="127080">
            <a:solidFill>
              <a:srgbClr val="000000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8E07-A6DC-4A1E-B862-9AF134925CC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81080" y="1077840"/>
            <a:ext cx="4259160" cy="4427640"/>
          </a:xfrm>
          <a:custGeom>
            <a:avLst/>
            <a:gdLst/>
            <a:ahLst/>
            <a:rect l="l" t="t" r="r" b="b"/>
            <a:pathLst>
              <a:path w="2683" h="2789">
                <a:moveTo>
                  <a:pt x="1496" y="392"/>
                </a:moveTo>
                <a:cubicBezTo>
                  <a:pt x="1152" y="196"/>
                  <a:pt x="808" y="0"/>
                  <a:pt x="589" y="211"/>
                </a:cubicBezTo>
                <a:cubicBezTo>
                  <a:pt x="370" y="422"/>
                  <a:pt x="0" y="1239"/>
                  <a:pt x="181" y="1662"/>
                </a:cubicBezTo>
                <a:cubicBezTo>
                  <a:pt x="362" y="2085"/>
                  <a:pt x="1276" y="2789"/>
                  <a:pt x="1677" y="2751"/>
                </a:cubicBezTo>
                <a:cubicBezTo>
                  <a:pt x="2078" y="2713"/>
                  <a:pt x="2683" y="1678"/>
                  <a:pt x="2585" y="1436"/>
                </a:cubicBezTo>
                <a:cubicBezTo>
                  <a:pt x="2487" y="1194"/>
                  <a:pt x="1787" y="1247"/>
                  <a:pt x="1088" y="1300"/>
                </a:cubicBezTo>
              </a:path>
            </a:pathLst>
          </a:custGeom>
          <a:noFill/>
          <a:ln w="63360">
            <a:solidFill>
              <a:srgbClr val="60a8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1052640"/>
            <a:ext cx="4124160" cy="4427280"/>
          </a:xfrm>
          <a:custGeom>
            <a:avLst/>
            <a:gdLst/>
            <a:ahLst/>
            <a:rect l="l" t="t" r="r" b="b"/>
            <a:pathLst>
              <a:path w="2598" h="2789">
                <a:moveTo>
                  <a:pt x="1496" y="392"/>
                </a:moveTo>
                <a:cubicBezTo>
                  <a:pt x="1152" y="196"/>
                  <a:pt x="808" y="0"/>
                  <a:pt x="589" y="211"/>
                </a:cubicBezTo>
                <a:cubicBezTo>
                  <a:pt x="370" y="422"/>
                  <a:pt x="0" y="1239"/>
                  <a:pt x="181" y="1662"/>
                </a:cubicBezTo>
                <a:cubicBezTo>
                  <a:pt x="362" y="2085"/>
                  <a:pt x="1276" y="2789"/>
                  <a:pt x="1677" y="2751"/>
                </a:cubicBezTo>
                <a:cubicBezTo>
                  <a:pt x="2078" y="2713"/>
                  <a:pt x="2598" y="1817"/>
                  <a:pt x="2585" y="1436"/>
                </a:cubicBezTo>
                <a:cubicBezTo>
                  <a:pt x="2572" y="1055"/>
                  <a:pt x="1804" y="668"/>
                  <a:pt x="1599" y="466"/>
                </a:cubicBezTo>
              </a:path>
            </a:pathLst>
          </a:custGeom>
          <a:noFill/>
          <a:ln w="63360">
            <a:solidFill>
              <a:srgbClr val="60a8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A14E-171A-4D93-A54D-4896AB94508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58920" y="2133720"/>
            <a:ext cx="2736720" cy="2388960"/>
          </a:xfrm>
          <a:custGeom>
            <a:avLst/>
            <a:gdLst>
              <a:gd name="textAreaLeft" fmla="*/ 642960 w 2736720"/>
              <a:gd name="textAreaRight" fmla="*/ 2091600 w 2736720"/>
              <a:gd name="textAreaTop" fmla="*/ 280800 h 2388960"/>
              <a:gd name="textAreaBottom" fmla="*/ 1498680 h 2388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19640" y="2133720"/>
            <a:ext cx="2737080" cy="2388960"/>
          </a:xfrm>
          <a:custGeom>
            <a:avLst/>
            <a:gdLst>
              <a:gd name="textAreaLeft" fmla="*/ 643320 w 2737080"/>
              <a:gd name="textAreaRight" fmla="*/ 2091960 w 2737080"/>
              <a:gd name="textAreaTop" fmla="*/ 280800 h 2388960"/>
              <a:gd name="textAreaBottom" fmla="*/ 1498680 h 2388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B988-E74E-4AE1-8380-1B351956F0A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690560" y="1989000"/>
            <a:ext cx="2449800" cy="3600720"/>
          </a:xfrm>
          <a:prstGeom prst="rightArrow">
            <a:avLst>
              <a:gd name="adj1" fmla="val 59704"/>
              <a:gd name="adj2" fmla="val 426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92720" y="1989000"/>
            <a:ext cx="2449440" cy="3600720"/>
          </a:xfrm>
          <a:prstGeom prst="rightArrow">
            <a:avLst>
              <a:gd name="adj1" fmla="val 19046"/>
              <a:gd name="adj2" fmla="val 426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EAD4-ECB2-49FB-9C20-586E7D6D32C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76360" y="1989000"/>
            <a:ext cx="3095640" cy="3024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19640" y="1989000"/>
            <a:ext cx="3095640" cy="3024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FBB5-496A-4866-9717-EC223E557ED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871640" y="3395520"/>
            <a:ext cx="1366920" cy="2194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75040" y="1072440"/>
            <a:ext cx="4232880" cy="2889360"/>
            <a:chOff x="275040" y="1072440"/>
            <a:chExt cx="4232880" cy="2889360"/>
          </a:xfrm>
        </p:grpSpPr>
        <p:sp>
          <p:nvSpPr>
            <p:cNvPr id="99" name=""/>
            <p:cNvSpPr/>
            <p:nvPr/>
          </p:nvSpPr>
          <p:spPr>
            <a:xfrm rot="220800">
              <a:off x="355320" y="1200240"/>
              <a:ext cx="4071960" cy="2633400"/>
            </a:xfrm>
            <a:prstGeom prst="cloudCallout">
              <a:avLst>
                <a:gd name="adj1" fmla="val -7356"/>
                <a:gd name="adj2" fmla="val 22273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60a82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834120" y="2345040"/>
              <a:ext cx="476280" cy="555120"/>
              <a:chOff x="834120" y="2345040"/>
              <a:chExt cx="476280" cy="555120"/>
            </a:xfrm>
          </p:grpSpPr>
          <p:sp>
            <p:nvSpPr>
              <p:cNvPr id="101" name=""/>
              <p:cNvSpPr/>
              <p:nvPr/>
            </p:nvSpPr>
            <p:spPr>
              <a:xfrm rot="17575200">
                <a:off x="883800" y="2477880"/>
                <a:ext cx="376560" cy="3578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4217600">
                <a:off x="871560" y="2411280"/>
                <a:ext cx="192240" cy="6192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20582400">
                <a:off x="847440" y="2468520"/>
                <a:ext cx="192240" cy="6192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3058920" y="2437560"/>
              <a:ext cx="410040" cy="476280"/>
              <a:chOff x="3058920" y="2437560"/>
              <a:chExt cx="410040" cy="476280"/>
            </a:xfrm>
          </p:grpSpPr>
          <p:sp>
            <p:nvSpPr>
              <p:cNvPr id="105" name=""/>
              <p:cNvSpPr/>
              <p:nvPr/>
            </p:nvSpPr>
            <p:spPr>
              <a:xfrm>
                <a:off x="3058920" y="2538000"/>
                <a:ext cx="358560" cy="3758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8242400">
                <a:off x="3286440" y="2508480"/>
                <a:ext cx="202320" cy="5868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3006600">
                <a:off x="3227400" y="2508120"/>
                <a:ext cx="202320" cy="5904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1811520" y="2915280"/>
              <a:ext cx="408960" cy="478080"/>
              <a:chOff x="1811520" y="2915280"/>
              <a:chExt cx="408960" cy="478080"/>
            </a:xfrm>
          </p:grpSpPr>
          <p:sp>
            <p:nvSpPr>
              <p:cNvPr id="109" name=""/>
              <p:cNvSpPr/>
              <p:nvPr/>
            </p:nvSpPr>
            <p:spPr>
              <a:xfrm>
                <a:off x="1811520" y="3016080"/>
                <a:ext cx="357120" cy="37728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8242400">
                <a:off x="2037600" y="2986200"/>
                <a:ext cx="203040" cy="5868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3006600">
                <a:off x="1978200" y="2986560"/>
                <a:ext cx="203040" cy="5868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2797200" y="1521720"/>
              <a:ext cx="507600" cy="587880"/>
              <a:chOff x="2797200" y="1521720"/>
              <a:chExt cx="507600" cy="587880"/>
            </a:xfrm>
          </p:grpSpPr>
          <p:sp>
            <p:nvSpPr>
              <p:cNvPr id="113" name=""/>
              <p:cNvSpPr/>
              <p:nvPr/>
            </p:nvSpPr>
            <p:spPr>
              <a:xfrm rot="18246600">
                <a:off x="2862360" y="1674360"/>
                <a:ext cx="376920" cy="3578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889000">
                <a:off x="2894040" y="1591560"/>
                <a:ext cx="192240" cy="6192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21253800">
                <a:off x="2859480" y="1642680"/>
                <a:ext cx="192240" cy="6228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1512000" y="1828080"/>
              <a:ext cx="410040" cy="478080"/>
              <a:chOff x="1512000" y="1828080"/>
              <a:chExt cx="410040" cy="478080"/>
            </a:xfrm>
          </p:grpSpPr>
          <p:sp>
            <p:nvSpPr>
              <p:cNvPr id="117" name=""/>
              <p:cNvSpPr/>
              <p:nvPr/>
            </p:nvSpPr>
            <p:spPr>
              <a:xfrm>
                <a:off x="1512000" y="1928880"/>
                <a:ext cx="358560" cy="37728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18242400">
                <a:off x="1739160" y="1899000"/>
                <a:ext cx="203040" cy="5868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006600">
                <a:off x="1679760" y="1898640"/>
                <a:ext cx="203040" cy="5904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"/>
          <p:cNvSpPr/>
          <p:nvPr/>
        </p:nvSpPr>
        <p:spPr>
          <a:xfrm>
            <a:off x="6159600" y="3395520"/>
            <a:ext cx="1366560" cy="219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562640" y="1072440"/>
            <a:ext cx="4232880" cy="2889360"/>
            <a:chOff x="4562640" y="1072440"/>
            <a:chExt cx="4232880" cy="2889360"/>
          </a:xfrm>
        </p:grpSpPr>
        <p:sp>
          <p:nvSpPr>
            <p:cNvPr id="122" name=""/>
            <p:cNvSpPr/>
            <p:nvPr/>
          </p:nvSpPr>
          <p:spPr>
            <a:xfrm rot="220800">
              <a:off x="4642920" y="1200240"/>
              <a:ext cx="4071960" cy="2633400"/>
            </a:xfrm>
            <a:prstGeom prst="cloudCallout">
              <a:avLst>
                <a:gd name="adj1" fmla="val -7356"/>
                <a:gd name="adj2" fmla="val 22273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60a82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5121720" y="2345040"/>
              <a:ext cx="476280" cy="555120"/>
              <a:chOff x="5121720" y="2345040"/>
              <a:chExt cx="476280" cy="555120"/>
            </a:xfrm>
          </p:grpSpPr>
          <p:sp>
            <p:nvSpPr>
              <p:cNvPr id="124" name=""/>
              <p:cNvSpPr/>
              <p:nvPr/>
            </p:nvSpPr>
            <p:spPr>
              <a:xfrm rot="17575200">
                <a:off x="5171400" y="2477880"/>
                <a:ext cx="376560" cy="3578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4217600">
                <a:off x="5159160" y="2411280"/>
                <a:ext cx="192240" cy="6192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0582400">
                <a:off x="5135040" y="2468520"/>
                <a:ext cx="192240" cy="6192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7346520" y="2437560"/>
              <a:ext cx="410040" cy="476280"/>
              <a:chOff x="7346520" y="2437560"/>
              <a:chExt cx="410040" cy="476280"/>
            </a:xfrm>
          </p:grpSpPr>
          <p:sp>
            <p:nvSpPr>
              <p:cNvPr id="128" name=""/>
              <p:cNvSpPr/>
              <p:nvPr/>
            </p:nvSpPr>
            <p:spPr>
              <a:xfrm>
                <a:off x="7346520" y="2538000"/>
                <a:ext cx="358560" cy="3758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8242400">
                <a:off x="7574040" y="2508480"/>
                <a:ext cx="202320" cy="5868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3006600">
                <a:off x="7515000" y="2508120"/>
                <a:ext cx="202320" cy="5904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6099120" y="2915280"/>
              <a:ext cx="408960" cy="478080"/>
              <a:chOff x="6099120" y="2915280"/>
              <a:chExt cx="408960" cy="478080"/>
            </a:xfrm>
          </p:grpSpPr>
          <p:sp>
            <p:nvSpPr>
              <p:cNvPr id="132" name=""/>
              <p:cNvSpPr/>
              <p:nvPr/>
            </p:nvSpPr>
            <p:spPr>
              <a:xfrm>
                <a:off x="6099120" y="3016080"/>
                <a:ext cx="357120" cy="37728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8242400">
                <a:off x="6325200" y="2986200"/>
                <a:ext cx="203040" cy="5868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3006600">
                <a:off x="6265800" y="2986560"/>
                <a:ext cx="203040" cy="5868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7084800" y="1521720"/>
              <a:ext cx="507600" cy="587880"/>
              <a:chOff x="7084800" y="1521720"/>
              <a:chExt cx="507600" cy="587880"/>
            </a:xfrm>
          </p:grpSpPr>
          <p:sp>
            <p:nvSpPr>
              <p:cNvPr id="136" name=""/>
              <p:cNvSpPr/>
              <p:nvPr/>
            </p:nvSpPr>
            <p:spPr>
              <a:xfrm rot="18246600">
                <a:off x="7149960" y="1674360"/>
                <a:ext cx="376920" cy="3578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14889000">
                <a:off x="7181640" y="1591560"/>
                <a:ext cx="192240" cy="6192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21253800">
                <a:off x="7147080" y="1642680"/>
                <a:ext cx="192240" cy="6228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5799600" y="1828080"/>
              <a:ext cx="410040" cy="478080"/>
              <a:chOff x="5799600" y="1828080"/>
              <a:chExt cx="410040" cy="478080"/>
            </a:xfrm>
          </p:grpSpPr>
          <p:sp>
            <p:nvSpPr>
              <p:cNvPr id="140" name=""/>
              <p:cNvSpPr/>
              <p:nvPr/>
            </p:nvSpPr>
            <p:spPr>
              <a:xfrm>
                <a:off x="5799600" y="1928880"/>
                <a:ext cx="358560" cy="37728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8242400">
                <a:off x="6026760" y="1899000"/>
                <a:ext cx="203040" cy="5868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3006600">
                <a:off x="5967360" y="1898640"/>
                <a:ext cx="203040" cy="5904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5D62-CD5E-4D1B-B9EE-411F3FF328A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1773360"/>
            <a:ext cx="3673440" cy="27543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90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48360" y="1773360"/>
            <a:ext cx="3673440" cy="2754360"/>
          </a:xfrm>
          <a:prstGeom prst="ellipse">
            <a:avLst/>
          </a:prstGeom>
          <a:solidFill>
            <a:srgbClr val="bbe0e3"/>
          </a:solidFill>
          <a:ln w="190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34A1-C3A8-42EE-9017-FE433515A93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07:28:55Z</dcterms:created>
  <dc:creator>Tribouillier</dc:creator>
  <dc:description/>
  <dc:language>en-US</dc:language>
  <cp:lastModifiedBy>Tribouillier</cp:lastModifiedBy>
  <dcterms:modified xsi:type="dcterms:W3CDTF">2008-02-09T09:54:24Z</dcterms:modified>
  <cp:revision>70</cp:revision>
  <dc:subject/>
  <dc:title>Diapositive 1</dc:title>
</cp:coreProperties>
</file>