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CCFC-59B9-4C7A-902C-E00DFD6E8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C4DC-31F3-4423-8BDE-E82B0E088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E02D-29D6-4E5D-9C1B-4147D2724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117F-41BC-4176-BC98-19330BC18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00F1-4301-4C6C-BBF5-A8ACDCE3B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1624-A1AA-4D26-AAA3-73C4E5FD2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4D4B-8C86-4049-9F35-8EF041088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D9F7-797A-41E7-AD05-585FEB3BC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84B6-D915-4321-8DD8-6ECE8D700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25C6-F04A-4309-8BFB-76D5C51A9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1F10-AB75-4353-B683-052D1DCB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142E-E289-4B68-B89B-CB39CED6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76369-C581-4F30-B73B-F8792A346E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itres en Word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xercice : Créer les mêmes WordArt sous les modèles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(à côté, pour le derni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06200" y="189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rcice 7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 rot="5400000">
            <a:off x="-2337840" y="3288240"/>
            <a:ext cx="611352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Pussycat"/>
              </a:rPr>
              <a:t>plongée sous-marin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Pussycat"/>
              <a:ea typeface="Pussycat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333360"/>
            <a:ext cx="288108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WordArt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6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er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WordArt de la 4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ligne de la Gale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Polic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Pussyc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Text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tout en minusc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Effet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étirement vertical du WordArt jusqu’en bas de la dia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réer un WordArt, c’est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mmander l’insertion d’un WordArt,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érifier l’affichage de la barre d’outils Dessin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lic sur l’icône insérer un WordA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hoisir le type de WordArt dans la Galeri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édiger son texte, choisir sa police, la taill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aire « ok » pour insérer son WordArt. Le déplacer pour le positionner à l’endroit réserv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uivre les instructions pour coller au mieux de l’exemple. Redimensionner si demandé en tirant sur les bords du WordArt avec le clic de la souris enfonc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 rot="992400">
            <a:off x="8028000" y="274680"/>
            <a:ext cx="514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6699ff"/>
                    </a:gs>
                  </a:gsLst>
                  <a:lin ang="9810000"/>
                </a:gradFill>
                <a:latin typeface="Times New Roman"/>
              </a:rPr>
              <a:t>A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6699ff"/>
                  </a:gs>
                </a:gsLst>
                <a:lin ang="9810000"/>
              </a:gradFill>
              <a:latin typeface="Times New Roman"/>
              <a:ea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200" y="189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ppel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4000" y="220500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WordArt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4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WordArt de la 2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ligne de la Galerie</a:t>
            </a:r>
            <a:br>
              <a:rPr sz="1800"/>
            </a:b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Polic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Arial</a:t>
            </a:r>
            <a:br>
              <a:rPr sz="1800"/>
            </a:b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Taill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44</a:t>
            </a:r>
            <a:br>
              <a:rPr sz="1800"/>
            </a:b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Text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tout en majusc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556000" y="1052640"/>
            <a:ext cx="391464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LE MARIAGE</a:t>
            </a:r>
            <a:endParaRPr b="0" lang="en-US" sz="4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" name=""/>
          <p:cNvSpPr/>
          <p:nvPr/>
        </p:nvSpPr>
        <p:spPr>
          <a:xfrm>
            <a:off x="106200" y="189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rcice 4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4000" y="249228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WordArt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4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WordArt de la 5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ligne de la Galerie</a:t>
            </a:r>
            <a:br>
              <a:rPr sz="1800"/>
            </a:b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Polic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Gloogun</a:t>
            </a:r>
            <a:br>
              <a:rPr sz="1800"/>
            </a:b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Taill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195640" y="189000"/>
            <a:ext cx="3943080" cy="20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GlooGun"/>
              </a:rPr>
              <a:t>JOUR J !!!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GlooGun"/>
              <a:ea typeface="GlooGun"/>
            </a:endParaRPr>
          </a:p>
        </p:txBody>
      </p:sp>
      <p:sp>
        <p:nvSpPr>
          <p:cNvPr id="52" name=""/>
          <p:cNvSpPr/>
          <p:nvPr/>
        </p:nvSpPr>
        <p:spPr>
          <a:xfrm>
            <a:off x="106200" y="189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rcice 5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79280" y="220500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WordArt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1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er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WordArt de la 4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ligne de la Galerie</a:t>
            </a:r>
            <a:br>
              <a:rPr sz="1800"/>
            </a:b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Polic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Chick</a:t>
            </a:r>
            <a:br>
              <a:rPr sz="1800"/>
            </a:b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Taill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48 </a:t>
            </a:r>
            <a:br>
              <a:rPr sz="1800"/>
            </a:b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Text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tout en minusc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979640" y="981000"/>
            <a:ext cx="50007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Chick"/>
              </a:rPr>
              <a:t>Randonnée forestière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Chick"/>
              <a:ea typeface="Chick"/>
            </a:endParaRPr>
          </a:p>
        </p:txBody>
      </p:sp>
      <p:sp>
        <p:nvSpPr>
          <p:cNvPr id="55" name=""/>
          <p:cNvSpPr/>
          <p:nvPr/>
        </p:nvSpPr>
        <p:spPr>
          <a:xfrm>
            <a:off x="106200" y="189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rcice 6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9T14:31:57Z</dcterms:created>
  <dc:creator>Tribouillier</dc:creator>
  <dc:description/>
  <dc:language>en-US</dc:language>
  <cp:lastModifiedBy>Tribouillier</cp:lastModifiedBy>
  <dcterms:modified xsi:type="dcterms:W3CDTF">2008-10-08T19:32:23Z</dcterms:modified>
  <cp:revision>14</cp:revision>
  <dc:subject/>
  <dc:title>Titres en WordArt</dc:title>
</cp:coreProperties>
</file>