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06F-7338-4DC8-9ACB-92B371A3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214-2907-4575-A58B-89A0CA8F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AC4-7A48-4091-9117-483D64C1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065-C9B8-412C-98BD-B1F58653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036-DC63-4E9C-88B8-755D980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1C2-F464-4D63-90FF-4A97D1EF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C84-7A81-4C44-A1C2-9AE67C1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062-B29E-4E3D-81B6-4DB3AAE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658-FBCD-4E8C-9913-743C6305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F6E-7EF9-4392-9001-5133B9E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4FE-3719-4F21-8DA7-0FBC586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86C-1457-4BF9-A019-4B70965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628-4741-44B7-B232-6B3BEA67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tres e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rcice : Créer les mêmes WordArt sous les modèl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à côté, pour le dern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7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2337840" y="3288240"/>
            <a:ext cx="6113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ussycat"/>
              </a:rPr>
              <a:t>plongée sous-mari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ussycat"/>
              <a:ea typeface="Pussycat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333360"/>
            <a:ext cx="2881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6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Pussy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ff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étirement vertical du WordArt jusqu’en bas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un WordArt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ander l’insertion d’un WordArt,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’affichage de la barre d’outils Dessi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c sur l’icône insérer un Word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isir le type de WordArt dans la Galer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diger son texte, choisir sa police, la tail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ire « ok » pour insérer son WordArt. Le déplacer pour le positionner à l’endroit réser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vre les instructions pour coller au mieux de l’exemple. Redimensionner si demandé en tirant sur les bords du WordArt avec le clic de la souris enfonc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992400">
            <a:off x="8028000" y="2746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81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81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el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205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Arial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4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aj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56000" y="1052640"/>
            <a:ext cx="3914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 MARIAGE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4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Gloogun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95640" y="189000"/>
            <a:ext cx="394308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looGun"/>
              </a:rPr>
              <a:t>JOUR J !!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looGun"/>
              <a:ea typeface="GlooGun"/>
            </a:endParaRPr>
          </a:p>
        </p:txBody>
      </p:sp>
      <p:sp>
        <p:nvSpPr>
          <p:cNvPr id="5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5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205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hick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8 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981000"/>
            <a:ext cx="5000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hick"/>
              </a:rPr>
              <a:t>Randonnée forestiè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hick"/>
              <a:ea typeface="Chick"/>
            </a:endParaRPr>
          </a:p>
        </p:txBody>
      </p:sp>
      <p:sp>
        <p:nvSpPr>
          <p:cNvPr id="5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6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4:31:57Z</dcterms:created>
  <dc:creator>Tribouillier</dc:creator>
  <dc:description/>
  <dc:language>en-US</dc:language>
  <cp:lastModifiedBy>Tribouillier</cp:lastModifiedBy>
  <dcterms:modified xsi:type="dcterms:W3CDTF">2008-10-08T19:32:23Z</dcterms:modified>
  <cp:revision>14</cp:revision>
  <dc:subject/>
  <dc:title>Titres en WordArt</dc:title>
</cp:coreProperties>
</file>