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B66-F40D-4933-A335-B9AB7128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678-CB6F-4602-B8F6-AC5928F7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CDE-2383-4250-9203-EFF673E5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F73-D1DF-47FF-88E7-B071442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EAA-7008-41C5-A68F-9C1F2CE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684-2ACF-4D7E-A510-1276CFB1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983-EF3F-4D2D-B149-CFCF137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875-9981-41B3-BB7C-D098BAE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EC5-B29F-47B4-B6CB-2173A568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529-BCA0-4A96-8F6F-984A34F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FE2-1BA8-4B2F-A4A3-D30B74D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4B0-5F08-4B5F-AC3D-F22F7D1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94A-3534-4A9C-9141-19DA2E27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tres e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rcice : Modifier des Word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200" y="537372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ifier ce WordArt pour qu’il est est caractéristiques suivantes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: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ice : Gloogu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ille : 96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t : descendre la poignée d’ajustement jusqu’en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56000" y="1268280"/>
            <a:ext cx="3676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n rayon de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5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907920"/>
            <a:ext cx="727704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looGun"/>
              </a:rPr>
              <a:t>mon rayon de solei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looGun"/>
              <a:ea typeface="GlooGu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200" y="3327480"/>
            <a:ext cx="90378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avec 4ème WordArt de la 5ème lig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ux clics rapides sur le WordArt pour ouvrir la fenêtre de modification de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a police par défaut « Impact » par « Gloogun » et augmenter la taille à 96, faire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aisser la poignée d’ajustement jusqu’en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200" y="34671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e WordArt ci-dessus pour qu’il ressemble à celui-ci-dess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35280" y="333360"/>
            <a:ext cx="5256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bum photo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6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4076640"/>
            <a:ext cx="79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bum photo 200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22936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6560" y="1268280"/>
            <a:ext cx="79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bum photo 200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200" y="4586400"/>
            <a:ext cx="903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qui ressemble le plus à celui : c’est le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dimensionner le WordArt en tirant sur les b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6560" y="1557360"/>
            <a:ext cx="777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s nous en souviendrons longtemps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 rot="20647800">
            <a:off x="1145880" y="4508280"/>
            <a:ext cx="861048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7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36115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e WordArt ci-dessus pour qu’il ressemble à celui-ci-dess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5667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e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second Wordart est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, la police utilisée est « Vivaldi », la taille des lettres est « 60 », et il faut utiliser la poignée de rotation (et seulement cette poigné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700280"/>
            <a:ext cx="9037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6560" y="1052640"/>
            <a:ext cx="777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s nous en souviendrons longtemps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2560" y="4976640"/>
            <a:ext cx="7777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us nous en souviendrons longtemp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phase 1 – transformer le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rot="1131600">
            <a:off x="-720" y="2997000"/>
            <a:ext cx="903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ux clics rapides sur le WordArt pour ouvrir la fenêtre de modification de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a police par défaut « Impact » par « Vivaldi » et augmenter la taille à 60, faire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00000" y="2205000"/>
            <a:ext cx="777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us nous en souviendrons longtemp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phase 2 – changer le texte du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54040" y="4797360"/>
            <a:ext cx="92394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718200">
            <a:off x="105840" y="3715920"/>
            <a:ext cx="90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en restant appuyé sur la poignée de rotation et en déplaçant le curseur vers la gauche, ce qui a pour effet d’aplatir l’angle que faisait le WordArt avec la ligne d’horizon, puis lâcher quand on arrive à l’avoir presque horizont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640" y="2284560"/>
            <a:ext cx="92390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  <p:sp>
        <p:nvSpPr>
          <p:cNvPr id="9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phase 3 – réorienter le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20683800">
            <a:off x="1165320" y="5451120"/>
            <a:ext cx="92390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3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r le texte par « Mon beau verge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3068640"/>
            <a:ext cx="7010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casse d'automobiles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5661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quer deux fois rapidement sur le WordArt pour accéder à la fenêtre « Modification du texte WordArt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3068640"/>
            <a:ext cx="7010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on beau verger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623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e texte par « Elections à X-vi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981000"/>
            <a:ext cx="6496200" cy="388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RGENT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2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61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quer deux fois rapidement sur le WordArt pour accéder à la fenêtre « Modification du texte WordArt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2920" y="981000"/>
            <a:ext cx="6496200" cy="388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ions à X-vill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551664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Changer le texte par « à l’ombre des séquoia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tirer le WordArt pour qu’il prenne une très grande place dans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Accentuer un peu l’effet poin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357280" y="3105000"/>
            <a:ext cx="44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à l'ombre des cyclam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3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907920"/>
            <a:ext cx="784836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à l'ombre des séquoi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deux fois clics rapides pour changer le texte + étirer WordArt par les bords + tirer (un peu) la poignée d’ajustement (losange jaune) vers l’axe central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6165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hanger le WordArt avec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640" y="2133720"/>
            <a:ext cx="54165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empus Sans ITC"/>
              </a:rPr>
              <a:t>Baby choux à 6 moi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3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4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200" y="4653000"/>
            <a:ext cx="835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avec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63640" y="2133720"/>
            <a:ext cx="54165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by choux à 6 moi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4:31:57Z</dcterms:created>
  <dc:creator>Tribouillier</dc:creator>
  <dc:description/>
  <dc:language>en-US</dc:language>
  <cp:lastModifiedBy>Tribouillier</cp:lastModifiedBy>
  <dcterms:modified xsi:type="dcterms:W3CDTF">2008-04-03T15:15:42Z</dcterms:modified>
  <cp:revision>12</cp:revision>
  <dc:subject/>
  <dc:title>Titres en WordArt</dc:title>
</cp:coreProperties>
</file>