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DB46-8679-44DE-B48F-28B59CBE2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BBBC-D1E1-4ECE-AB1B-82BA2D66B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5C8E-06B7-4EC0-ABDA-F7BFE5D62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68E5-0A78-4872-AB89-5419EA989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61AE-3BDD-4108-B330-C3B069495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F539-CBFD-4B39-B12A-3BB8A85E8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421F-A99B-4C92-9173-DA20FF04B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86E6-496D-4AB7-82F6-72E962527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E085-F637-4912-B418-B7E7EEA1B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21B6-5383-498A-B185-90E6E750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6E52-AD1B-4F2A-81C2-5AE0DEE67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7ECD-0423-40A3-9BB2-3F51732D2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0EF67-8EAD-4F38-981C-8A085E2AF2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llowe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o An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ire bouger la citroui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635280" y="2830680"/>
            <a:ext cx="1809720" cy="1485720"/>
          </a:xfrm>
          <a:prstGeom prst="rect">
            <a:avLst/>
          </a:prstGeom>
          <a:ln w="0">
            <a:noFill/>
          </a:ln>
        </p:spPr>
      </p:pic>
    </p:spTree>
  </p:cSld>
  <p:transition advTm="4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635280" y="2830680"/>
            <a:ext cx="1809720" cy="1485720"/>
          </a:xfrm>
          <a:prstGeom prst="rect">
            <a:avLst/>
          </a:prstGeom>
          <a:ln w="0">
            <a:noFill/>
          </a:ln>
        </p:spPr>
      </p:pic>
    </p:spTree>
  </p:cSld>
  <p:transition advTm="4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400" fill="hold"/>
                                        <p:tgtEl>
                                          <p:spTgt spid="43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7" nodeType="withEffect" fill="hold" presetClass="emph" presetID="6" repeatCount="1000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8" dur="400" fill="hold"/>
                                        <p:tgtEl>
                                          <p:spTgt spid="43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9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2700000">
                                      <p:cBhvr>
                                        <p:cTn id="10" dur="4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8">
                                  <p:stCondLst>
                                    <p:cond delay="1200"/>
                                  </p:stCondLst>
                                  <p:childTnLst>
                                    <p:animRot by="-5400000">
                                      <p:cBhvr>
                                        <p:cTn id="12" dur="4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8">
                                  <p:stCondLst>
                                    <p:cond delay="1600"/>
                                  </p:stCondLst>
                                  <p:childTnLst>
                                    <p:animRot by="2700000">
                                      <p:cBhvr>
                                        <p:cTn id="14" dur="4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635280" y="2830680"/>
            <a:ext cx="1809720" cy="1485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7200" y="708120"/>
            <a:ext cx="8229600" cy="16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 ralenti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6560" y="-27000"/>
            <a:ext cx="8229600" cy="16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 fait la citrouille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" repeatCount="100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" dur="1000" fill="hold"/>
                                        <p:tgtEl>
                                          <p:spTgt spid="44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6" repeatCount="1000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36" dur="1000" fill="hold"/>
                                        <p:tgtEl>
                                          <p:spTgt spid="44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2700000">
                                      <p:cBhvr>
                                        <p:cTn id="3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-5400000">
                                      <p:cBhvr>
                                        <p:cTn id="4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" nodeType="withEffect" fill="hold" presetClass="emph" presetID="8">
                                  <p:stCondLst>
                                    <p:cond delay="4000"/>
                                  </p:stCondLst>
                                  <p:childTnLst>
                                    <p:animRot by="2700000">
                                      <p:cBhvr>
                                        <p:cTn id="4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635280" y="2830680"/>
            <a:ext cx="1809720" cy="14857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57200" y="136440"/>
            <a:ext cx="8229600" cy="16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Attention, ouvrons l’oei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citrouil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0920" y="3644640"/>
            <a:ext cx="3132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Gross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08000" y="4443120"/>
            <a:ext cx="4316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Tourne vers la gau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645000"/>
            <a:ext cx="3132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Réd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721400" y="4443480"/>
            <a:ext cx="4316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Tourne vers la dro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489040" y="5235480"/>
            <a:ext cx="4316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Revient au cen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84360" y="5950080"/>
            <a:ext cx="43164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Disparaî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" repeatCount="100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" dur="1000" fill="hold"/>
                                        <p:tgtEl>
                                          <p:spTgt spid="47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6" repeatCount="1000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64" dur="1000" fill="hold"/>
                                        <p:tgtEl>
                                          <p:spTgt spid="4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2700000">
                                      <p:cBhvr>
                                        <p:cTn id="6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-5400000">
                                      <p:cBhvr>
                                        <p:cTn id="7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mph" presetID="8">
                                  <p:stCondLst>
                                    <p:cond delay="4000"/>
                                  </p:stCondLst>
                                  <p:childTnLst>
                                    <p:animRot by="2700000">
                                      <p:cBhvr>
                                        <p:cTn id="7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ls sont effets liés à la citrouille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a citrouille grandit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’est l’effet d’em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grandir/rétrécir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à 20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a citrouille rétrécit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’est l’effet d’em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grandir/rétrécir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à 5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115920"/>
            <a:ext cx="8229600" cy="66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a citrouille tourne à gauche 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’est l’effet d’em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Rotatio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e 45° dans le sens d’une mont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a citrouille tourne à droit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’est l’effet d’em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Rotatio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e 90° dans le sens inverse d’une mont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a citrouille revient au centr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’est l’effet d’em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Rotatio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e 45° dans le sens d’une mont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affichez la chronologie avancé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1844640"/>
            <a:ext cx="836280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us les 5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urent 0,4 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ls démarrent tous avec le précéd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ls se suivent les uns les aut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96880" y="1052640"/>
            <a:ext cx="82296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métrage de ces effe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1200" y="4248000"/>
            <a:ext cx="850752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 dernier effet reste à ajouter à la citrouille :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l’effet de fermeture « disparaître 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ramétré pour prendre effet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u bout de 3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vec tous ces renseignements vous pouvez animer la citrouille dans la dernière diapositive puis la voir en diapora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ctr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i vous avez un doute, reportez à la deuxième diapositive, le volet Office ouvert à la rubrique « Personnalisez l’animation 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ctr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ctr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« Afficher la chronologie avancée » : clic droit sur un effet dans le volet office puis sur « Afficher la chronologie avancée 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43664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oici un aperçu de la chronologie des effets que vous pourrez y trou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5T13:42:36Z</dcterms:created>
  <dc:creator>Tribouillier</dc:creator>
  <dc:description/>
  <dc:language>en-US</dc:language>
  <cp:lastModifiedBy>Tribouillier</cp:lastModifiedBy>
  <dcterms:modified xsi:type="dcterms:W3CDTF">2008-10-15T16:56:08Z</dcterms:modified>
  <cp:revision>7</cp:revision>
  <dc:subject/>
  <dc:title>Halloween exo Animation</dc:title>
</cp:coreProperties>
</file>