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CDD-75A7-41C6-90FC-4E9E1433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433-3D69-49ED-B754-E28D09C0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6E2-4D15-4905-88FA-1E25B548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A3C-C76F-44CB-9F75-BBF95138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46E-1A86-42E0-9C05-2DCEB2C1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A84-790B-41D9-8C7E-CB07D120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AB2-0D1D-45AF-9193-924A007A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BD4-276F-42A0-8C4B-2522D755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5C1-F611-42CD-90DD-89B3BEFB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0EB-34CD-4DCC-B108-CC90493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EE1-067F-4AF6-9CC3-1E166260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A4A-216D-451B-A49B-1EA005C8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EF3-5F67-4258-AF94-0EDC4C3A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bouger la citro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35280" y="2830680"/>
            <a:ext cx="1809720" cy="1485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2830680"/>
            <a:ext cx="1809720" cy="1485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400" fill="hold"/>
                                        <p:tgtEl>
                                          <p:spTgt spid="4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8" dur="400" fill="hold"/>
                                        <p:tgtEl>
                                          <p:spTgt spid="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700000">
                                      <p:cBhvr>
                                        <p:cTn id="1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400000">
                                      <p:cBhvr>
                                        <p:cTn id="12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2700000">
                                      <p:cBhvr>
                                        <p:cTn id="14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5280" y="2830680"/>
            <a:ext cx="1809720" cy="148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708120"/>
            <a:ext cx="822960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 ralent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6560" y="-27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 fait la citrouill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 repeatCount="1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-5400000">
                                      <p:cBhvr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2700000">
                                      <p:cBhvr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2830680"/>
            <a:ext cx="1809720" cy="148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3644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ttention, ouvrons l’oe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itr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313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ros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8000" y="4443120"/>
            <a:ext cx="431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ourne vers la ga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645000"/>
            <a:ext cx="31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éd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1400" y="4443480"/>
            <a:ext cx="4316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ourne vers la dro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9040" y="5235480"/>
            <a:ext cx="4316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vient au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5950080"/>
            <a:ext cx="4316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Disparaî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 repeatCount="1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6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-5400000">
                                      <p:cBhvr>
                                        <p:cTn id="7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2700000">
                                      <p:cBhvr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s sont effets liés à la citrouill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grandit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grandir/rétrécir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à 2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rétréci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grandir/rétrécir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à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tourne à gauche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t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 45° dans le sens d’une mo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tourne à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t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 90° dans le sens inverse d’une mo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revient au cen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t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 45° dans le sens d’une mo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ffichez la chronologie avancé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844640"/>
            <a:ext cx="8362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s les 5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urent 0,4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ls démarrent tous avec le précé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ls se suivent les uns les au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6880" y="105264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étrage de ces eff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200" y="4248000"/>
            <a:ext cx="85075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dernier effet reste à ajouter à la citrouille 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de fermeture « disparaître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métré pour prendre eff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u bout de 3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c tous ces renseignements vous pouvez animer la citrouille dans la dernière diapositive puis la voir en diapor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 vous avez un doute, reportez à la deuxième diapositive, le volet Office ouvert à la rubrique « Personnalisez l’animation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 Afficher la chronologie avancée » : clic droit sur un effet dans le volet office puis sur « Afficher la chronologie avancée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436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ici un aperçu de la chronologie des effets que vous pourrez y trou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3:42:36Z</dcterms:created>
  <dc:creator>Tribouillier</dc:creator>
  <dc:description/>
  <dc:language>en-US</dc:language>
  <cp:lastModifiedBy>Tribouillier</cp:lastModifiedBy>
  <dcterms:modified xsi:type="dcterms:W3CDTF">2008-10-15T16:56:08Z</dcterms:modified>
  <cp:revision>7</cp:revision>
  <dc:subject/>
  <dc:title>Halloween exo Animation</dc:title>
</cp:coreProperties>
</file>