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FA0-5F48-4163-B93D-958BB7E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79F-8A7A-4781-9354-79BF9810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03B-1E6F-49AE-B446-800CC4DB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038-175F-4B7F-B01F-BA973E1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61-903A-49A1-98D1-4DDA76EA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14C-F547-4DDD-A724-660AD7A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04B-77B3-4306-92E8-9B0AF32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887-002B-4E17-8B24-D08C36C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4D0-B35A-4278-AC3E-CEFD2F2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94C-AF10-401A-BE62-DB6CDC7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753-306C-4A35-9A1B-DC5A79C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E94-65C0-4010-B7A4-DB279AD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226-41EF-4582-A8DD-B1E6769A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 Truc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crier la sorcière comme dans la diapositive sui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7080" y="1708200"/>
            <a:ext cx="1869840" cy="344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orcièr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7080" y="1708200"/>
            <a:ext cx="1869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43480" y="3573360"/>
            <a:ext cx="304560" cy="216000"/>
            <a:chOff x="4443480" y="3573360"/>
            <a:chExt cx="304560" cy="216000"/>
          </a:xfrm>
        </p:grpSpPr>
        <p:sp>
          <p:nvSpPr>
            <p:cNvPr id="45" name=""/>
            <p:cNvSpPr/>
            <p:nvPr/>
          </p:nvSpPr>
          <p:spPr>
            <a:xfrm>
              <a:off x="4443480" y="3573360"/>
              <a:ext cx="30456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49680" y="3573360"/>
              <a:ext cx="7272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13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crier la sorcière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r la mine réjouie de la sorcière, en lui créant une nouvelle bouc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érer un cri et paramétrer son animation avec l’apparition de sa nouvelle b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re les explications suivant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19280" y="1589040"/>
            <a:ext cx="74325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ut insérer un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e automatique ron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a remplir 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érer un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e automatique carr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a remplir 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choisir la couleur brun pour son trai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r les deux formes l’une sur l’autre, les sélectionner ensemble et l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ou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r le groupe sur la bouche de la sorcière, et lui ajouter l’effet d’ouvertu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« apparaître » au bout de 0,5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534520" y="765000"/>
            <a:ext cx="304560" cy="216000"/>
            <a:chOff x="8534520" y="765000"/>
            <a:chExt cx="304560" cy="216000"/>
          </a:xfrm>
        </p:grpSpPr>
        <p:sp>
          <p:nvSpPr>
            <p:cNvPr id="52" name=""/>
            <p:cNvSpPr/>
            <p:nvPr/>
          </p:nvSpPr>
          <p:spPr>
            <a:xfrm>
              <a:off x="8534520" y="765000"/>
              <a:ext cx="30456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40720" y="765000"/>
              <a:ext cx="7272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nouvelle bouche de la sorcièr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67480" y="2160720"/>
            <a:ext cx="30492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51480" y="3600360"/>
            <a:ext cx="730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52000" y="4537080"/>
            <a:ext cx="304560" cy="193680"/>
            <a:chOff x="8352000" y="4537080"/>
            <a:chExt cx="304560" cy="193680"/>
          </a:xfrm>
        </p:grpSpPr>
        <p:sp>
          <p:nvSpPr>
            <p:cNvPr id="58" name=""/>
            <p:cNvSpPr/>
            <p:nvPr/>
          </p:nvSpPr>
          <p:spPr>
            <a:xfrm>
              <a:off x="8352000" y="4537080"/>
              <a:ext cx="3045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8200" y="4537080"/>
              <a:ext cx="7272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075040"/>
            <a:ext cx="187020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06480" y="3940200"/>
            <a:ext cx="304920" cy="216000"/>
            <a:chOff x="906480" y="3940200"/>
            <a:chExt cx="304920" cy="216000"/>
          </a:xfrm>
        </p:grpSpPr>
        <p:sp>
          <p:nvSpPr>
            <p:cNvPr id="62" name=""/>
            <p:cNvSpPr/>
            <p:nvPr/>
          </p:nvSpPr>
          <p:spPr>
            <a:xfrm>
              <a:off x="906480" y="3940200"/>
              <a:ext cx="304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13040" y="3940200"/>
              <a:ext cx="7308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7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us pouvez ajuster avec précision votre « bouche ouverte» par le « Format de l’objet » formé par la bouche et la dent group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373720"/>
            <a:ext cx="8229600" cy="14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le trouve : - en cliquant droit sur le groupe, ou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par le menu Format après avoir sélectionner le grou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ri de la sorciè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r votre ordinateur à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vrir le volet office sur « Images clipart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Rechercher dans »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cher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Collections We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dans le déroulant des collections sélectionn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les résultats devraient être »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cher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fichiers so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dans le déroulant Types de fichiers multimédias sélectionn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Rechercher »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crire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yah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et en face cliquer deux fois sur « ok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0872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crier la sorciè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ér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clipart, répondre «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tomatiqu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» pour le faire jo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er le clipar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-dehors de la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volet « Personnaliser l’animation », vérifier que le début du son coïncide avec l’apparition du groupe « bouche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uer votre diapositive en diapo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48000" y="5300640"/>
            <a:ext cx="2447640" cy="720720"/>
            <a:chOff x="3348000" y="5300640"/>
            <a:chExt cx="2447640" cy="720720"/>
          </a:xfrm>
        </p:grpSpPr>
        <p:sp>
          <p:nvSpPr>
            <p:cNvPr id="73" name=""/>
            <p:cNvSpPr/>
            <p:nvPr/>
          </p:nvSpPr>
          <p:spPr>
            <a:xfrm>
              <a:off x="3635280" y="5300640"/>
              <a:ext cx="19447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48000" y="5300640"/>
              <a:ext cx="24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720" y="5516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4360" y="602136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551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Si vous n’avez pas la possibilité de télécharger les cliparts, l’élément « yah » est joint ci-aprè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Vous pourrez le « copier-coller » dans la dernière diapositive, diapositive où se trouve la sorc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31760"/>
            <a:ext cx="857160" cy="15764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part son « yah 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13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1:43:45Z</dcterms:created>
  <dc:creator>Tribouillier</dc:creator>
  <dc:description/>
  <dc:language>en-US</dc:language>
  <cp:lastModifiedBy>Tribouillier</cp:lastModifiedBy>
  <dcterms:modified xsi:type="dcterms:W3CDTF">2008-10-15T16:55:53Z</dcterms:modified>
  <cp:revision>12</cp:revision>
  <dc:subject/>
  <dc:title>Halloween exo Trucages</dc:title>
</cp:coreProperties>
</file>