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D7F-C9D4-4F49-BC45-E29CDA61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AE4-B9A9-4302-9FF4-7CB91AD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CE5-0B8B-4764-8AC4-DA2A4E06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DB9-6322-4DC5-B398-7DAC6058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23B-E92C-4F99-B929-DECA2C03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3AA-86B0-4811-8931-B8D109D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03E-2DFE-4C10-8D57-C54EAEF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8F3-2972-40D6-B1EB-D6E1686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70A-ABA0-4246-A6AB-6F9B048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041-4F92-43BB-8F9B-7EBB16F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FF6-19A2-4DC5-8578-AD7C89F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E4E-3A16-453C-B702-DE4FA62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3CE6-2093-4AEF-ADF1-AD7C60476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o Wor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un titre de présentation à l’image de cette fê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 Créer le sous-titre WordAr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ous-titre « Un jour pas comme les autres !!!! » a également été créé à partir du 4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ordArt de la 1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igne. Idem, il a été laissé tel quel (police « Impact » et taille « 36 » points) pour être agrandi manuel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a juste été 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descendu dans la diapositive,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comme vous pourrez le faire jusque dans ses marques dans la diapositive suiva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6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38120" y="3049560"/>
            <a:ext cx="646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e sous-titr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’emphase « Chancel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a été collé au sous-ti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pouvez à prése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« copier-coller » dans la dernière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ù vous le paramétrez pour qu’i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 avec le précédent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e à « Début : » dans le haut du volet Office « personnaliser l’animation », on peut faire démarrer un effet dans une même action que l’effet précé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746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Impact"/>
              <a:ea typeface="Impact"/>
            </a:endParaRPr>
          </a:p>
        </p:txBody>
      </p:sp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électionner le 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’eff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Eclat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à fai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r avec le précédent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on 0) e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faire débu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2,5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élai à définir dans l’onglet « minutage », ou, faire glisser la brique correspondante dans la chronologie avancé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ficher la fenêtre de l’effet : cliquer deux fois rapidement sur l’effet dans le vole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80000" y="160020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Sélectionner le 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jou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in « Chute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fai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r avec le précédent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monter au-dessus de l’effet lié au sous-ti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ns le vole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 flèches « Organiser » dans le bas du volet sont pratiques pour ce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faire débuter à partir d’un délai de 3,2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580000" y="1501920"/>
            <a:ext cx="1441440" cy="48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électionner le sous-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« Chanceler » est à fair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ébuter à 3,7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urer 1,3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r au sous-tit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in « Monter », et le faire « démarrer avec le précédent 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insi il chancellera tout en montant. Il est à faire 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ébuter à 3,8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urer 1,4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29280" y="14842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ci la chronologie avanc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rques 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 un fond indigo tout ce qui est indigo sera rendu transparent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 décalages entre les débuts et fins des effet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t pour effet de marquer l’éclatement du titre avant sa chute, de marquer une pause avant l’animation du sous-titre, puis de laisser du temps au sous-titre pour chanceler avant de disparaître en montant.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diapo suivan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à vous de jo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exercice peut se faire de deux faç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pouvez regarder le modèle,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ercher dans la diapositive modè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taille, la pol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emplac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nimations (ouverture, emphase, fermeture ou déplacement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ramètrage (début, fin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WordArts pour les refaire à l’identique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 simplement vous en inspi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exercice peut se faire de deux faç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vous pouvez aussi suivre le pas-à-pas et vous laissez guider pour réaliser ce qu’il y a dans la diapositive modèle qui s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00000" y="692280"/>
            <a:ext cx="748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5840" y="4292640"/>
            <a:ext cx="646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37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32">
                                  <p:stCondLst>
                                    <p:cond delay="3700"/>
                                  </p:stCondLst>
                                  <p:childTnLst>
                                    <p:animClr clrSpc="rgb">
                                      <p:cBhvr>
                                        <p:cTn id="19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6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60" fill="hold">
                                          <p:stCondLst>
                                            <p:cond delay="52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60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60" fill="hold">
                                          <p:stCondLst>
                                            <p:cond delay="104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47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plante le déc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it nuit n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itre « Halloween » va brusquement bondir vers le spectateur pour s’aplatir contre l’écran et se transformer en lettres de.. Sang !!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us-titre « un jour pas comme les autres » va monter au ciel tel un fantô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our rendre la nuit tombé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uleur «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i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» pour l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ière-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ns la toute dernière diaposi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 Créer le WordArt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itre « Halloween » a été créé à partir du 4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ordArt de la 1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igne. Il a été laissé tel quel (police « Impact » et taille « 36 » points) pour être agrandi manuel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Dans la diapositive suivante étirer le ti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1/ par un coin jusqu’à un coin du cadre en pointill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2/ puis en hauteur et en largeur, jusqu’aux bords prédéfin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20421600">
            <a:off x="250920" y="37116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38440" y="3052800"/>
            <a:ext cx="206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e « Halloween 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iquez l’effet d’emphase « Eclat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 titre puis modifier les pré-programmations de l’effet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sser sa vite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« moyenne »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« très rapide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échang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couleu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Indigo »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défini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ans laquelle ses lettres vont devenir en « rouge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n’avez plus qu’à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copier-coller » le titre dans la dernière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20421600">
            <a:off x="250920" y="37116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7:13:38Z</dcterms:created>
  <dc:creator>Tribouillier</dc:creator>
  <dc:description/>
  <dc:language>en-US</dc:language>
  <cp:lastModifiedBy>Tribouillier</cp:lastModifiedBy>
  <dcterms:modified xsi:type="dcterms:W3CDTF">2008-10-16T06:08:34Z</dcterms:modified>
  <cp:revision>26</cp:revision>
  <dc:subject/>
  <dc:title>Halloween exo WordArts</dc:title>
</cp:coreProperties>
</file>