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4FE-C7D2-45BC-8706-9B910147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D96F-5A55-4E37-A0B9-715CB337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5EE-6F29-4ED9-91E4-E247361D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5BB-7E0F-47E2-8BA3-6AB9D79D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063-9B17-4A3A-8769-4DEE0A68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399-A77E-4E51-A49B-F0AA56C4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FC13-2265-4593-8E7F-8FDC66F4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7F2E-F708-4EBA-927F-02B74CE1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33D-2B0B-4273-B6E0-99510433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0FD-C028-4166-A674-796A856E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9C3A-6B31-4B7F-A3B4-0FD4D3F5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817-34CC-481E-A969-F59B2F8E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08B1-30B2-4747-936A-6F36FBA11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alloween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xo Word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éer un titre de présentation à l’image de cette fê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. Créer le sous-titre WordAr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ous-titre « Un jour pas comme les autres !!!! » a également été créé à partir du 4</a:t>
            </a:r>
            <a:r>
              <a:rPr b="0" lang="fr-FR" sz="3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WordArt de la 1</a:t>
            </a:r>
            <a:r>
              <a:rPr b="0" lang="fr-FR" sz="32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ligne. Idem, il a été laissé tel quel (police « Impact » et taille « 36 » points) pour être agrandi manuell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a juste été </a:t>
            </a: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descendu dans la diapositive,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comme vous pourrez le faire jusque dans ses marques dans la diapositive suiva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74680"/>
            <a:ext cx="265752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UN JOUR PAS COMME LES AUTRES !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2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338120" y="3049560"/>
            <a:ext cx="6467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UN JOUR PAS COMME LES AUTRES !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1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e sous-titr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’effet d’emphase « Chanceler 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i a été collé au sous-ti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us pouvez à présen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 « copier-coller » dans la dernière dia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ù vous le paramétrez pour qu’il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« démarre avec le précédent 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ce à « Début : » dans le haut du volet Office « personnaliser l’animation », on peut faire démarrer un effet dans une même action que l’effet précé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74680"/>
            <a:ext cx="265752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Impact"/>
              </a:rPr>
              <a:t>UN JOUR PAS COMME LES AUTRES !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noFill/>
              <a:latin typeface="Impact"/>
              <a:ea typeface="Impact"/>
            </a:endParaRPr>
          </a:p>
        </p:txBody>
      </p:sp>
    </p:spTree>
  </p:cSld>
  <p:transition advTm="2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s à peaufiner sur la dia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électionner le tit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L’effe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« Eclater 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t à fair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« démarrer avec le précédent 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ction 0) e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faire début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à 2,5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délai à définir dans l’onglet « minutage », ou, faire glisser la brique correspondante dans la chronologie avancé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fficher la fenêtre de l’effet : cliquer deux fois rapidement sur l’effet dans le volet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580000" y="1600200"/>
            <a:ext cx="144144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HALLOW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 advTm="20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s à peaufiner sur la dia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507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 Sélectionner le tit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jout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’effet de fin « Chute »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 fair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« démarrer avec le précédent »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 monter au-dessus de l’effet lié au sous-tit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ns le volet Of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s flèches « Organiser » dans le bas du volet sont pratiques pour ce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 faire débuter à partir d’un délai de 3,2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580000" y="1501920"/>
            <a:ext cx="1441440" cy="48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HALLOW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 advTm="20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s à peaufiner sur la dia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Sélectionner le sous-tit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’effet « Chanceler » est à faire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 débuter à 3,7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t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 durer 1,3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r au sous-titr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’effet de fin « Monter », et le faire « démarrer avec le précédent 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insi il chancellera tout en montant. Il est à faire 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 débuter à 3,8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t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 durer 1,4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29280" y="1484280"/>
            <a:ext cx="265752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Impact"/>
              </a:rPr>
              <a:t>UN JOUR PAS COMME LES AUTRES !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noFill/>
              <a:latin typeface="Impact"/>
              <a:ea typeface="Impact"/>
            </a:endParaRPr>
          </a:p>
        </p:txBody>
      </p:sp>
    </p:spTree>
  </p:cSld>
  <p:transition advTm="20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78800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ici la chronologie avanc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marques 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r un fond indigo tout ce qui est indigo sera rendu transparent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s décalages entre les débuts et fins des effet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t pour effet de marquer l’éclatement du titre avant sa chute, de marquer une pause avant l’animation du sous-titre, puis de laisser du temps au sous-titre pour chanceler avant de disparaître en montant.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s la diapo suivant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est à vous de jou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’exercice peut se faire de deux faç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us pouvez regarder le modèle,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ercher dans la diapositive modè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taille, la pol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emplac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animations (ouverture, emphase, fermeture ou déplacement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paramètrage (début, fin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 WordArts pour les refaire à l’identique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 simplement vous en inspi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’exercice peut se faire de deux faç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 vous pouvez aussi suivre le pas-à-pas et vous laissez guider pour réaliser ce qu’il y a dans la diapositive modèle qui su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00000" y="692280"/>
            <a:ext cx="74883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ALLOW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85840" y="4292640"/>
            <a:ext cx="646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UN JOUR PAS COMME LES AUTRES !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4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37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32">
                                  <p:stCondLst>
                                    <p:cond delay="3700"/>
                                  </p:stCondLst>
                                  <p:childTnLst>
                                    <p:animClr clrSpc="rgb">
                                      <p:cBhvr>
                                        <p:cTn id="19" dur="13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" dur="13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" dur="13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" dur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6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" dur="260" fill="hold">
                                          <p:stCondLst>
                                            <p:cond delay="52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60" fill="hold">
                                          <p:stCondLst>
                                            <p:cond delay="78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" dur="260" fill="hold">
                                          <p:stCondLst>
                                            <p:cond delay="104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47">
                                  <p:stCondLst>
                                    <p:cond delay="3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4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4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4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plante le déc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fait nuit no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itre « Halloween » va brusquement bondir vers le spectateur pour s’aplatir contre l’écran et se transformer en lettres de.. Sang !!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ous-titre « un jour pas comme les autres » va monter au ciel tel un fantôm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Pour rendre la nuit tombé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uleur « 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dig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» pour l’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rière-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ns la toute dernière diaposi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. Créer le WordArt ti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titre « Halloween » a été créé à partir du 4</a:t>
            </a:r>
            <a:r>
              <a:rPr b="0" lang="fr-FR" sz="3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WordArt de la 1</a:t>
            </a:r>
            <a:r>
              <a:rPr b="0" lang="fr-FR" sz="32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ligne. Il a été laissé tel quel (police « Impact » et taille « 36 » points) pour être agrandi manuell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Dans la diapositive suivante étirer le ti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1/ par un coin jusqu’à un coin du cadre en pointill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2/ puis en hauteur et en largeur, jusqu’aux bords prédéfini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 rot="20421600">
            <a:off x="250920" y="371160"/>
            <a:ext cx="144144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ALLOW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2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538440" y="3052800"/>
            <a:ext cx="2067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ALLOW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re « Halloween 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ppliquez l’effet d’emphase « Eclater 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u titre puis modifier les pré-programmations de l’effet 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sser sa vite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« moyenne »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à « très rapide »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échang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 couleu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 Indigo »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défini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dans laquelle ses lettres vont devenir en « rouge 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us n’avez plus qu’à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« copier-coller » le titre dans la dernière dia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 rot="20421600">
            <a:off x="250920" y="371160"/>
            <a:ext cx="144144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HALLOW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 advTm="2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7:13:38Z</dcterms:created>
  <dc:creator>Tribouillier</dc:creator>
  <dc:description/>
  <dc:language>en-US</dc:language>
  <cp:lastModifiedBy>Tribouillier</cp:lastModifiedBy>
  <dcterms:modified xsi:type="dcterms:W3CDTF">2008-10-16T06:08:34Z</dcterms:modified>
  <cp:revision>26</cp:revision>
  <dc:subject/>
  <dc:title>Halloween exo WordArts</dc:title>
</cp:coreProperties>
</file>