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186-CFD3-4FEE-ACE4-C76BA16B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FDE-8F72-42DA-A581-239AA750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EA2-014A-4553-9C45-E71179FE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7ED-7C73-4B82-9795-CCF8795F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C95-C8AA-43E3-A735-1FCBF8AC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E3F-E7F5-4869-89C1-6151C42E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265-3DBD-45E6-9111-F72AA2BA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038-47BD-4AE9-AD2A-FAE3D707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A55-65B2-46CE-9DDE-5B0EE692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CDA-E00D-447B-ABAC-3DF1B067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435-B36B-450A-8333-36625768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B50-0070-419F-9953-D4FFFAAF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502A-0908-4502-96FE-BAAF222B9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09800" y="31449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juster son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09800" y="31449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Le 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79736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fenêtre « Modification du texte WordArt » est tout simplement celle dans laquelle on a écrit le texte du Word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« Modification du texte WordArt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1417680"/>
            <a:ext cx="4969080" cy="324324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 Modifier le texte…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faire réapparaître la fenêtre « modification du texte WordArt », vous pouvez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quer deux fois très vite sur le WordAr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puis la barre d’outils WordArt, cliquer sur « Modifier le texte… », ou enc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quer droit sur le WordArt et choisir « Modifier le texte…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 cette fenêtre, on peut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« Modification du texte WordArt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0" b="52481"/>
          <a:stretch/>
        </p:blipFill>
        <p:spPr>
          <a:xfrm>
            <a:off x="457200" y="4292640"/>
            <a:ext cx="4968720" cy="154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3240" y="242100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la police du tex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7960" y="30351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la taille des let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4320" y="371016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tre le texte 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 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a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97560" y="4797360"/>
            <a:ext cx="3467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rimer ou ajouter des mo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ter des lign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crire en majuscules ou en minus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572000" y="567072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779640" y="4076640"/>
            <a:ext cx="23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40360" y="4076640"/>
            <a:ext cx="3311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203280" y="3402000"/>
            <a:ext cx="576360" cy="11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71280" y="2787480"/>
            <a:ext cx="647640" cy="172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97560" y="4797360"/>
            <a:ext cx="73080" cy="1739880"/>
          </a:xfrm>
          <a:custGeom>
            <a:avLst/>
            <a:gdLst>
              <a:gd name="textAreaLeft" fmla="*/ 21240 w 73080"/>
              <a:gd name="textAreaRight" fmla="*/ 73440 w 73080"/>
              <a:gd name="textAreaTop" fmla="*/ 72360 h 1739880"/>
              <a:gd name="textAreaBottom" fmla="*/ 1667520 h 173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48320" y="2743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sauter une ligne faire « entrer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peut tout écrire en majuscul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 changer la typographi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 changer la taille du tex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57080" y="47628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58880" y="1849320"/>
            <a:ext cx="3524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u soleil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7080" y="285768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OS DERNIERES VACANCES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57080" y="3716280"/>
            <a:ext cx="352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lba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lba"/>
              <a:ea typeface="Alb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7080" y="450864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ustralian Sunrise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ustralian Sunrise"/>
              <a:ea typeface="Australian Sunris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5300640"/>
            <a:ext cx="74581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ustralian Sunrise"/>
              </a:rPr>
              <a:t>Vacances au soleil</a:t>
            </a:r>
            <a:endParaRPr b="0" lang="en-US" sz="66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ustralian Sunrise"/>
              <a:ea typeface="Australian Sunris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juster son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809800" y="31449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dimensio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6360" y="5470560"/>
            <a:ext cx="3672000" cy="1343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’est un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bje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on texte n’apparaît pas dans le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l est malléable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 peut l’agrandir horizontalement, verticalement, les deux à la fois, e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l est pourvu d’une poignée de rotation (rond vert), et, selon sa forme, peut avoir des poignées d’ajustements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losanges jaun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Propriétés d’un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imension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difier les dimensions du WordArt est à votre libre appréci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appel : étirer par les coins ou les côtés se fait avec le clic de la souris enfonc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les applica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ux versions différentes pour deux objectifs différ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placement horizontal du losange jaune vers la gauche = inclinaison vers la dro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76640" y="40053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5033880"/>
            <a:ext cx="3524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 po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ession de calme, contemp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76640" y="5035680"/>
            <a:ext cx="352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 dyna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ession de mou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8400" y="3213000"/>
            <a:ext cx="72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 / aprè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00000" y="40053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r comparaiso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0120" y="223992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ordArt d’ori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47600" y="213840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/>
          <p:nvPr/>
        </p:nvSpPr>
        <p:spPr>
          <a:xfrm>
            <a:off x="5010120" y="365112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 mis en italique par la fenêtre de Modification du tex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47600" y="3686040"/>
            <a:ext cx="352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47600" y="5270400"/>
            <a:ext cx="352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5010120" y="523548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 couché par manipulation de la poignée d’ajus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t créer un Word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t ajuster son Word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juster le texte de son Word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juster les dimensions de son Word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anger de Word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te : les diapositives en</a:t>
            </a: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 bleue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ont liées aux caractéristiques des Word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irement vertical de l’obj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les lettres suivent l’allongement de la forme, deviennent plus ha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ion de manip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0160" y="424980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u soleil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51520" y="4249800"/>
            <a:ext cx="35240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u soleil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515772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 trop écra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400" y="3500280"/>
            <a:ext cx="72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 / aprè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r comparaiso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10120" y="351000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 trop écrasé par redimensionn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7600" y="361332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u soleil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5443560" y="2098800"/>
            <a:ext cx="26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ordArt d’origine texte trop allong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908000" y="1916280"/>
            <a:ext cx="183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u soleil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5226120" y="4960800"/>
            <a:ext cx="30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re « chaleureux » obtenu par redimensi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47600" y="4740120"/>
            <a:ext cx="3524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u soleil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apetissement vertical de l’objet + déplacement vers la gauche de la poignée de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= les lettres sont un peu plus écrasées et le WordArt est penché vers la gauc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gner en clart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0160" y="594216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 trop massif voire ill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68400" y="4502160"/>
            <a:ext cx="72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 / aprè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0160" y="5084640"/>
            <a:ext cx="352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OS DERNIERES VACANC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 rot="21235800">
            <a:off x="5052960" y="5084280"/>
            <a:ext cx="35244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OS DERNIERES VACANCE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5162400" y="580536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 plus léger et « sympathiqu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portions du WordArt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t taille de tex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ant de le redimensionner, on peut choisir, dans son Format, que sa taille reste « proportionnelle » en cochant la case du même nom de l’onglet « Taille 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tons, qu’en augmentant ou rétrécissant la taille de son texte, on agrandit ou rétrécit le WordArt d’autant et ce proportionnel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s que lorsque on étire le WordArt, même proportionnément, on ne change pas pour autant la taille de la pol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changer son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09800" y="31449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hang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 forme, ses couleurs, sa poli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 pas son texte ni la taille de son 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anger de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changer de WordArt, il faut retourner dans la Galerie WordArt 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ns la barre d’outils WordArt, cliquer sur le 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A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 » en relief et penché se trouvant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eva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able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symbolisant la Galeri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quer sur une nouvelle forme prédéfini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us pouvez en avoir un aperçu avant de fermer la fenêtre, soit en cliquant sur 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758000" y="260280"/>
          <a:ext cx="979560" cy="774720"/>
        </p:xfrm>
        <a:graphic>
          <a:graphicData uri="http://schemas.openxmlformats.org/drawingml/2006/table">
            <a:tbl>
              <a:tblPr/>
              <a:tblGrid>
                <a:gridCol w="326880"/>
                <a:gridCol w="325440"/>
                <a:gridCol w="32724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1368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1368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99ff"/>
                      </a:solidFill>
                    </a:lnL>
                    <a:lnR w="13680">
                      <a:solidFill>
                        <a:srgbClr val="6699ff"/>
                      </a:solidFill>
                    </a:lnR>
                    <a:lnT w="1368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99ff"/>
                      </a:solidFill>
                    </a:lnL>
                    <a:lnR w="1368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99ff"/>
                      </a:solidFill>
                    </a:lnL>
                    <a:lnR w="1368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1368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1368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99ff"/>
                      </a:solidFill>
                    </a:lnL>
                    <a:lnR w="1368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13680">
                      <a:solidFill>
                        <a:srgbClr val="66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 txBox="1"/>
          <p:nvPr/>
        </p:nvSpPr>
        <p:spPr>
          <a:xfrm rot="1320000">
            <a:off x="8305560" y="54900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6699ff"/>
                    </a:gs>
                  </a:gsLst>
                  <a:lin ang="9480000"/>
                </a:gradFill>
                <a:latin typeface="Times New Roman"/>
              </a:rPr>
              <a:t>A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6699ff"/>
                  </a:gs>
                </a:gsLst>
                <a:lin ang="9480000"/>
              </a:gradFill>
              <a:latin typeface="Times New Roman"/>
              <a:ea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589720" y="2276640"/>
            <a:ext cx="3097080" cy="865080"/>
          </a:xfrm>
          <a:prstGeom prst="rect">
            <a:avLst/>
          </a:prstGeom>
          <a:ln w="0">
            <a:noFill/>
          </a:ln>
        </p:spPr>
      </p:pic>
    </p:spTree>
  </p:cSld>
  <p:transition advTm="32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Galerie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La galerie WordArt réunit des manières prédéfinies d’écrire un texte ; elles se distinguent pa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6720" y="3068640"/>
            <a:ext cx="4175280" cy="3602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32480" y="3429000"/>
            <a:ext cx="43434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urs couleu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ur for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ur orientation dans les 3 dimen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ur o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84040" y="2349360"/>
            <a:ext cx="352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5560" y="2712960"/>
            <a:ext cx="352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Vacances au sole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6560" y="84564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e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76720" y="5162400"/>
            <a:ext cx="352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acances au solei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4360" y="5234040"/>
            <a:ext cx="352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Vacances au soleil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954160" y="364968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tails d’un chan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23524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5189400" y="233856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ordArt d’ori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3627360"/>
            <a:ext cx="352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Vacances au solei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13440" y="359244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change de forme prédéfinie avec le 4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WordArt de la 3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50547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5010120" y="5019840"/>
            <a:ext cx="38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gement de police par la fenêtre « Modification du texte WordAr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71520" y="2770200"/>
            <a:ext cx="8388360" cy="173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ignée de l’axe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1520" y="4719600"/>
            <a:ext cx="838836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ignée de l’axe ver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ignées d’ajus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0160" y="17733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0160" y="3433680"/>
            <a:ext cx="352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46840" y="3433680"/>
            <a:ext cx="3524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0160" y="54435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048280" y="54435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5048280" y="197172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ordArt d’origine qui possède deux poig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41371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irement maximum vers la dro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61080" y="4137120"/>
            <a:ext cx="38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irement maximum vers la gau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0160" y="608652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irement maximum vers le h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48280" y="608652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irement maximum vers le 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262160"/>
            <a:ext cx="8229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s servent à agir dans deux dimens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réer le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09800" y="31449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rsions et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and il y a deux poignées d’ajustement disponibles pour manipuler un WordArt, on peut créer une impression de rel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 on additionne à la déformation obtenue par les poignées, une rotation, on peut accentuer un eff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 rot="1259400">
            <a:off x="5733720" y="4776840"/>
            <a:ext cx="2952720" cy="11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4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 txBox="1"/>
          <p:nvPr/>
        </p:nvSpPr>
        <p:spPr>
          <a:xfrm rot="21103800">
            <a:off x="457200" y="5527800"/>
            <a:ext cx="425916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5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réer un WordArt, c’es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ander l’insertion d’un Word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oisir le type de Word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diger son tex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sérer son Word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suite, par rapport au rendu, on peut le modifier pour qu’il convienne mieux à nos att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992400">
            <a:off x="8028000" y="27468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6699ff"/>
                    </a:gs>
                  </a:gsLst>
                  <a:lin ang="9810000"/>
                </a:gradFill>
                <a:latin typeface="Times New Roman"/>
              </a:rPr>
              <a:t>A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6699ff"/>
                  </a:gs>
                </a:gsLst>
                <a:lin ang="9810000"/>
              </a:gradFill>
              <a:latin typeface="Times New Roman"/>
              <a:ea typeface="Times New Roman"/>
            </a:endParaRPr>
          </a:p>
        </p:txBody>
      </p:sp>
    </p:spTree>
  </p:cSld>
  <p:transition advTm="1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mander un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enu Insertion / Image / WordAr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– ou –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ans la barre d’outils Dessin cliquer sur le « A » en relief et penc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2295360"/>
            <a:ext cx="4248360" cy="226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7280" y="5589720"/>
            <a:ext cx="6156360" cy="9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r un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quer sur un WortArt prédéfini dans la Galeri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ex : le 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la 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ig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174920" cy="36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édiger le texte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crire du texte dans la fenêtre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 : Vacances au solei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3640" y="2637000"/>
            <a:ext cx="4969080" cy="32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sérer un Wor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ire « Ok ».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e WordArt se place automatiquement au milieu de la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09800" y="3144960"/>
            <a:ext cx="35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acances au solei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Barre d’outils « WordArt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Une barre d’outils « WordArt » apparaît immédiatement après avoir sélectionné le Word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L’affichage de cette fenêtre est aussi accessible depuis le menu Affichage / Barres d’out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Il se commande aussi depuis un clic droit sur le Word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59280" y="1268280"/>
            <a:ext cx="3170160" cy="64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4:33:37Z</dcterms:created>
  <dc:creator>Tribouillier</dc:creator>
  <dc:description/>
  <dc:language>en-US</dc:language>
  <cp:lastModifiedBy>Tribouillier</cp:lastModifiedBy>
  <dcterms:modified xsi:type="dcterms:W3CDTF">2008-03-29T14:21:32Z</dcterms:modified>
  <cp:revision>29</cp:revision>
  <dc:subject/>
  <dc:title>WordArt</dc:title>
</cp:coreProperties>
</file>