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585E-C634-439D-BD11-6D62B8AED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4523-398B-49DC-AC1D-D88158E0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8364-5C8D-4F58-86E4-273BB191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D66C-AD70-4124-A71A-548DBA5C3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E58A-8ACC-4D2C-9775-9FA9E608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3B0E-DC4E-4B84-8FB1-4052093C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2172-C9DB-4E37-8110-A6A243A4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CDCF-1988-4D0B-8CE0-E8ECE2FA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54E9-46C1-4020-897E-57973C7C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7E0A-DDC8-473C-A385-C76F49C5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11C3-6F07-4FA6-8AC8-1B1568FB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BDCF-C68E-4830-B7E9-75CB5D46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3004-D72F-4C8C-8829-32B37925F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ord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09800" y="3144960"/>
            <a:ext cx="352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juster son Word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809800" y="3144960"/>
            <a:ext cx="352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Le tex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479736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fenêtre « Modification du texte WordArt » est tout simplement celle dans laquelle on a écrit le texte du WordA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« Modification du texte WordArt 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63640" y="1417680"/>
            <a:ext cx="4969080" cy="3243240"/>
          </a:xfrm>
          <a:prstGeom prst="rect">
            <a:avLst/>
          </a:prstGeom>
          <a:ln w="0">
            <a:noFill/>
          </a:ln>
        </p:spPr>
      </p:pic>
    </p:spTree>
  </p:cSld>
  <p:transition advTm="22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 Modifier le texte… 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ur faire réapparaître la fenêtre « modification du texte WordArt », vous pouvez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iquer deux fois très vite sur le WordAr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puis la barre d’outils WordArt, cliquer sur « Modifier le texte… », ou enc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iquer droit sur le WordArt et choisir « Modifier le texte…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 cette fenêtre, on peut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« Modification du texte WordArt 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0" t="0" r="0" b="52481"/>
          <a:stretch/>
        </p:blipFill>
        <p:spPr>
          <a:xfrm>
            <a:off x="457200" y="4292640"/>
            <a:ext cx="4968720" cy="1541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83240" y="2421000"/>
            <a:ext cx="27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r la police du tex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27960" y="303516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r la taille des let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44320" y="3710160"/>
            <a:ext cx="39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tre le texte 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u 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ta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97560" y="4797360"/>
            <a:ext cx="3467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rimer ou ajouter des mot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uter des lign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crire en majuscules ou en minus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572000" y="5670720"/>
            <a:ext cx="853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779640" y="4076640"/>
            <a:ext cx="2376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140360" y="4076640"/>
            <a:ext cx="33112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203280" y="3402000"/>
            <a:ext cx="576360" cy="110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71280" y="2787480"/>
            <a:ext cx="647640" cy="172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97560" y="4797360"/>
            <a:ext cx="73080" cy="1739880"/>
          </a:xfrm>
          <a:custGeom>
            <a:avLst/>
            <a:gdLst>
              <a:gd name="textAreaLeft" fmla="*/ 21240 w 73080"/>
              <a:gd name="textAreaRight" fmla="*/ 73440 w 73080"/>
              <a:gd name="textAreaTop" fmla="*/ 72360 h 1739880"/>
              <a:gd name="textAreaBottom" fmla="*/ 1667520 h 173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48320" y="2743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sauter une ligne faire « entrer 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peut tout écrire en majuscul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 changer la typographi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 changer la taille du text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57080" y="476280"/>
            <a:ext cx="352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58880" y="1849320"/>
            <a:ext cx="3524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u soleil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57080" y="2857680"/>
            <a:ext cx="352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OS DERNIERES VACANCES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57080" y="3716280"/>
            <a:ext cx="3524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lba"/>
              </a:rPr>
              <a:t>Vacances au soleil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lba"/>
              <a:ea typeface="Alb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57080" y="4508640"/>
            <a:ext cx="352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ustralian Sunrise"/>
              </a:rPr>
              <a:t>Vacances au soleil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ustralian Sunrise"/>
              <a:ea typeface="Australian Sunris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5300640"/>
            <a:ext cx="745812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ustralian Sunrise"/>
              </a:rPr>
              <a:t>Vacances au soleil</a:t>
            </a:r>
            <a:endParaRPr b="0" lang="en-US" sz="66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ustralian Sunrise"/>
              <a:ea typeface="Australian Sunris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juster son Word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809800" y="3144960"/>
            <a:ext cx="352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Redimensio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716360" y="5470560"/>
            <a:ext cx="3672000" cy="13431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’est un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bjet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on texte n’apparaît pas dans le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l est malléable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n peut l’agrandir horizontalement, verticalement, les deux à la fois, e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l est pourvu d’une poignée de rotation (rond vert), et, selon sa forme, peut avoir des poignées d’ajustements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losanges jaun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Propriétés d’un Word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imensionn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odifier les dimensions du WordArt est à votre libre appréci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appel : étirer par les coins ou les côtés se fait avec le clic de la souris enfonc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les applicatio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ux versions différentes pour deux objectifs différ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éplacement horizontal du losange jaune vers la gauche = inclinaison vers la dro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976640" y="4005360"/>
            <a:ext cx="352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5033880"/>
            <a:ext cx="3524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e pos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ession de calme, contemp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76640" y="5035680"/>
            <a:ext cx="352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e dynam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ession de mou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8400" y="3213000"/>
            <a:ext cx="72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nt / aprè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00000" y="4005360"/>
            <a:ext cx="352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ur comparaison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10120" y="2239920"/>
            <a:ext cx="35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ordArt d’ori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47600" y="2138400"/>
            <a:ext cx="352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/>
          <p:nvPr/>
        </p:nvSpPr>
        <p:spPr>
          <a:xfrm>
            <a:off x="5010120" y="3651120"/>
            <a:ext cx="35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e mis en italique par la fenêtre de Modification du tex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47600" y="3686040"/>
            <a:ext cx="3524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i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47600" y="5270400"/>
            <a:ext cx="3524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"/>
          <p:cNvSpPr/>
          <p:nvPr/>
        </p:nvSpPr>
        <p:spPr>
          <a:xfrm>
            <a:off x="5010120" y="5235480"/>
            <a:ext cx="35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e couché par manipulation de la poignée d’ajus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ment créer un Word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ment ajuster son Word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juster le texte de son Word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juster les dimensions de son Word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hanger de Word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ote : les diapositives en</a:t>
            </a: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 bleues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ont liées aux caractéristiques des Word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irement vertical de l’obj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les lettres suivent l’allongement de la forme, deviennent plus ha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ion de manipul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0160" y="4249800"/>
            <a:ext cx="352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u soleil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051520" y="4249800"/>
            <a:ext cx="35240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u soleil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5157720"/>
            <a:ext cx="35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e trop écras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68400" y="3500280"/>
            <a:ext cx="72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nt / aprè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ur comparaison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10120" y="3510000"/>
            <a:ext cx="35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e trop écrasé par redimensionn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47600" y="3613320"/>
            <a:ext cx="352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u soleil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/>
          <p:nvPr/>
        </p:nvSpPr>
        <p:spPr>
          <a:xfrm>
            <a:off x="5443560" y="2098800"/>
            <a:ext cx="26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ordArt d’origine texte trop allong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908000" y="1916280"/>
            <a:ext cx="1838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u soleil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/>
          <p:nvPr/>
        </p:nvSpPr>
        <p:spPr>
          <a:xfrm>
            <a:off x="5226120" y="4960800"/>
            <a:ext cx="30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re « chaleureux » obtenu par redimensi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47600" y="4740120"/>
            <a:ext cx="3524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u soleil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apetissement vertical de l’objet + déplacement vers la gauche de la poignée de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= les lettres sont un peu plus écrasées et le WordArt est penché vers la gauc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gner en clart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0160" y="5942160"/>
            <a:ext cx="35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e trop massif voire ill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68400" y="4502160"/>
            <a:ext cx="72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nt / aprè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0160" y="5084640"/>
            <a:ext cx="3524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OS DERNIERES VACANCE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 txBox="1"/>
          <p:nvPr/>
        </p:nvSpPr>
        <p:spPr>
          <a:xfrm rot="21235800">
            <a:off x="5052960" y="5084280"/>
            <a:ext cx="35244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OS DERNIERES VACANCES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/>
          <p:nvPr/>
        </p:nvSpPr>
        <p:spPr>
          <a:xfrm>
            <a:off x="5162400" y="5805360"/>
            <a:ext cx="35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e plus léger et « sympathiqu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oportions du WordArt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t taille de tex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4312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vant de le redimensionner, on peut choisir, dans son Format, que sa taille reste « proportionnelle » en cochant la case du même nom de l’onglet « Taille 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tons, qu’en augmentant ou rétrécissant la taille de son texte, on agrandit ou rétrécit le WordArt d’autant et ce proportionnel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is que lorsque on étire le WordArt, même proportionnément, on ne change pas pour autant la taille de la pol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changer son Word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09800" y="3144960"/>
            <a:ext cx="352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Chang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 forme, ses couleurs, sa poli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s pas son texte ni la taille de son tex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anger de Word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ur changer de WordArt, il faut retourner dans la Galerie WordArt 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ns la barre d’outils WordArt, cliquer sur le «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A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 » en relief et penché se trouvant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deva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un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tableau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symbolisant la Galeri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iquer sur une nouvelle forme prédéfini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ous pouvez en avoir un aperçu avant de fermer la fenêtre, soit en cliquant sur 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7758000" y="260280"/>
          <a:ext cx="979560" cy="774720"/>
        </p:xfrm>
        <a:graphic>
          <a:graphicData uri="http://schemas.openxmlformats.org/drawingml/2006/table">
            <a:tbl>
              <a:tblPr/>
              <a:tblGrid>
                <a:gridCol w="326880"/>
                <a:gridCol w="325440"/>
                <a:gridCol w="32724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99ff"/>
                      </a:solidFill>
                    </a:lnL>
                    <a:lnR w="5760">
                      <a:solidFill>
                        <a:srgbClr val="6699ff"/>
                      </a:solidFill>
                    </a:lnR>
                    <a:lnT w="13680">
                      <a:solidFill>
                        <a:srgbClr val="6699ff"/>
                      </a:solidFill>
                    </a:lnT>
                    <a:lnB w="5760">
                      <a:solidFill>
                        <a:srgbClr val="6699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99ff"/>
                      </a:solidFill>
                    </a:lnL>
                    <a:lnR w="5760">
                      <a:solidFill>
                        <a:srgbClr val="6699ff"/>
                      </a:solidFill>
                    </a:lnR>
                    <a:lnT w="13680">
                      <a:solidFill>
                        <a:srgbClr val="6699ff"/>
                      </a:solidFill>
                    </a:lnT>
                    <a:lnB w="5760">
                      <a:solidFill>
                        <a:srgbClr val="6699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99ff"/>
                      </a:solidFill>
                    </a:lnL>
                    <a:lnR w="13680">
                      <a:solidFill>
                        <a:srgbClr val="6699ff"/>
                      </a:solidFill>
                    </a:lnR>
                    <a:lnT w="13680">
                      <a:solidFill>
                        <a:srgbClr val="6699ff"/>
                      </a:solidFill>
                    </a:lnT>
                    <a:lnB w="5760">
                      <a:solidFill>
                        <a:srgbClr val="6699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99ff"/>
                      </a:solidFill>
                    </a:lnL>
                    <a:lnR w="5760">
                      <a:solidFill>
                        <a:srgbClr val="6699ff"/>
                      </a:solidFill>
                    </a:lnR>
                    <a:lnT w="5760">
                      <a:solidFill>
                        <a:srgbClr val="6699ff"/>
                      </a:solidFill>
                    </a:lnT>
                    <a:lnB w="5760">
                      <a:solidFill>
                        <a:srgbClr val="66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99ff"/>
                      </a:solidFill>
                    </a:lnL>
                    <a:lnR w="5760">
                      <a:solidFill>
                        <a:srgbClr val="6699ff"/>
                      </a:solidFill>
                    </a:lnR>
                    <a:lnT w="5760">
                      <a:solidFill>
                        <a:srgbClr val="6699ff"/>
                      </a:solidFill>
                    </a:lnT>
                    <a:lnB w="5760">
                      <a:solidFill>
                        <a:srgbClr val="66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99ff"/>
                      </a:solidFill>
                    </a:lnL>
                    <a:lnR w="13680">
                      <a:solidFill>
                        <a:srgbClr val="6699ff"/>
                      </a:solidFill>
                    </a:lnR>
                    <a:lnT w="5760">
                      <a:solidFill>
                        <a:srgbClr val="6699ff"/>
                      </a:solidFill>
                    </a:lnT>
                    <a:lnB w="5760">
                      <a:solidFill>
                        <a:srgbClr val="6699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99ff"/>
                      </a:solidFill>
                    </a:lnL>
                    <a:lnR w="5760">
                      <a:solidFill>
                        <a:srgbClr val="6699ff"/>
                      </a:solidFill>
                    </a:lnR>
                    <a:lnT w="5760">
                      <a:solidFill>
                        <a:srgbClr val="6699ff"/>
                      </a:solidFill>
                    </a:lnT>
                    <a:lnB w="5760">
                      <a:solidFill>
                        <a:srgbClr val="66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99ff"/>
                      </a:solidFill>
                    </a:lnL>
                    <a:lnR w="5760">
                      <a:solidFill>
                        <a:srgbClr val="6699ff"/>
                      </a:solidFill>
                    </a:lnR>
                    <a:lnT w="5760">
                      <a:solidFill>
                        <a:srgbClr val="6699ff"/>
                      </a:solidFill>
                    </a:lnT>
                    <a:lnB w="5760">
                      <a:solidFill>
                        <a:srgbClr val="66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99ff"/>
                      </a:solidFill>
                    </a:lnL>
                    <a:lnR w="13680">
                      <a:solidFill>
                        <a:srgbClr val="6699ff"/>
                      </a:solidFill>
                    </a:lnR>
                    <a:lnT w="5760">
                      <a:solidFill>
                        <a:srgbClr val="6699ff"/>
                      </a:solidFill>
                    </a:lnT>
                    <a:lnB w="5760">
                      <a:solidFill>
                        <a:srgbClr val="6699ff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99ff"/>
                      </a:solidFill>
                    </a:lnL>
                    <a:lnR w="5760">
                      <a:solidFill>
                        <a:srgbClr val="6699ff"/>
                      </a:solidFill>
                    </a:lnR>
                    <a:lnT w="5760">
                      <a:solidFill>
                        <a:srgbClr val="6699ff"/>
                      </a:solidFill>
                    </a:lnT>
                    <a:lnB w="13680">
                      <a:solidFill>
                        <a:srgbClr val="66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99ff"/>
                      </a:solidFill>
                    </a:lnL>
                    <a:lnR w="5760">
                      <a:solidFill>
                        <a:srgbClr val="6699ff"/>
                      </a:solidFill>
                    </a:lnR>
                    <a:lnT w="5760">
                      <a:solidFill>
                        <a:srgbClr val="6699ff"/>
                      </a:solidFill>
                    </a:lnT>
                    <a:lnB w="13680">
                      <a:solidFill>
                        <a:srgbClr val="66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99ff"/>
                      </a:solidFill>
                    </a:lnL>
                    <a:lnR w="13680">
                      <a:solidFill>
                        <a:srgbClr val="6699ff"/>
                      </a:solidFill>
                    </a:lnR>
                    <a:lnT w="5760">
                      <a:solidFill>
                        <a:srgbClr val="6699ff"/>
                      </a:solidFill>
                    </a:lnT>
                    <a:lnB w="13680">
                      <a:solidFill>
                        <a:srgbClr val="66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 txBox="1"/>
          <p:nvPr/>
        </p:nvSpPr>
        <p:spPr>
          <a:xfrm rot="1320000">
            <a:off x="8305560" y="549000"/>
            <a:ext cx="51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6699ff"/>
                    </a:gs>
                  </a:gsLst>
                  <a:lin ang="9480000"/>
                </a:gradFill>
                <a:latin typeface="Times New Roman"/>
              </a:rPr>
              <a:t>A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6699ff"/>
                  </a:gs>
                </a:gsLst>
                <a:lin ang="9480000"/>
              </a:gradFill>
              <a:latin typeface="Times New Roman"/>
              <a:ea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589720" y="2276640"/>
            <a:ext cx="3097080" cy="865080"/>
          </a:xfrm>
          <a:prstGeom prst="rect">
            <a:avLst/>
          </a:prstGeom>
          <a:ln w="0">
            <a:noFill/>
          </a:ln>
        </p:spPr>
      </p:pic>
    </p:spTree>
  </p:cSld>
  <p:transition advTm="32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Galerie Word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417680"/>
            <a:ext cx="851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La galerie WordArt réunit des manières prédéfinies d’écrire un texte ; elles se distinguent pa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96720" y="3068640"/>
            <a:ext cx="4175280" cy="36021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632480" y="3429000"/>
            <a:ext cx="43434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eurs couleu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eur for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eur orientation dans les 3 dimens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eur om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84040" y="2349360"/>
            <a:ext cx="3524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35560" y="2712960"/>
            <a:ext cx="3524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Vacances au solei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6560" y="845640"/>
            <a:ext cx="813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 de 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076720" y="5162400"/>
            <a:ext cx="3524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acances au solei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4360" y="5234040"/>
            <a:ext cx="3524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Vacances au soleil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954160" y="3649680"/>
            <a:ext cx="352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étails d’un chan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2235240"/>
            <a:ext cx="352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"/>
          <p:cNvSpPr/>
          <p:nvPr/>
        </p:nvSpPr>
        <p:spPr>
          <a:xfrm>
            <a:off x="5189400" y="2338560"/>
            <a:ext cx="35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ordArt d’ori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3627360"/>
            <a:ext cx="3524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Vacances au solei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13440" y="3592440"/>
            <a:ext cx="36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change de forme prédéfinie avec le 4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WordArt de la 3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l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5054760"/>
            <a:ext cx="352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"/>
          <p:cNvSpPr/>
          <p:nvPr/>
        </p:nvSpPr>
        <p:spPr>
          <a:xfrm>
            <a:off x="5010120" y="5019840"/>
            <a:ext cx="38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ngement de police par la fenêtre « Modification du texte WordArt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71520" y="2770200"/>
            <a:ext cx="8388360" cy="173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oignée de l’axe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1520" y="4719600"/>
            <a:ext cx="838836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oignée de l’axe ver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oignées d’ajus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30160" y="1773360"/>
            <a:ext cx="352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30160" y="3433680"/>
            <a:ext cx="3524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1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046840" y="3433680"/>
            <a:ext cx="3524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1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0160" y="5443560"/>
            <a:ext cx="352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048280" y="5443560"/>
            <a:ext cx="352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"/>
          <p:cNvSpPr/>
          <p:nvPr/>
        </p:nvSpPr>
        <p:spPr>
          <a:xfrm>
            <a:off x="5048280" y="1971720"/>
            <a:ext cx="35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ordArt d’origine qui possède deux poig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4360" y="413712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tirement maximum vers la dro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61080" y="4137120"/>
            <a:ext cx="38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tirement maximum vers la gau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30160" y="6086520"/>
            <a:ext cx="35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tirement maximum vers le h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48280" y="6086520"/>
            <a:ext cx="35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tirement maximum vers le 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1262160"/>
            <a:ext cx="82296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s servent à agir dans deux dimens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réer le Word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809800" y="3144960"/>
            <a:ext cx="352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rsions et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and il y a deux poignées d’ajustement disponibles pour manipuler un WordArt, on peut créer une impression de reli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d on additionne à la déformation obtenue par les poignées, une rotation, on peut accentuer un eff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 rot="1259400">
            <a:off x="5733720" y="4776840"/>
            <a:ext cx="2952720" cy="119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4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"/>
          <p:cNvSpPr txBox="1"/>
          <p:nvPr/>
        </p:nvSpPr>
        <p:spPr>
          <a:xfrm rot="21103800">
            <a:off x="457200" y="5527800"/>
            <a:ext cx="4259160" cy="88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-53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réer un WordArt, c’es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mander l’insertion d’un Word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hoisir le type de Word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édiger son tex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sérer son Word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nsuite, par rapport au rendu, on peut le modifier pour qu’il convienne mieux à nos atte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 rot="992400">
            <a:off x="8028000" y="27468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6699ff"/>
                    </a:gs>
                  </a:gsLst>
                  <a:lin ang="9810000"/>
                </a:gradFill>
                <a:latin typeface="Times New Roman"/>
              </a:rPr>
              <a:t>A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6699ff"/>
                  </a:gs>
                </a:gsLst>
                <a:lin ang="9810000"/>
              </a:gradFill>
              <a:latin typeface="Times New Roman"/>
              <a:ea typeface="Times New Roman"/>
            </a:endParaRPr>
          </a:p>
        </p:txBody>
      </p:sp>
    </p:spTree>
  </p:cSld>
  <p:transition advTm="12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mmander un Word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enu Insertion / Image / WordArt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– ou –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dans la barre d’outils Dessin cliquer sur le « A » en relief et pench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87280" y="2295360"/>
            <a:ext cx="4248360" cy="2267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87280" y="5589720"/>
            <a:ext cx="6156360" cy="93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r un Word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iquer sur un WortArt prédéfini dans la Galeri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ex : le 1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la 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lign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4174920" cy="36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édiger le texte Word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crire du texte dans la fenêtre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x : Vacances au solei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63640" y="2637000"/>
            <a:ext cx="4969080" cy="32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sérer un Word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aire « Ok ».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Le WordArt se place automatiquement au milieu de la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809800" y="3144960"/>
            <a:ext cx="352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Barre d’outils « WordArt 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0312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Une barre d’outils « WordArt » apparaît immédiatement après avoir sélectionné le WordA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L’affichage de cette fenêtre est aussi accessible depuis le menu Affichage / Barres d’out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Il se commande aussi depuis un clic droit sur le Word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59280" y="1268280"/>
            <a:ext cx="3170160" cy="64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14:33:37Z</dcterms:created>
  <dc:creator>Tribouillier</dc:creator>
  <dc:description/>
  <dc:language>en-US</dc:language>
  <cp:lastModifiedBy>Tribouillier</cp:lastModifiedBy>
  <dcterms:modified xsi:type="dcterms:W3CDTF">2008-03-29T14:21:32Z</dcterms:modified>
  <cp:revision>29</cp:revision>
  <dc:subject/>
  <dc:title>WordArt</dc:title>
</cp:coreProperties>
</file>