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push.wav" ContentType="audio/x-wav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A3DB-7F9C-4F38-B087-0CC593FF3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EF83-99F1-4C57-853B-944620F09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687B-7706-4501-8B0A-23E34E525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8FCA-8371-4738-A4A1-4AEC9203C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A35F-800E-4965-BB8B-8617F9950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1AC6-E700-4817-951F-C01F6626D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2912-3EE0-4F68-A87D-46AADF614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96FF-595F-4ED0-B0A3-377F185BE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8884-B585-484E-8242-56EF8FD0C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0287-940B-4514-B57C-0CE14962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5EF2-6D39-4DE2-85DB-B479F96BE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1506-D822-49A8-AFBE-B2292A85B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BA4B3-818E-4748-B516-839E2439BE4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audio" Target="../media/push.wav"/><Relationship Id="rId4" Type="http://schemas.openxmlformats.org/officeDocument/2006/relationships/audio" Target="../media/push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99880" y="144360"/>
            <a:ext cx="3695760" cy="4724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710240" y="0"/>
            <a:ext cx="4433760" cy="410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ush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6" dur="500" fill="hold"/>
                                        <p:tgtEl>
                                          <p:spTgt spid="41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  <p:par>
                                <p:cTn id="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ush.wav"/>
                                        </p:tgtEl>
                                      </p:cMediaNode>
                                    </p:audio>
                                    <p:animMotion origin="layout" path="M 4.16667E-006 1.11111E-006 L 0.12066 0.17662 E">
                                      <p:cBhvr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13:04:28Z</dcterms:created>
  <dc:creator>Tribouillier</dc:creator>
  <dc:description/>
  <dc:language>en-US</dc:language>
  <cp:lastModifiedBy>Tribouillier</cp:lastModifiedBy>
  <dcterms:modified xsi:type="dcterms:W3CDTF">2008-03-15T13:04:37Z</dcterms:modified>
  <cp:revision>1</cp:revision>
  <dc:subject/>
  <dc:title>Diapositive 1</dc:title>
</cp:coreProperties>
</file>