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push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889-E002-4018-A9A1-70AB5AB3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0AD-B93D-46EF-A0A1-C0D9348B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207-0FFE-4D6E-A84C-72B04D0B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91DB-2C8C-47A1-AFCF-0405C9E4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202-0050-46FA-8C3F-9A5677ED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A3D-166F-498E-9DD9-5B7FD070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B38-0237-41E6-8EA2-11707054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7B4-6E04-4D7F-AFFE-2DD091B8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723-7C1E-4300-A093-6CDFDBB8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5E6-33EA-4103-B949-9DBF609B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419F-25B0-46B6-A96F-C539A995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2AC-F279-44F0-9778-8CF61B14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3FF7-75DB-4925-AEE9-92533A41CF4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9880" y="144360"/>
            <a:ext cx="3695760" cy="4724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10240" y="0"/>
            <a:ext cx="443376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animMotion origin="layout" path="M 4.16667E-006 1.11111E-006 L 0.12066 0.17662 E">
                                      <p:cBhvr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3:04:28Z</dcterms:created>
  <dc:creator>Tribouillier</dc:creator>
  <dc:description/>
  <dc:language>en-US</dc:language>
  <cp:lastModifiedBy>Tribouillier</cp:lastModifiedBy>
  <dcterms:modified xsi:type="dcterms:W3CDTF">2008-03-15T13:04:37Z</dcterms:modified>
  <cp:revision>1</cp:revision>
  <dc:subject/>
  <dc:title>Diapositive 1</dc:title>
</cp:coreProperties>
</file>