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10.png" ContentType="image/png"/>
  <Override PartName="/ppt/media/image2.png" ContentType="image/png"/>
  <Override PartName="/ppt/media/chimes.wav" ContentType="audio/x-wav"/>
  <Override PartName="/ppt/media/image8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2828-C13B-401B-A787-F24AEB323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AB7C-D8E5-408E-99E8-0E27F3C8A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6B7F-7774-4B8D-B76A-F938487FB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636E-B9A8-415C-9FD5-7876E82F9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4526-C323-4B38-A2C4-2B79D8522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FF04-3947-43C5-8ADF-25DC532BA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37FA-8616-4D6A-8489-1F7B8B93F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FC32-B068-488C-9CE0-25F1C8537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CA58-96BB-448E-A333-333795073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86EE-7FCB-4EA0-86F4-2289799F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59B2-EB9D-40E5-8E88-12A59C87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6560-1EE8-4569-AF84-75EB376D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03D46-D575-402A-918A-6689E6F49515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2.pn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1.gif"/><Relationship Id="rId12" Type="http://schemas.openxmlformats.org/officeDocument/2006/relationships/image" Target="../media/image1.gif"/><Relationship Id="rId13" Type="http://schemas.openxmlformats.org/officeDocument/2006/relationships/image" Target="../media/image1.gif"/><Relationship Id="rId14" Type="http://schemas.openxmlformats.org/officeDocument/2006/relationships/image" Target="../media/image1.gif"/><Relationship Id="rId1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1.gif"/><Relationship Id="rId12" Type="http://schemas.openxmlformats.org/officeDocument/2006/relationships/image" Target="../media/image1.gif"/><Relationship Id="rId13" Type="http://schemas.openxmlformats.org/officeDocument/2006/relationships/image" Target="../media/image1.gif"/><Relationship Id="rId14" Type="http://schemas.openxmlformats.org/officeDocument/2006/relationships/image" Target="../media/image1.gif"/><Relationship Id="rId15" Type="http://schemas.openxmlformats.org/officeDocument/2006/relationships/image" Target="../media/image1.gif"/><Relationship Id="rId16" Type="http://schemas.openxmlformats.org/officeDocument/2006/relationships/image" Target="../media/image3.png"/><Relationship Id="rId17" Type="http://schemas.openxmlformats.org/officeDocument/2006/relationships/image" Target="../media/image4.png"/><Relationship Id="rId1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ipuler une image clip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 flipH="1">
            <a:off x="754200" y="4546440"/>
            <a:ext cx="1234800" cy="1081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358040" y="5481720"/>
            <a:ext cx="1571760" cy="1376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 flipH="1">
            <a:off x="-1332000" y="3108240"/>
            <a:ext cx="1121040" cy="982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 flipH="1">
            <a:off x="-1189080" y="1730520"/>
            <a:ext cx="912960" cy="799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9372600" y="981000"/>
            <a:ext cx="744480" cy="652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8143920" y="279360"/>
            <a:ext cx="469800" cy="412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4267080" y="-60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100"/>
                            </p:stCondLst>
                            <p:childTnLst>
                              <p:par>
                                <p:cTn id="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2586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animMotion origin="layout" path="M -1.01268 2.89017E-006 L 5E-006 2.89017E-006 E">
                                      <p:cBhvr>
                                        <p:cTn id="18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7.51445E-007 L 1.00365 7.51445E-007 E">
                                      <p:cBhvr>
                                        <p:cTn id="20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-1.84971E-006 L 1.1908 -1.84971E-006 E">
                                      <p:cBhvr>
                                        <p:cTn id="22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9.82659E-007 L 1.14566 9.82659E-007 E">
                                      <p:cBhvr>
                                        <p:cTn id="24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4046 9.82659E-007 L 5E-006 9.82659E-007 E">
                                      <p:cBhvr>
                                        <p:cTn id="26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95972 -1.44509E-006 L 5.55556E-007 -1.44509E-006 E">
                                      <p:cBhvr>
                                        <p:cTn id="28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 retrouver une image clipart téléchargé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262400" y="1197000"/>
            <a:ext cx="619200" cy="54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758000" y="6021360"/>
            <a:ext cx="619200" cy="5428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trouver l’image clipart téléchargée :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.…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et Office rubrique « Images clipart »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bas du volet, cliquer sur « Organiser les clips… » pour arriver dans la bibliothèque multimédia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………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quer sur « clips téléchargés » et retrouver notre image téléchargée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………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d on passe la souris dessus, un défilement se matérialise à droite 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………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quer dessus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……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endre jusqu’à « copier »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……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 la diapositive, faire « coller » (Edition/Coller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301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8002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 multiplier une image clip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390840" y="5881680"/>
            <a:ext cx="619200" cy="542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85800" y="3500280"/>
            <a:ext cx="619200" cy="543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600880" y="3666960"/>
            <a:ext cx="618840" cy="543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7112160" y="1822320"/>
            <a:ext cx="618840" cy="5428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6492960" y="4524480"/>
            <a:ext cx="619200" cy="542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685800" y="333360"/>
            <a:ext cx="619200" cy="542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4981680" y="876240"/>
            <a:ext cx="619200" cy="542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2771640" y="3395520"/>
            <a:ext cx="619200" cy="5432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9"/>
          <a:stretch/>
        </p:blipFill>
        <p:spPr>
          <a:xfrm>
            <a:off x="4456080" y="4795920"/>
            <a:ext cx="619200" cy="5428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0"/>
          <a:stretch/>
        </p:blipFill>
        <p:spPr>
          <a:xfrm>
            <a:off x="8040600" y="3871800"/>
            <a:ext cx="619200" cy="542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1"/>
          <a:stretch/>
        </p:blipFill>
        <p:spPr>
          <a:xfrm>
            <a:off x="6896160" y="5881680"/>
            <a:ext cx="619200" cy="542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2"/>
          <a:stretch/>
        </p:blipFill>
        <p:spPr>
          <a:xfrm>
            <a:off x="2771640" y="876240"/>
            <a:ext cx="619200" cy="542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3"/>
          <a:stretch/>
        </p:blipFill>
        <p:spPr>
          <a:xfrm>
            <a:off x="685800" y="5338800"/>
            <a:ext cx="619200" cy="5428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4"/>
          <a:stretch/>
        </p:blipFill>
        <p:spPr>
          <a:xfrm>
            <a:off x="7421400" y="333360"/>
            <a:ext cx="619200" cy="5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11280" y="349200"/>
            <a:ext cx="619200" cy="5428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643280" y="2421000"/>
            <a:ext cx="619200" cy="5428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859280" y="2637000"/>
            <a:ext cx="619200" cy="5428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5075280" y="2852640"/>
            <a:ext cx="619200" cy="5428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5291280" y="3068640"/>
            <a:ext cx="618840" cy="5428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5506920" y="3284640"/>
            <a:ext cx="619200" cy="5428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5722920" y="3500280"/>
            <a:ext cx="619200" cy="5432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8"/>
          <a:stretch/>
        </p:blipFill>
        <p:spPr>
          <a:xfrm>
            <a:off x="5938920" y="3716280"/>
            <a:ext cx="619200" cy="5428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692000" y="349200"/>
            <a:ext cx="7148520" cy="12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sélectionner, la copier, puis appuyer     beaucoup de fois sur « coller 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9"/>
          <a:stretch/>
        </p:blipFill>
        <p:spPr>
          <a:xfrm>
            <a:off x="6154560" y="3932280"/>
            <a:ext cx="619200" cy="5428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0"/>
          <a:stretch/>
        </p:blipFill>
        <p:spPr>
          <a:xfrm>
            <a:off x="6370560" y="4148280"/>
            <a:ext cx="619200" cy="5428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1"/>
          <a:stretch/>
        </p:blipFill>
        <p:spPr>
          <a:xfrm>
            <a:off x="6586560" y="4363920"/>
            <a:ext cx="619200" cy="5428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2"/>
          <a:stretch/>
        </p:blipFill>
        <p:spPr>
          <a:xfrm>
            <a:off x="6802560" y="4579920"/>
            <a:ext cx="618840" cy="5428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3"/>
          <a:stretch/>
        </p:blipFill>
        <p:spPr>
          <a:xfrm>
            <a:off x="7018200" y="4795920"/>
            <a:ext cx="619200" cy="5428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4"/>
          <a:stretch/>
        </p:blipFill>
        <p:spPr>
          <a:xfrm>
            <a:off x="7234200" y="5011560"/>
            <a:ext cx="619200" cy="5432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5"/>
          <a:stretch/>
        </p:blipFill>
        <p:spPr>
          <a:xfrm>
            <a:off x="7450200" y="5227560"/>
            <a:ext cx="619200" cy="5428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95280" y="2120760"/>
            <a:ext cx="4248000" cy="25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sélectionne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copie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 la colle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aucoup de fo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 su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6"/>
          <a:stretch/>
        </p:blipFill>
        <p:spPr>
          <a:xfrm>
            <a:off x="6248520" y="1662120"/>
            <a:ext cx="1050840" cy="1017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7"/>
          <a:stretch/>
        </p:blipFill>
        <p:spPr>
          <a:xfrm>
            <a:off x="7575480" y="1692360"/>
            <a:ext cx="987480" cy="987480"/>
          </a:xfrm>
          <a:prstGeom prst="rect">
            <a:avLst/>
          </a:prstGeom>
          <a:ln w="0">
            <a:noFill/>
          </a:ln>
        </p:spPr>
      </p:pic>
      <p:grpSp>
        <p:nvGrpSpPr>
          <p:cNvPr id="87" name=""/>
          <p:cNvGrpSpPr/>
          <p:nvPr/>
        </p:nvGrpSpPr>
        <p:grpSpPr>
          <a:xfrm>
            <a:off x="4454640" y="2178000"/>
            <a:ext cx="1052280" cy="917280"/>
            <a:chOff x="4454640" y="2178000"/>
            <a:chExt cx="1052280" cy="917280"/>
          </a:xfrm>
        </p:grpSpPr>
        <p:sp>
          <p:nvSpPr>
            <p:cNvPr id="88" name=""/>
            <p:cNvSpPr/>
            <p:nvPr/>
          </p:nvSpPr>
          <p:spPr>
            <a:xfrm>
              <a:off x="4956840" y="2219400"/>
              <a:ext cx="0" cy="20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455000" y="2383920"/>
              <a:ext cx="82440" cy="82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424480" y="2383920"/>
              <a:ext cx="82440" cy="82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54640" y="2714400"/>
              <a:ext cx="82440" cy="82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454640" y="3012840"/>
              <a:ext cx="82440" cy="82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424480" y="2714400"/>
              <a:ext cx="82440" cy="82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424480" y="3012840"/>
              <a:ext cx="82440" cy="82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915080" y="2178000"/>
              <a:ext cx="82440" cy="824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915080" y="2383920"/>
              <a:ext cx="82440" cy="82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916160" y="3012840"/>
              <a:ext cx="82440" cy="82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 rot="14634000">
            <a:off x="6457680" y="2699640"/>
            <a:ext cx="1030320" cy="398520"/>
          </a:xfrm>
          <a:prstGeom prst="rightArrow">
            <a:avLst>
              <a:gd name="adj1" fmla="val 26148"/>
              <a:gd name="adj2" fmla="val 14089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4634000">
            <a:off x="8047080" y="2266200"/>
            <a:ext cx="1029960" cy="398520"/>
          </a:xfrm>
          <a:prstGeom prst="rightArrow">
            <a:avLst>
              <a:gd name="adj1" fmla="val 26148"/>
              <a:gd name="adj2" fmla="val 14084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1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">
                                  <p:stCondLst>
                                    <p:cond delay="84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64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66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72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74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76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78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82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mph" presetID="7" presetSubtype="2">
                                  <p:stCondLst>
                                    <p:cond delay="2400"/>
                                  </p:stCondLst>
                                  <p:childTnLst>
                                    <p:animClr clrSpc="rgb">
                                      <p:cBhvr>
                                        <p:cTn id="131" dur="13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2" dur="13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7" presetSubtype="2">
                                  <p:stCondLst>
                                    <p:cond delay="4000"/>
                                  </p:stCondLst>
                                  <p:childTnLst>
                                    <p:animClr clrSpc="rgb">
                                      <p:cBhvr>
                                        <p:cTn id="14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mph" presetID="35" repeatCount="10000">
                                  <p:stCondLst>
                                    <p:cond delay="58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7" dur="25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0">
                                  <p:stCondLst>
                                    <p:cond delay="8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0">
                                  <p:stCondLst>
                                    <p:cond delay="8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 Inverser une image clip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219640" y="1739880"/>
            <a:ext cx="619200" cy="5428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 flipH="1">
            <a:off x="3246480" y="1739880"/>
            <a:ext cx="619200" cy="54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980720" cy="68626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85800" y="907920"/>
            <a:ext cx="71262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érifier que sa hauteur restera proportionnelle à sa large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980720" cy="68644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246560" y="738360"/>
            <a:ext cx="1225440" cy="338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88000" y="981000"/>
            <a:ext cx="1225440" cy="338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30560" y="1844640"/>
            <a:ext cx="1225800" cy="338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246560" y="2298600"/>
            <a:ext cx="1225440" cy="338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0" y="1440"/>
            <a:ext cx="10980720" cy="6863040"/>
          </a:xfrm>
          <a:prstGeom prst="rect">
            <a:avLst/>
          </a:prstGeom>
          <a:ln w="0">
            <a:noFill/>
          </a:ln>
        </p:spPr>
      </p:pic>
    </p:spTree>
  </p:cSld>
  <p:transition advTm="6000">
    <p:fade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5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4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980720" cy="6864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411280" y="3068640"/>
            <a:ext cx="648000" cy="646200"/>
          </a:xfrm>
          <a:custGeom>
            <a:avLst/>
            <a:gdLst>
              <a:gd name="textAreaLeft" fmla="*/ 0 w 648000"/>
              <a:gd name="textAreaRight" fmla="*/ 648000 w 648000"/>
              <a:gd name="textAreaTop" fmla="*/ 0 h 646200"/>
              <a:gd name="textAreaBottom" fmla="*/ 646560 h 646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41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électionner l’obj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980720" cy="68644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50920" y="1417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 positionner sur un co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8756600">
            <a:off x="1725840" y="2314080"/>
            <a:ext cx="360360" cy="573120"/>
          </a:xfrm>
          <a:prstGeom prst="upDownArrow">
            <a:avLst>
              <a:gd name="adj1" fmla="val 10935"/>
              <a:gd name="adj2" fmla="val 44715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5640" y="1417680"/>
            <a:ext cx="698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quer sur le co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0" y="-6480"/>
            <a:ext cx="10980720" cy="68644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830240" y="2379600"/>
            <a:ext cx="360360" cy="360360"/>
          </a:xfrm>
          <a:prstGeom prst="plus">
            <a:avLst>
              <a:gd name="adj" fmla="val 4511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160" bIns="-11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7480" y="1125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rer vers le coin verticalement oppos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 repeatCount="1000">
                                  <p:stCondLst>
                                    <p:cond delay="8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1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15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15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1.85185E-006 L 0.16215 1.85185E-006 E">
                                      <p:cBhvr>
                                        <p:cTn id="303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980720" cy="68644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672000" y="2379600"/>
            <a:ext cx="360360" cy="360360"/>
          </a:xfrm>
          <a:prstGeom prst="plus">
            <a:avLst>
              <a:gd name="adj" fmla="val 4511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160" bIns="-11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7480" y="1093680"/>
            <a:ext cx="8229600" cy="11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taille du nouveau carré sera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e de notre image inversé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9507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âcher la souris quand la HAUTEUR conv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052000" cy="69087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95280" y="9777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âcher la souris quand la HAUTEUR conv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96022E-006 L 0.16545 -2.96022E-006 E">
                                      <p:cBhvr>
                                        <p:cTn id="309" dur="7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7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4T06:25:59Z</dcterms:created>
  <dc:creator>Tribouillier</dc:creator>
  <dc:description/>
  <dc:language>en-US</dc:language>
  <cp:lastModifiedBy>Tribouillier</cp:lastModifiedBy>
  <dcterms:modified xsi:type="dcterms:W3CDTF">2008-02-21T19:21:15Z</dcterms:modified>
  <cp:revision>54</cp:revision>
  <dc:subject/>
  <dc:title>Manipuler des cliparts</dc:title>
</cp:coreProperties>
</file>