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chimes.wav" ContentType="audio/x-wav"/>
  <Override PartName="/ppt/media/image8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261-2350-4AF1-9C5B-05AE8786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4CE-C3C9-48EA-B8C9-DD5680F4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3AD-8172-4809-8F37-E025FF9C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BA8-9FF3-4775-8630-3EA330E5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B08-C0C0-4228-9FA1-841A3B4A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B30-8B83-4C56-85B9-6F0803FF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298-9068-4953-B452-666F3EBF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EFF-C070-415F-BC9B-AA4D4EC7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509-D037-46FE-A2E9-B89228F8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CFD-2193-45D2-A099-B365A0D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340-EEB6-4B2E-9259-3122F08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9C2-35A6-4EF5-9979-2E67FD9C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C72-F49B-4EAE-B748-801EC3661C9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image cli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754200" y="4546440"/>
            <a:ext cx="12348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58040" y="5481720"/>
            <a:ext cx="1571760" cy="137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flipH="1">
            <a:off x="-1332000" y="3108240"/>
            <a:ext cx="1121040" cy="982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flipH="1">
            <a:off x="-1189080" y="1730520"/>
            <a:ext cx="91296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9372600" y="98100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8143920" y="279360"/>
            <a:ext cx="469800" cy="41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26708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1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58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1.01268 2.89017E-006 L 5E-006 2.89017E-006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51445E-007 L 1.00365 7.51445E-007 E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84971E-006 L 1.1908 -1.84971E-006 E">
                                      <p:cBhvr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82659E-007 L 1.14566 9.82659E-007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4046 9.82659E-007 L 5E-006 9.82659E-007 E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5972 -1.44509E-006 L 5.55556E-007 -1.44509E-006 E">
                                      <p:cBhvr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 retrouver une image clipart télécharg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2400" y="1197000"/>
            <a:ext cx="61920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58000" y="6021360"/>
            <a:ext cx="61920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rouver l’image clipart téléchargée 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et Office rubrique « Images clipart »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as du volet, cliquer sur « Organiser les clips… » pour arriver dans la bibliothèque multimédi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………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r sur « clips téléchargés » et retrouver notre image téléchargé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…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on passe la souris dessus, un défilement se matérialise à droite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…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essu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re jusqu’à « copier »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la diapositive, faire « coller » (Edition/Coll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01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2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 multiplier une image cli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90840" y="58816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3500280"/>
            <a:ext cx="619200" cy="54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00880" y="3666960"/>
            <a:ext cx="618840" cy="543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112160" y="1822320"/>
            <a:ext cx="61884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92960" y="45244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85800" y="33336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981680" y="87624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771640" y="3395520"/>
            <a:ext cx="619200" cy="543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4456080" y="479592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8040600" y="38718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896160" y="58816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2771640" y="87624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685800" y="53388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7421400" y="333360"/>
            <a:ext cx="61920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59280" y="26370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75280" y="285264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291280" y="3068640"/>
            <a:ext cx="618840" cy="542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506920" y="328464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722920" y="3500280"/>
            <a:ext cx="619200" cy="54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5938920" y="3716280"/>
            <a:ext cx="619200" cy="542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692000" y="349200"/>
            <a:ext cx="714852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électionner, la copier, puis appuyer     beaucoup de fois sur « coller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6154560" y="39322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6370560" y="41482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6586560" y="436392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6802560" y="4579920"/>
            <a:ext cx="61884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7018200" y="479592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7234200" y="5011560"/>
            <a:ext cx="619200" cy="54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7450200" y="5227560"/>
            <a:ext cx="61920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2120760"/>
            <a:ext cx="424800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électionn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pi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la coll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ucoup de fo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u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6248520" y="1662120"/>
            <a:ext cx="105084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7575480" y="1692360"/>
            <a:ext cx="987480" cy="987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454640" y="2178000"/>
            <a:ext cx="1052280" cy="917280"/>
            <a:chOff x="4454640" y="2178000"/>
            <a:chExt cx="1052280" cy="917280"/>
          </a:xfrm>
        </p:grpSpPr>
        <p:sp>
          <p:nvSpPr>
            <p:cNvPr id="88" name=""/>
            <p:cNvSpPr/>
            <p:nvPr/>
          </p:nvSpPr>
          <p:spPr>
            <a:xfrm>
              <a:off x="4956840" y="2219400"/>
              <a:ext cx="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55000" y="238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24480" y="238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54640" y="271440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54640" y="301284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24480" y="271440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24480" y="301284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15080" y="2178000"/>
              <a:ext cx="82440" cy="82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15080" y="238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16160" y="301284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rot="14634000">
            <a:off x="6457680" y="2699640"/>
            <a:ext cx="1030320" cy="398520"/>
          </a:xfrm>
          <a:prstGeom prst="rightArrow">
            <a:avLst>
              <a:gd name="adj1" fmla="val 26148"/>
              <a:gd name="adj2" fmla="val 1408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4634000">
            <a:off x="8047080" y="2266200"/>
            <a:ext cx="1029960" cy="398520"/>
          </a:xfrm>
          <a:prstGeom prst="rightArrow">
            <a:avLst>
              <a:gd name="adj1" fmla="val 26148"/>
              <a:gd name="adj2" fmla="val 1408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7" presetSubtype="2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31" dur="1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1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5" repeatCount="10000">
                                  <p:stCondLst>
                                    <p:cond delay="5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 Inverser une image cli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19640" y="17398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flipH="1">
            <a:off x="3246480" y="1739880"/>
            <a:ext cx="61920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907920"/>
            <a:ext cx="7126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érifier que sa hauteur restera proportionnelle à sa larg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46560" y="738360"/>
            <a:ext cx="1225440" cy="33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981000"/>
            <a:ext cx="1225440" cy="33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0560" y="1844640"/>
            <a:ext cx="1225800" cy="33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46560" y="2298600"/>
            <a:ext cx="1225440" cy="33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10980720" cy="686304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11280" y="3068640"/>
            <a:ext cx="648000" cy="646200"/>
          </a:xfrm>
          <a:custGeom>
            <a:avLst/>
            <a:gdLst>
              <a:gd name="textAreaLeft" fmla="*/ 0 w 648000"/>
              <a:gd name="textAreaRight" fmla="*/ 648000 w 6480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4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électionner l’ob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1417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 positionner sur un c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8756600">
            <a:off x="1725840" y="2314080"/>
            <a:ext cx="360360" cy="573120"/>
          </a:xfrm>
          <a:prstGeom prst="upDownArrow">
            <a:avLst>
              <a:gd name="adj1" fmla="val 10935"/>
              <a:gd name="adj2" fmla="val 4471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41768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quer sur le c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-648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30240" y="2379600"/>
            <a:ext cx="360360" cy="360360"/>
          </a:xfrm>
          <a:prstGeom prst="plus">
            <a:avLst>
              <a:gd name="adj" fmla="val 451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48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rer vers le coin verticalement oppos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8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0.16215 1.85185E-006 E">
                                      <p:cBhvr>
                                        <p:cTn id="30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72000" y="2379600"/>
            <a:ext cx="360360" cy="360360"/>
          </a:xfrm>
          <a:prstGeom prst="plus">
            <a:avLst>
              <a:gd name="adj" fmla="val 451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480" y="1093680"/>
            <a:ext cx="82296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taille du nouveau carré ser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e de notre image inver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950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âcher la souris quand la HAUTEUR conv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52000" cy="690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977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âcher la souris quand la HAUTEUR conv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022E-006 L 0.16545 -2.96022E-006 E">
                                      <p:cBhvr>
                                        <p:cTn id="309" dur="7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7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6:25:59Z</dcterms:created>
  <dc:creator>Tribouillier</dc:creator>
  <dc:description/>
  <dc:language>en-US</dc:language>
  <cp:lastModifiedBy>Tribouillier</cp:lastModifiedBy>
  <dcterms:modified xsi:type="dcterms:W3CDTF">2008-02-21T19:21:15Z</dcterms:modified>
  <cp:revision>54</cp:revision>
  <dc:subject/>
  <dc:title>Manipuler des cliparts</dc:title>
</cp:coreProperties>
</file>