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E09B-E739-447B-B8B0-BE3210CE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BD3A-7E2E-4D51-9E15-AD443240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2B8E-2109-40E9-9BDF-BF64CD40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89DE-A433-42D4-8E0A-397BA472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1EC9-6696-40F9-A502-D168B1DC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9EC-E1B1-4F85-B534-4D0305BB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17D4-15C6-4FF7-B50C-AB0C06AF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4BF4-E5E6-4EBB-9E54-0459C46E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884C-891B-4C4C-83BD-E876742B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F7B3-76B4-4D1A-A215-49F6F343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8AE2-CE4E-4161-82EC-588EF6AB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4778-9FAC-45C8-B334-514B46FC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EE03-D26C-4355-9582-28434C8F8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puler une trajecto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d’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Appliquer l’eff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Mettre en for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Ajuster sa direction et son s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Positionner son point de départ au centre de l’ob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Dimensionner la trajec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Paramétrer l’eff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1">
                                  <p:stCondLst>
                                    <p:cond delay="250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1">
                                  <p:stCondLst>
                                    <p:cond delay="150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1">
                                  <p:stCondLst>
                                    <p:cond delay="1500"/>
                                  </p:stCondLst>
                                  <p:childTnLst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1">
                                  <p:stCondLst>
                                    <p:cond delay="1500"/>
                                  </p:stCondLst>
                                  <p:childTnLst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1">
                                  <p:stCondLst>
                                    <p:cond delay="3000"/>
                                  </p:stCondLst>
                                  <p:childTnLst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1">
                                  <p:stCondLst>
                                    <p:cond delay="1500"/>
                                  </p:stCondLst>
                                  <p:childTnLst>
                                    <p:animClr clrSpc="hsl" dir="cw">
                                      <p:cBhvr>
                                        <p:cTn id="41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puler une trajec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50920" y="3886200"/>
            <a:ext cx="6805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555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Mettre en f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/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cc"/>
                </a:solidFill>
                <a:latin typeface="Arial"/>
              </a:rPr>
              <a:t>Dimensionner la trajec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1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9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i, nous voulons, dans un deuxiè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s, allonger et donner un pe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’ampleur à la trajectoire : n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ns donc étirer celle-ci dep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coin en haut à gauc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6200" y="3357720"/>
            <a:ext cx="3564000" cy="78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maintenir la souris enfonc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étirer la trajec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6200" y="2637000"/>
            <a:ext cx="3564000" cy="4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quer sur ledit c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H="1" flipV="1">
            <a:off x="755640" y="4365360"/>
            <a:ext cx="14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25520" y="3357720"/>
            <a:ext cx="1619280" cy="46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â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44800" y="189000"/>
            <a:ext cx="64008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/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cc"/>
                </a:solidFill>
                <a:latin typeface="Arial"/>
              </a:rPr>
              <a:t>Dimensionner</a:t>
            </a:r>
            <a:br>
              <a:rPr sz="3200"/>
            </a:br>
            <a:r>
              <a:rPr b="0" lang="en-US" sz="3200" spc="-1" strike="noStrike">
                <a:solidFill>
                  <a:srgbClr val="66ffcc"/>
                </a:solidFill>
                <a:latin typeface="Arial"/>
              </a:rPr>
              <a:t>la trajec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4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22" presetSubtype="2" repeatCount="1000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puler une trajec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50920" y="3886200"/>
            <a:ext cx="6805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Paramétrer l’eff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8760" y="1566720"/>
            <a:ext cx="880596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étrer une in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que pour que le bal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se un aller et ret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51280" y="3393720"/>
            <a:ext cx="278280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électionner l’eff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s le Volet Offi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is les Options d’eff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3860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32640" y="3860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419640" y="1484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00160" y="382680"/>
            <a:ext cx="6805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Paramétrer l’eff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1773360"/>
            <a:ext cx="37800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her « inversion automatiqu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1484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9640" y="2384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36360" y="1484280"/>
            <a:ext cx="8805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ét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 répétition d’eff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que le bal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ers et ret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8760" y="1701720"/>
            <a:ext cx="3780000" cy="60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r d’ong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59280" y="1484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00160" y="382680"/>
            <a:ext cx="6805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3. Paramétrer l’eff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419640" y="2384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9280" y="1484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31640" y="1628640"/>
            <a:ext cx="3780000" cy="60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isir « 2 » devant « Répéter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487680" y="2421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00160" y="382680"/>
            <a:ext cx="6805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3. Paramétrer l’eff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ur info, 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trajectoire arquée exis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64960" y="5332320"/>
            <a:ext cx="30830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arc à gau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928320" y="3697920"/>
            <a:ext cx="719280" cy="2640240"/>
            <a:chOff x="3928320" y="3697920"/>
            <a:chExt cx="719280" cy="2640240"/>
          </a:xfrm>
        </p:grpSpPr>
        <p:grpSp>
          <p:nvGrpSpPr>
            <p:cNvPr id="131" name=""/>
            <p:cNvGrpSpPr/>
            <p:nvPr/>
          </p:nvGrpSpPr>
          <p:grpSpPr>
            <a:xfrm>
              <a:off x="3928320" y="5892840"/>
              <a:ext cx="403200" cy="445320"/>
              <a:chOff x="3928320" y="5892840"/>
              <a:chExt cx="403200" cy="445320"/>
            </a:xfrm>
          </p:grpSpPr>
          <p:sp>
            <p:nvSpPr>
              <p:cNvPr id="132" name=""/>
              <p:cNvSpPr/>
              <p:nvPr/>
            </p:nvSpPr>
            <p:spPr>
              <a:xfrm flipV="1" rot="15638400">
                <a:off x="4054680" y="5922000"/>
                <a:ext cx="268200" cy="24444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7596600">
                <a:off x="4046400" y="6070680"/>
                <a:ext cx="41040" cy="314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V="1" rot="11232000">
              <a:off x="3980880" y="3714840"/>
              <a:ext cx="287280" cy="287280"/>
            </a:xfrm>
            <a:prstGeom prst="rtTriangl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 rot="5443800">
              <a:off x="3268800" y="4763160"/>
              <a:ext cx="2231640" cy="496800"/>
            </a:xfrm>
            <a:custGeom>
              <a:avLst/>
              <a:gdLst/>
              <a:ahLst/>
              <a:rect l="l" t="t" r="r" b="b"/>
              <a:pathLst>
                <a:path w="1406" h="313">
                  <a:moveTo>
                    <a:pt x="0" y="0"/>
                  </a:moveTo>
                  <a:cubicBezTo>
                    <a:pt x="63" y="40"/>
                    <a:pt x="269" y="187"/>
                    <a:pt x="379" y="239"/>
                  </a:cubicBezTo>
                  <a:cubicBezTo>
                    <a:pt x="489" y="291"/>
                    <a:pt x="562" y="309"/>
                    <a:pt x="661" y="311"/>
                  </a:cubicBezTo>
                  <a:cubicBezTo>
                    <a:pt x="760" y="313"/>
                    <a:pt x="849" y="303"/>
                    <a:pt x="973" y="251"/>
                  </a:cubicBezTo>
                  <a:cubicBezTo>
                    <a:pt x="1097" y="199"/>
                    <a:pt x="1316" y="52"/>
                    <a:pt x="140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287520" y="3701160"/>
            <a:ext cx="689760" cy="2639520"/>
            <a:chOff x="3287520" y="3701160"/>
            <a:chExt cx="689760" cy="2639520"/>
          </a:xfrm>
        </p:grpSpPr>
        <p:grpSp>
          <p:nvGrpSpPr>
            <p:cNvPr id="137" name=""/>
            <p:cNvGrpSpPr/>
            <p:nvPr/>
          </p:nvGrpSpPr>
          <p:grpSpPr>
            <a:xfrm>
              <a:off x="3573720" y="5892840"/>
              <a:ext cx="403560" cy="447840"/>
              <a:chOff x="3573720" y="5892840"/>
              <a:chExt cx="403560" cy="447840"/>
            </a:xfrm>
          </p:grpSpPr>
          <p:sp>
            <p:nvSpPr>
              <p:cNvPr id="138" name=""/>
              <p:cNvSpPr/>
              <p:nvPr/>
            </p:nvSpPr>
            <p:spPr>
              <a:xfrm flipH="1" flipV="1" rot="6005400">
                <a:off x="3583080" y="5924160"/>
                <a:ext cx="268200" cy="24408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 flipV="1" rot="14047200">
                <a:off x="3817080" y="6073560"/>
                <a:ext cx="41040" cy="314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 flipV="1" rot="10411800">
              <a:off x="3666960" y="3715920"/>
              <a:ext cx="286920" cy="287280"/>
            </a:xfrm>
            <a:prstGeom prst="rtTriangl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 rot="16200000">
              <a:off x="2419560" y="4762080"/>
              <a:ext cx="2231640" cy="496440"/>
            </a:xfrm>
            <a:custGeom>
              <a:avLst/>
              <a:gdLst/>
              <a:ahLst/>
              <a:rect l="l" t="t" r="r" b="b"/>
              <a:pathLst>
                <a:path w="1406" h="313">
                  <a:moveTo>
                    <a:pt x="0" y="0"/>
                  </a:moveTo>
                  <a:cubicBezTo>
                    <a:pt x="63" y="40"/>
                    <a:pt x="269" y="187"/>
                    <a:pt x="379" y="239"/>
                  </a:cubicBezTo>
                  <a:cubicBezTo>
                    <a:pt x="489" y="291"/>
                    <a:pt x="562" y="309"/>
                    <a:pt x="661" y="311"/>
                  </a:cubicBezTo>
                  <a:cubicBezTo>
                    <a:pt x="760" y="313"/>
                    <a:pt x="849" y="303"/>
                    <a:pt x="973" y="251"/>
                  </a:cubicBezTo>
                  <a:cubicBezTo>
                    <a:pt x="1097" y="199"/>
                    <a:pt x="1316" y="52"/>
                    <a:pt x="140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356080" y="4255920"/>
            <a:ext cx="333072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arc vers le 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08560" y="1917720"/>
            <a:ext cx="3692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arc vers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3760" y="5346360"/>
            <a:ext cx="2827440" cy="90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arc à dro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267800" y="3381120"/>
            <a:ext cx="2638440" cy="690480"/>
            <a:chOff x="4267800" y="3381120"/>
            <a:chExt cx="2638440" cy="690480"/>
          </a:xfrm>
        </p:grpSpPr>
        <p:grpSp>
          <p:nvGrpSpPr>
            <p:cNvPr id="146" name=""/>
            <p:cNvGrpSpPr/>
            <p:nvPr/>
          </p:nvGrpSpPr>
          <p:grpSpPr>
            <a:xfrm>
              <a:off x="6459120" y="3381120"/>
              <a:ext cx="447120" cy="403560"/>
              <a:chOff x="6459120" y="3381120"/>
              <a:chExt cx="447120" cy="403560"/>
            </a:xfrm>
          </p:grpSpPr>
          <p:sp>
            <p:nvSpPr>
              <p:cNvPr id="147" name=""/>
              <p:cNvSpPr/>
              <p:nvPr/>
            </p:nvSpPr>
            <p:spPr>
              <a:xfrm rot="11405400">
                <a:off x="6478200" y="3518280"/>
                <a:ext cx="268560" cy="24444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9447800">
                <a:off x="6776280" y="3363120"/>
                <a:ext cx="41400" cy="314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 rot="15811800">
              <a:off x="4282920" y="3404520"/>
              <a:ext cx="287280" cy="287640"/>
            </a:xfrm>
            <a:prstGeom prst="rtTriangl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60400" y="3574800"/>
              <a:ext cx="2232000" cy="496800"/>
            </a:xfrm>
            <a:custGeom>
              <a:avLst/>
              <a:gdLst/>
              <a:ahLst/>
              <a:rect l="l" t="t" r="r" b="b"/>
              <a:pathLst>
                <a:path w="1406" h="313">
                  <a:moveTo>
                    <a:pt x="0" y="0"/>
                  </a:moveTo>
                  <a:cubicBezTo>
                    <a:pt x="63" y="40"/>
                    <a:pt x="269" y="187"/>
                    <a:pt x="379" y="239"/>
                  </a:cubicBezTo>
                  <a:cubicBezTo>
                    <a:pt x="489" y="291"/>
                    <a:pt x="562" y="309"/>
                    <a:pt x="661" y="311"/>
                  </a:cubicBezTo>
                  <a:cubicBezTo>
                    <a:pt x="760" y="313"/>
                    <a:pt x="849" y="303"/>
                    <a:pt x="973" y="251"/>
                  </a:cubicBezTo>
                  <a:cubicBezTo>
                    <a:pt x="1097" y="199"/>
                    <a:pt x="1316" y="52"/>
                    <a:pt x="140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261680" y="2691000"/>
            <a:ext cx="2632320" cy="731880"/>
            <a:chOff x="4261680" y="2691000"/>
            <a:chExt cx="2632320" cy="731880"/>
          </a:xfrm>
        </p:grpSpPr>
        <p:grpSp>
          <p:nvGrpSpPr>
            <p:cNvPr id="152" name=""/>
            <p:cNvGrpSpPr/>
            <p:nvPr/>
          </p:nvGrpSpPr>
          <p:grpSpPr>
            <a:xfrm>
              <a:off x="6444720" y="2977200"/>
              <a:ext cx="449280" cy="403560"/>
              <a:chOff x="6444720" y="2977200"/>
              <a:chExt cx="449280" cy="403560"/>
            </a:xfrm>
          </p:grpSpPr>
          <p:sp>
            <p:nvSpPr>
              <p:cNvPr id="153" name=""/>
              <p:cNvSpPr/>
              <p:nvPr/>
            </p:nvSpPr>
            <p:spPr>
              <a:xfrm flipV="1" rot="10114800">
                <a:off x="6465960" y="3000960"/>
                <a:ext cx="268200" cy="24408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 rot="2072400">
                <a:off x="6767280" y="3082320"/>
                <a:ext cx="41040" cy="314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 flipV="1" rot="5707800">
              <a:off x="4273560" y="3123360"/>
              <a:ext cx="287280" cy="286920"/>
            </a:xfrm>
            <a:prstGeom prst="rtTriangl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 rot="21519600">
              <a:off x="4444920" y="2716560"/>
              <a:ext cx="2231640" cy="496800"/>
            </a:xfrm>
            <a:custGeom>
              <a:avLst/>
              <a:gdLst/>
              <a:ahLst/>
              <a:rect l="l" t="t" r="r" b="b"/>
              <a:pathLst>
                <a:path w="1406" h="313">
                  <a:moveTo>
                    <a:pt x="0" y="0"/>
                  </a:moveTo>
                  <a:cubicBezTo>
                    <a:pt x="63" y="40"/>
                    <a:pt x="269" y="187"/>
                    <a:pt x="379" y="239"/>
                  </a:cubicBezTo>
                  <a:cubicBezTo>
                    <a:pt x="489" y="291"/>
                    <a:pt x="562" y="309"/>
                    <a:pt x="661" y="311"/>
                  </a:cubicBezTo>
                  <a:cubicBezTo>
                    <a:pt x="760" y="313"/>
                    <a:pt x="849" y="303"/>
                    <a:pt x="973" y="251"/>
                  </a:cubicBezTo>
                  <a:cubicBezTo>
                    <a:pt x="1097" y="199"/>
                    <a:pt x="1316" y="52"/>
                    <a:pt x="140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-5400000">
                                      <p:cBhvr>
                                        <p:cTn id="59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2" nodeType="withEffect" fill="hold" presetClass="path" presetID="37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0799 -0.00023 L 0.09635 -0.01157 C 0.11961 -0.01319 0.14062 -0.02917 0.15382 -0.05324 C 0.16996 -0.08125 0.17465 -0.11088 0.16423 -0.14468 L 0.14895 -0.27893 E">
                                      <p:cBhvr>
                                        <p:cTn id="593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59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-3.7037E-007 L 0.08056 -0.0037 C 0.09705 -0.0037 0.11754 -0.01319 0.13594 -0.02824 C 0.15677 -0.04676 0.17101 -0.06597 0.1783 -0.08704 L 0.21285 -0.17917 E">
                                      <p:cBhvr>
                                        <p:cTn id="599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puler une trajec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 Appliquer l’eff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160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i, nous choisissons l’eff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 Arc vers le bas »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électionner l’ob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quer l’eff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44800" y="404640"/>
            <a:ext cx="6400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 Appliquer l’eff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puler une trajec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50560" y="3886200"/>
            <a:ext cx="6805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 Mettre en f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/</a:t>
            </a:r>
            <a:r>
              <a:rPr b="0" lang="en-US" sz="3200" spc="-1" strike="noStrike">
                <a:solidFill>
                  <a:srgbClr val="66ffcc"/>
                </a:solidFill>
                <a:latin typeface="Arial"/>
              </a:rPr>
              <a:t> Ajuster sa direction et son s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60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i, pour le fa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s allons dans un premier te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ourner la trajec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âce à la poignée de ro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166920" y="2889360"/>
            <a:ext cx="356400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quer sur la poignée de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2360" y="3429000"/>
            <a:ext cx="46836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543640" y="5056200"/>
            <a:ext cx="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000" y="3543480"/>
            <a:ext cx="3564000" cy="74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enir la souris enfonc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ndre la poignée de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6000" y="4559400"/>
            <a:ext cx="3564000" cy="4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objet est retour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16000" y="5337000"/>
            <a:ext cx="3564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â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260280"/>
            <a:ext cx="6805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/</a:t>
            </a:r>
            <a:r>
              <a:rPr b="0" lang="en-US" sz="3200" spc="-1" strike="noStrike">
                <a:solidFill>
                  <a:srgbClr val="66ffcc"/>
                </a:solidFill>
                <a:latin typeface="Arial"/>
              </a:rPr>
              <a:t> Ajuster sa direction </a:t>
            </a:r>
            <a:br>
              <a:rPr sz="3200"/>
            </a:br>
            <a:r>
              <a:rPr b="0" lang="en-US" sz="3200" spc="-1" strike="noStrike">
                <a:solidFill>
                  <a:srgbClr val="66ffcc"/>
                </a:solidFill>
                <a:latin typeface="Arial"/>
              </a:rPr>
              <a:t>et son s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puler une trajec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3886200"/>
            <a:ext cx="8316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Mettre en f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/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cc"/>
                </a:solidFill>
                <a:latin typeface="Arial"/>
              </a:rPr>
              <a:t>Positionner le point de dép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cc"/>
                </a:solidFill>
                <a:latin typeface="Arial"/>
              </a:rPr>
              <a:t>au centre de l’ob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21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23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21">
                                  <p:stCondLst>
                                    <p:cond delay="1000"/>
                                  </p:stCondLst>
                                  <p:childTnLst>
                                    <p:animClr clrSpc="hsl" dir="cw">
                                      <p:cBhvr>
                                        <p:cTn id="23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2000" y="2349360"/>
            <a:ext cx="3564000" cy="7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électionner la trajec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cliquant des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04000" y="3133800"/>
            <a:ext cx="0" cy="180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016000" y="3259080"/>
            <a:ext cx="3564000" cy="85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la faire glis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maintenant la souris enfonc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131640" y="4400640"/>
            <a:ext cx="21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340000" y="2349360"/>
            <a:ext cx="3564000" cy="96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 la trajectoire sera 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e de l’obje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3316320"/>
            <a:ext cx="0" cy="12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56360" y="4116240"/>
            <a:ext cx="127944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â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050920" y="216000"/>
            <a:ext cx="56167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/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cc"/>
                </a:solidFill>
                <a:latin typeface="Arial"/>
              </a:rPr>
              <a:t>Recentrer</a:t>
            </a:r>
            <a:br>
              <a:rPr sz="3200"/>
            </a:br>
            <a:r>
              <a:rPr b="0" lang="en-US" sz="3200" spc="-1" strike="noStrike">
                <a:solidFill>
                  <a:srgbClr val="66ffcc"/>
                </a:solidFill>
                <a:latin typeface="Arial"/>
              </a:rPr>
              <a:t>le point de dép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9:30:37Z</dcterms:created>
  <dc:creator>Tribouillier</dc:creator>
  <dc:description/>
  <dc:language>en-US</dc:language>
  <cp:lastModifiedBy>Tribouillier</cp:lastModifiedBy>
  <dcterms:modified xsi:type="dcterms:W3CDTF">2008-02-24T13:19:23Z</dcterms:modified>
  <cp:revision>16</cp:revision>
  <dc:subject/>
  <dc:title>Manipuler un effet de trajectoire 4</dc:title>
</cp:coreProperties>
</file>