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237-0E1D-4B16-9229-D58043A9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04B-000A-4A88-8DFF-E64D857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DD8-DD4D-49AA-B2FB-73011A00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BE2-3799-477A-8FA6-F424C721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049-7EB6-4A03-9834-5BAA06A4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C90-1E7D-40E5-8B12-E9031D4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F45-2F1B-4FC4-8CD2-B90B741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E4D-215E-4B45-AEAC-CD6C0BB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389-E239-4C48-BB07-6B6704B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540-D0EE-4C94-B477-8EADE8D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5BC-9927-4966-BE1C-057B0E5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531-6135-44B9-ACE5-3E39A09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9C9-06A3-4ACF-A256-420D05B9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’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ppliqu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Ajuster sa direction et son 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ositionner son point de départ au centre de l’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imensionner la trajec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1">
                                  <p:stCondLst>
                                    <p:cond delay="250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092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55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Dimensionner 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nous voulons, dans un deuxi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s, allonger et donner un p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ampleur à la trajectoire : 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s donc étirer celle-ci dep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in en haut à gau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200" y="3357720"/>
            <a:ext cx="3564000" cy="78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maintenir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étir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6200" y="2637000"/>
            <a:ext cx="3564000" cy="4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r sur ledit 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755640" y="4365360"/>
            <a:ext cx="14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25520" y="3357720"/>
            <a:ext cx="1619280" cy="46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44800" y="189000"/>
            <a:ext cx="6400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Dimensionner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092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8760" y="1566720"/>
            <a:ext cx="8805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étrer une i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que pour que 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se un aller et re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51280" y="3393720"/>
            <a:ext cx="27828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’eff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e Volet Off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is les Options d’e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32640" y="38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1964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773360"/>
            <a:ext cx="3780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her « inversion automat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23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6360" y="1484280"/>
            <a:ext cx="8805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ét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répétition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que 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s et re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" y="1701720"/>
            <a:ext cx="3780000" cy="60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r d’ong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928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3. 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19640" y="23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928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1640" y="1628640"/>
            <a:ext cx="3780000" cy="60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sir « 2 » devant « Répét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87680" y="24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3. 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ur info, 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ajectoire arquée exis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4960" y="5332320"/>
            <a:ext cx="30830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à ga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28320" y="3697920"/>
            <a:ext cx="719280" cy="2640240"/>
            <a:chOff x="3928320" y="3697920"/>
            <a:chExt cx="719280" cy="2640240"/>
          </a:xfrm>
        </p:grpSpPr>
        <p:grpSp>
          <p:nvGrpSpPr>
            <p:cNvPr id="131" name=""/>
            <p:cNvGrpSpPr/>
            <p:nvPr/>
          </p:nvGrpSpPr>
          <p:grpSpPr>
            <a:xfrm>
              <a:off x="3928320" y="5892840"/>
              <a:ext cx="403200" cy="445320"/>
              <a:chOff x="3928320" y="5892840"/>
              <a:chExt cx="403200" cy="445320"/>
            </a:xfrm>
          </p:grpSpPr>
          <p:sp>
            <p:nvSpPr>
              <p:cNvPr id="132" name=""/>
              <p:cNvSpPr/>
              <p:nvPr/>
            </p:nvSpPr>
            <p:spPr>
              <a:xfrm flipV="1" rot="15638400">
                <a:off x="4054680" y="5922000"/>
                <a:ext cx="268200" cy="2444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7596600">
                <a:off x="4046400" y="6070680"/>
                <a:ext cx="4104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 rot="11232000">
              <a:off x="3980880" y="3714840"/>
              <a:ext cx="287280" cy="287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5443800">
              <a:off x="3268800" y="4763160"/>
              <a:ext cx="223164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87520" y="3701160"/>
            <a:ext cx="689760" cy="2639520"/>
            <a:chOff x="3287520" y="3701160"/>
            <a:chExt cx="689760" cy="2639520"/>
          </a:xfrm>
        </p:grpSpPr>
        <p:grpSp>
          <p:nvGrpSpPr>
            <p:cNvPr id="137" name=""/>
            <p:cNvGrpSpPr/>
            <p:nvPr/>
          </p:nvGrpSpPr>
          <p:grpSpPr>
            <a:xfrm>
              <a:off x="3573720" y="5892840"/>
              <a:ext cx="403560" cy="447840"/>
              <a:chOff x="3573720" y="5892840"/>
              <a:chExt cx="403560" cy="447840"/>
            </a:xfrm>
          </p:grpSpPr>
          <p:sp>
            <p:nvSpPr>
              <p:cNvPr id="138" name=""/>
              <p:cNvSpPr/>
              <p:nvPr/>
            </p:nvSpPr>
            <p:spPr>
              <a:xfrm flipH="1" flipV="1" rot="6005400">
                <a:off x="3583080" y="5924160"/>
                <a:ext cx="268200" cy="2440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4047200">
                <a:off x="3817080" y="6073560"/>
                <a:ext cx="41040" cy="314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 rot="10411800">
              <a:off x="3666960" y="3715920"/>
              <a:ext cx="286920" cy="287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 rot="16200000">
              <a:off x="2419560" y="4762080"/>
              <a:ext cx="2231640" cy="49644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56080" y="4255920"/>
            <a:ext cx="3330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vers le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8560" y="1917720"/>
            <a:ext cx="369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vers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3760" y="5346360"/>
            <a:ext cx="282744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à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267800" y="3381120"/>
            <a:ext cx="2638440" cy="690480"/>
            <a:chOff x="4267800" y="3381120"/>
            <a:chExt cx="2638440" cy="690480"/>
          </a:xfrm>
        </p:grpSpPr>
        <p:grpSp>
          <p:nvGrpSpPr>
            <p:cNvPr id="146" name=""/>
            <p:cNvGrpSpPr/>
            <p:nvPr/>
          </p:nvGrpSpPr>
          <p:grpSpPr>
            <a:xfrm>
              <a:off x="6459120" y="3381120"/>
              <a:ext cx="447120" cy="403560"/>
              <a:chOff x="6459120" y="3381120"/>
              <a:chExt cx="447120" cy="403560"/>
            </a:xfrm>
          </p:grpSpPr>
          <p:sp>
            <p:nvSpPr>
              <p:cNvPr id="147" name=""/>
              <p:cNvSpPr/>
              <p:nvPr/>
            </p:nvSpPr>
            <p:spPr>
              <a:xfrm rot="11405400">
                <a:off x="6478200" y="3518280"/>
                <a:ext cx="268560" cy="2444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447800">
                <a:off x="6776280" y="3363120"/>
                <a:ext cx="4140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5811800">
              <a:off x="4282920" y="3404520"/>
              <a:ext cx="287280" cy="287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0400" y="3574800"/>
              <a:ext cx="223200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61680" y="2691000"/>
            <a:ext cx="2632320" cy="731880"/>
            <a:chOff x="4261680" y="2691000"/>
            <a:chExt cx="2632320" cy="731880"/>
          </a:xfrm>
        </p:grpSpPr>
        <p:grpSp>
          <p:nvGrpSpPr>
            <p:cNvPr id="152" name=""/>
            <p:cNvGrpSpPr/>
            <p:nvPr/>
          </p:nvGrpSpPr>
          <p:grpSpPr>
            <a:xfrm>
              <a:off x="6444720" y="2977200"/>
              <a:ext cx="449280" cy="403560"/>
              <a:chOff x="6444720" y="2977200"/>
              <a:chExt cx="449280" cy="403560"/>
            </a:xfrm>
          </p:grpSpPr>
          <p:sp>
            <p:nvSpPr>
              <p:cNvPr id="153" name=""/>
              <p:cNvSpPr/>
              <p:nvPr/>
            </p:nvSpPr>
            <p:spPr>
              <a:xfrm flipV="1" rot="10114800">
                <a:off x="6465960" y="3000960"/>
                <a:ext cx="268200" cy="2440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 rot="2072400">
                <a:off x="6767280" y="3082320"/>
                <a:ext cx="4104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 rot="5707800">
              <a:off x="4273560" y="3123360"/>
              <a:ext cx="287280" cy="28692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21519600">
              <a:off x="4444920" y="2716560"/>
              <a:ext cx="223164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5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3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799 -0.00023 L 0.09635 -0.01157 C 0.11961 -0.01319 0.14062 -0.02917 0.15382 -0.05324 C 0.16996 -0.08125 0.17465 -0.11088 0.16423 -0.14468 L 0.14895 -0.27893 E">
                                      <p:cBhvr>
                                        <p:cTn id="59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3.7037E-007 L 0.08056 -0.0037 C 0.09705 -0.0037 0.11754 -0.01319 0.13594 -0.02824 C 0.15677 -0.04676 0.17101 -0.06597 0.1783 -0.08704 L 0.21285 -0.17917 E">
                                      <p:cBhvr>
                                        <p:cTn id="59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Appliquer l’eff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nous choisissons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Arc vers le bas »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électionner l’ob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4800" y="404640"/>
            <a:ext cx="640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Appliquer l’eff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5056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/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 Ajuster sa direction et son s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pour le f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dans un premier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urner 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âce à la poignée de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66920" y="2889360"/>
            <a:ext cx="3564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r sur la poigné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3429000"/>
            <a:ext cx="46836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43640" y="505620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3543480"/>
            <a:ext cx="356400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ir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re la poigné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00" y="4559400"/>
            <a:ext cx="356400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bjet est retou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6000" y="5337000"/>
            <a:ext cx="3564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60280"/>
            <a:ext cx="680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/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 Ajuster sa direction 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et son s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886200"/>
            <a:ext cx="831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Positionner le point de dé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au centre de l’ob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1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2000" y="2349360"/>
            <a:ext cx="3564000" cy="7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liquant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4000" y="3133800"/>
            <a:ext cx="0" cy="18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16000" y="3259080"/>
            <a:ext cx="356400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la faire gli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aintenant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131640" y="440064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0" y="2349360"/>
            <a:ext cx="3564000" cy="9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la trajectoire sera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 de l’obje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316320"/>
            <a:ext cx="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6360" y="4116240"/>
            <a:ext cx="127944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0920" y="216000"/>
            <a:ext cx="5616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Recentrer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le point de dé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30:37Z</dcterms:created>
  <dc:creator>Tribouillier</dc:creator>
  <dc:description/>
  <dc:language>en-US</dc:language>
  <cp:lastModifiedBy>Tribouillier</cp:lastModifiedBy>
  <dcterms:modified xsi:type="dcterms:W3CDTF">2008-02-24T13:19:23Z</dcterms:modified>
  <cp:revision>16</cp:revision>
  <dc:subject/>
  <dc:title>Manipuler un effet de trajectoire 4</dc:title>
</cp:coreProperties>
</file>