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058-447F-4907-BFED-AABA6889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57F-8815-4F83-AA63-AEFAA576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104-0C1D-48BE-A141-8AAA5C56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27A-54AD-4143-BBD2-0B0428E1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6BE-C3A3-489C-92B2-F9E6D2F2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235-A3F1-4255-8A83-174D2314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A66-F378-4DA4-97A2-7EC74566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5DC-0669-4459-BFF1-D416DAAA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331-843A-4E0B-9907-B7212077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04B-8D77-4A23-9D3E-EDC5B900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B2D-9BA8-467E-8F3F-E35B0EFA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030-8F89-41E7-B1E4-0FA3B2A8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632B-FC84-4A80-A8DA-2118AAB6F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 effet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 récapitula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partir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6829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l’animation qui sui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637320" y="1989000"/>
            <a:ext cx="2220480" cy="3541680"/>
            <a:chOff x="6637320" y="1989000"/>
            <a:chExt cx="2220480" cy="35416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6805440" y="1989000"/>
              <a:ext cx="205236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637320" y="4911840"/>
              <a:ext cx="79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6949800" y="5200560"/>
              <a:ext cx="62352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05440" y="5343480"/>
              <a:ext cx="40752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27640" y="4417920"/>
            <a:ext cx="986040" cy="9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24360" y="1946160"/>
            <a:ext cx="2171160" cy="3541680"/>
            <a:chOff x="324360" y="1946160"/>
            <a:chExt cx="2171160" cy="35416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 flipH="1">
              <a:off x="324360" y="1946160"/>
              <a:ext cx="200664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flipH="1">
              <a:off x="1720800" y="4869000"/>
              <a:ext cx="77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1580040" y="5157720"/>
              <a:ext cx="60984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932120" y="5300640"/>
              <a:ext cx="39852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588000" y="1946160"/>
            <a:ext cx="2221200" cy="3541680"/>
            <a:chOff x="6588000" y="1946160"/>
            <a:chExt cx="2221200" cy="35416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756480" y="1946160"/>
              <a:ext cx="205272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588000" y="4869000"/>
              <a:ext cx="792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900840" y="5157720"/>
              <a:ext cx="62388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56480" y="5300640"/>
              <a:ext cx="40788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178680" y="4375080"/>
            <a:ext cx="985680" cy="9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52 -1.7341E-006 L -0.15972 -0.07722 C -0.18263 -0.09456 -0.21684 -0.10451 -0.25243 -0.10451 C -0.29323 -0.10451 -0.32569 -0.09456 -0.34861 -0.07722 L -0.45798 -1.7341E-006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6588000" y="1946160"/>
            <a:ext cx="2221200" cy="3541680"/>
            <a:chOff x="6588000" y="1946160"/>
            <a:chExt cx="2221200" cy="35416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6756480" y="1946160"/>
              <a:ext cx="205272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588000" y="4869000"/>
              <a:ext cx="792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900840" y="5157720"/>
              <a:ext cx="62388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56480" y="5300640"/>
              <a:ext cx="40788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i les démarches à sui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6040" y="342720"/>
            <a:ext cx="8229600" cy="16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er le footbal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r l’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lacer face au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416840" y="2162160"/>
            <a:ext cx="2171160" cy="3541680"/>
            <a:chOff x="4416840" y="2162160"/>
            <a:chExt cx="2171160" cy="354168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 flipH="1">
              <a:off x="4416840" y="2162160"/>
              <a:ext cx="200664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flipH="1">
              <a:off x="5813280" y="5085000"/>
              <a:ext cx="77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5672520" y="5373720"/>
              <a:ext cx="60984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024600" y="5516640"/>
              <a:ext cx="39852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804000" y="2162160"/>
            <a:ext cx="2220480" cy="3541680"/>
            <a:chOff x="6804000" y="2162160"/>
            <a:chExt cx="2220480" cy="3541680"/>
          </a:xfrm>
        </p:grpSpPr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972120" y="2162160"/>
              <a:ext cx="205236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804000" y="5085000"/>
              <a:ext cx="79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116480" y="5373720"/>
              <a:ext cx="62352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72120" y="5516640"/>
              <a:ext cx="40752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300720" y="4292640"/>
            <a:ext cx="986040" cy="98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 décor est planté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voyons l’animation du ball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827 -0.03148 L 3.88889E-006 3.7037E-007 E"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 décor est planté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voyons l’animation du ball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6040" y="144360"/>
            <a:ext cx="82296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lectionner le ba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« Ajouter un effe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sir la trajectoire « Arc vers le ba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lectionner la trajectoire et la retourner grâce à la poignée de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lacer la trajectoire pour que son départ en vert soit au centre du ba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irer la trajectoire par le coin en haut à gauche pour que la pointe de la flèche en rouge arrive au pied du footballeur de ga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e déroulant de l’effet dans le volet Office, cliquer sur les « Options de l’effet »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’onglet « Effet », paragraphe « Paramètres », cocher la case « Inversion automatiq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’onglet « Minutage », face à « Répéter » inscrire « 2 » grâce au déroul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6637320" y="1989000"/>
            <a:ext cx="2220480" cy="3541680"/>
            <a:chOff x="6637320" y="1989000"/>
            <a:chExt cx="2220480" cy="354168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6805440" y="1989000"/>
              <a:ext cx="205236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637320" y="4911840"/>
              <a:ext cx="79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949800" y="5200560"/>
              <a:ext cx="62352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05440" y="5343480"/>
              <a:ext cx="40752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27640" y="4417920"/>
            <a:ext cx="986040" cy="986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20640"/>
            <a:ext cx="3670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À vous de jou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i nous avons travailler sur l’arc vers le b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urions pu faire l’exercice avec l’arc vers le ha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ule chose qui aurait chang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 lieu d’agir sur la poignée de rotation, nous aurions cliquer droit sur la trajectoire pour effectuer un inversion de s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ment relatif sa for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3:08:38Z</dcterms:created>
  <dc:creator>Tribouillier</dc:creator>
  <dc:description/>
  <dc:language>en-US</dc:language>
  <cp:lastModifiedBy>Tribouillier</cp:lastModifiedBy>
  <dcterms:modified xsi:type="dcterms:W3CDTF">2008-02-24T13:18:57Z</dcterms:modified>
  <cp:revision>2</cp:revision>
  <dc:subject/>
  <dc:title>Manipuler un effet trajectoire 4</dc:title>
</cp:coreProperties>
</file>