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482-6FD6-41C3-B8FF-EF595BF2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4E6-683B-489C-8E4E-30E87644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A7F-96A6-48BE-A664-8EC7A2A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FCE-CF2A-4655-8FFD-420CE9F4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E9B-A339-4FE7-ACF0-68A0DBC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30E-A247-46F2-9E73-145E188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861-6227-4CD5-8E3D-715D969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0F4-9582-4139-88E0-4B4570D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828-7094-4E83-BEC3-43BE819C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6E-62BD-42E9-8819-CD4C722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649-CB22-4268-B8D8-B23577D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3F7-B986-4EF2-94B1-A7154CC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1F4-4244-43E6-9137-0B1C55EA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 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 récapitul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partir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829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l’animation qui su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637320" y="1989000"/>
            <a:ext cx="2220480" cy="3541680"/>
            <a:chOff x="6637320" y="1989000"/>
            <a:chExt cx="2220480" cy="35416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805440" y="198900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637320" y="491184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6949800" y="520056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5440" y="534348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4417920"/>
            <a:ext cx="98604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24360" y="1946160"/>
            <a:ext cx="2171160" cy="3541680"/>
            <a:chOff x="324360" y="1946160"/>
            <a:chExt cx="2171160" cy="35416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 flipH="1">
              <a:off x="324360" y="1946160"/>
              <a:ext cx="200664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1720800" y="4869000"/>
              <a:ext cx="77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580040" y="5157720"/>
              <a:ext cx="60984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932120" y="5300640"/>
              <a:ext cx="398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88000" y="1946160"/>
            <a:ext cx="2221200" cy="3541680"/>
            <a:chOff x="6588000" y="1946160"/>
            <a:chExt cx="2221200" cy="35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756480" y="1946160"/>
              <a:ext cx="205272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588000" y="4869000"/>
              <a:ext cx="792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900840" y="5157720"/>
              <a:ext cx="62388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56480" y="5300640"/>
              <a:ext cx="40788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78680" y="4375080"/>
            <a:ext cx="985680" cy="9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2 -1.7341E-006 L -0.15972 -0.07722 C -0.18263 -0.09456 -0.21684 -0.10451 -0.25243 -0.10451 C -0.29323 -0.10451 -0.32569 -0.09456 -0.34861 -0.07722 L -0.45798 -1.7341E-006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588000" y="1946160"/>
            <a:ext cx="2221200" cy="3541680"/>
            <a:chOff x="6588000" y="1946160"/>
            <a:chExt cx="2221200" cy="35416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6756480" y="1946160"/>
              <a:ext cx="205272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588000" y="4869000"/>
              <a:ext cx="792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00840" y="5157720"/>
              <a:ext cx="62388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56480" y="5300640"/>
              <a:ext cx="40788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6040" y="342720"/>
            <a:ext cx="8229600" cy="16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r le footbal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r l’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lacer face au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416840" y="2162160"/>
            <a:ext cx="2171160" cy="3541680"/>
            <a:chOff x="4416840" y="2162160"/>
            <a:chExt cx="2171160" cy="35416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 flipH="1">
              <a:off x="4416840" y="2162160"/>
              <a:ext cx="200664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H="1">
              <a:off x="5813280" y="5085000"/>
              <a:ext cx="77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5672520" y="5373720"/>
              <a:ext cx="60984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024600" y="5516640"/>
              <a:ext cx="398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804000" y="2162160"/>
            <a:ext cx="2220480" cy="3541680"/>
            <a:chOff x="6804000" y="2162160"/>
            <a:chExt cx="2220480" cy="354168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972120" y="216216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04000" y="508500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116480" y="537372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2120" y="551664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986040" cy="98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décor est planté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voyons l’animation du ball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827 -0.03148 L 3.88889E-006 3.7037E-007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décor est planté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voyons l’animation du ball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040" y="144360"/>
            <a:ext cx="82296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onner le b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jouter un effe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sir la trajectoire « Arc vers le ba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onner la trajectoire et la retourner grâce à la poignée de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r la trajectoire pour que son départ en vert soit au centre du b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irer la trajectoire par le coin en haut à gauche pour que la pointe de la flèche en rouge arrive au pied du footballeur de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e déroulant de l’effet dans le volet Office, cliquer sur les « Options de l’effet »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onglet « Effet », paragraphe « Paramètres », cocher la case « Inversion automatiq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’onglet « Minutage », face à « Répéter » inscrire « 2 » grâce au déroul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637320" y="1989000"/>
            <a:ext cx="2220480" cy="3541680"/>
            <a:chOff x="6637320" y="1989000"/>
            <a:chExt cx="2220480" cy="35416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6805440" y="1989000"/>
              <a:ext cx="20523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637320" y="4911840"/>
              <a:ext cx="79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49800" y="5200560"/>
              <a:ext cx="623520" cy="216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05440" y="5343480"/>
              <a:ext cx="407520" cy="1443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4417920"/>
            <a:ext cx="986040" cy="986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0640"/>
            <a:ext cx="3670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À vous de jou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i nous avons travailler sur l’arc vers le b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urions pu faire l’exercice avec l’arc vers le h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ule chose qui aurait chang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lieu d’agir sur la poignée de rotation, nous aurions cliquer droit sur la trajectoire pour effectuer un inversion de s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ment relatif sa for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3:08:38Z</dcterms:created>
  <dc:creator>Tribouillier</dc:creator>
  <dc:description/>
  <dc:language>en-US</dc:language>
  <cp:lastModifiedBy>Tribouillier</cp:lastModifiedBy>
  <dcterms:modified xsi:type="dcterms:W3CDTF">2008-02-24T13:18:57Z</dcterms:modified>
  <cp:revision>2</cp:revision>
  <dc:subject/>
  <dc:title>Manipuler un effet trajectoire 4</dc:title>
</cp:coreProperties>
</file>