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6F1-CD71-43B1-97CA-F2FE2659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715-2562-4494-850C-CFC2987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307-BA5B-4B1E-A61C-DC7B311C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49E-F4D1-4845-8032-6B53820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C1C-6EDC-43E6-A48E-E5B39CE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731-998B-4113-926A-EE792AB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50A-2996-491F-86AF-99FDFFB3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29C-0775-42B7-AB9C-E33507B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520-72A9-4F62-A536-4728E71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050-F9A6-4DAF-A058-C4DEFE1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0DD-A2DC-4C6E-9500-8FBE82A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08A-5C85-4517-8623-88CCA51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695-1EBB-4B77-9CF9-44D16AD7BD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3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 la direction d’une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2528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46680" y="673920"/>
            <a:ext cx="3627360" cy="2288880"/>
            <a:chOff x="346680" y="673920"/>
            <a:chExt cx="3627360" cy="2288880"/>
          </a:xfrm>
        </p:grpSpPr>
        <p:sp>
          <p:nvSpPr>
            <p:cNvPr id="45" name=""/>
            <p:cNvSpPr/>
            <p:nvPr/>
          </p:nvSpPr>
          <p:spPr>
            <a:xfrm>
              <a:off x="901440" y="1078920"/>
              <a:ext cx="2624400" cy="148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4980200">
              <a:off x="408240" y="735480"/>
              <a:ext cx="431640" cy="431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48640" y="2287080"/>
              <a:ext cx="725400" cy="675720"/>
              <a:chOff x="3248640" y="2287080"/>
              <a:chExt cx="725400" cy="675720"/>
            </a:xfrm>
          </p:grpSpPr>
          <p:sp>
            <p:nvSpPr>
              <p:cNvPr id="48" name=""/>
              <p:cNvSpPr/>
              <p:nvPr/>
            </p:nvSpPr>
            <p:spPr>
              <a:xfrm rot="14980200">
                <a:off x="3309840" y="2348640"/>
                <a:ext cx="432000" cy="4316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243200">
                <a:off x="3813840" y="2461320"/>
                <a:ext cx="73080" cy="504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5435640" y="747000"/>
            <a:ext cx="2519280" cy="2824920"/>
            <a:chOff x="5435640" y="747000"/>
            <a:chExt cx="2519280" cy="2824920"/>
          </a:xfrm>
        </p:grpSpPr>
        <p:sp>
          <p:nvSpPr>
            <p:cNvPr id="51" name=""/>
            <p:cNvSpPr/>
            <p:nvPr/>
          </p:nvSpPr>
          <p:spPr>
            <a:xfrm>
              <a:off x="5435640" y="1052640"/>
              <a:ext cx="2519280" cy="25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3428600">
              <a:off x="6370200" y="835920"/>
              <a:ext cx="431640" cy="431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476360" y="4073040"/>
            <a:ext cx="3501720" cy="1879920"/>
            <a:chOff x="1476360" y="4073040"/>
            <a:chExt cx="3501720" cy="1879920"/>
          </a:xfrm>
        </p:grpSpPr>
        <p:sp>
          <p:nvSpPr>
            <p:cNvPr id="54" name=""/>
            <p:cNvSpPr/>
            <p:nvPr/>
          </p:nvSpPr>
          <p:spPr>
            <a:xfrm rot="20650800">
              <a:off x="1998360" y="4382640"/>
              <a:ext cx="2448000" cy="1260360"/>
            </a:xfrm>
            <a:custGeom>
              <a:avLst/>
              <a:gdLst/>
              <a:ahLst/>
              <a:rect l="l" t="t" r="r" b="b"/>
              <a:pathLst>
                <a:path w="3628" h="794">
                  <a:moveTo>
                    <a:pt x="0" y="98"/>
                  </a:moveTo>
                  <a:cubicBezTo>
                    <a:pt x="340" y="344"/>
                    <a:pt x="680" y="590"/>
                    <a:pt x="907" y="688"/>
                  </a:cubicBezTo>
                  <a:cubicBezTo>
                    <a:pt x="1134" y="786"/>
                    <a:pt x="1141" y="786"/>
                    <a:pt x="1360" y="688"/>
                  </a:cubicBezTo>
                  <a:cubicBezTo>
                    <a:pt x="1579" y="590"/>
                    <a:pt x="1995" y="196"/>
                    <a:pt x="2222" y="98"/>
                  </a:cubicBezTo>
                  <a:cubicBezTo>
                    <a:pt x="2449" y="0"/>
                    <a:pt x="2509" y="0"/>
                    <a:pt x="2721" y="98"/>
                  </a:cubicBezTo>
                  <a:cubicBezTo>
                    <a:pt x="2933" y="196"/>
                    <a:pt x="3356" y="582"/>
                    <a:pt x="3492" y="688"/>
                  </a:cubicBezTo>
                  <a:cubicBezTo>
                    <a:pt x="3628" y="794"/>
                    <a:pt x="3583" y="763"/>
                    <a:pt x="3538" y="7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45000">
              <a:off x="1478880" y="4426200"/>
              <a:ext cx="432000" cy="43200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308840" y="5020560"/>
              <a:ext cx="669240" cy="706680"/>
              <a:chOff x="4308840" y="5020560"/>
              <a:chExt cx="669240" cy="706680"/>
            </a:xfrm>
          </p:grpSpPr>
          <p:sp>
            <p:nvSpPr>
              <p:cNvPr id="57" name=""/>
              <p:cNvSpPr/>
              <p:nvPr/>
            </p:nvSpPr>
            <p:spPr>
              <a:xfrm rot="16473000">
                <a:off x="4325040" y="5036760"/>
                <a:ext cx="432000" cy="43164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736000">
                <a:off x="4735440" y="5271840"/>
                <a:ext cx="73080" cy="504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trajectoire se manipule un peu comme une forme automatiq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 se sélectionne, puis en tirant avec la souris l’une des extrémités, on peut, en modifiant sa for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r son point de départ ou d’arrivé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r la distance que l’objet, auquel elle est liée, aura à parcou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est ronde ou carrée, en agissant avec la touche « minuscules », on peut changer sa taille tout en respectant sa for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est courbe, on peut en supprimer, ajouter ou déplacer les points qui la compos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ons l’exemple de la trajectoire droite qui se manipule comme un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00833E-006 L -0.12379 0.0222 C -0.17952 0.03191 -0.26302 -0.10638 -0.27552 -0.22849 L -0.30295 -0.50093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9.25069E-007 L 0.28559 9.25069E-007 C 0.41354 9.25069E-007 0.57118 0.11401 0.57118 0.20698 L 0.57118 0.4142 E">
                                      <p:cBhvr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-0.05735 L 0.0533 0.1457 C 0.07101 0.23659 -0.00121 0.38113 -0.0776 0.40772 L -0.24809 0.4667 E">
                                      <p:cBhvr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2700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de dir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697120" y="3500280"/>
            <a:ext cx="287280" cy="287280"/>
            <a:chOff x="2697120" y="3500280"/>
            <a:chExt cx="287280" cy="287280"/>
          </a:xfrm>
        </p:grpSpPr>
        <p:sp>
          <p:nvSpPr>
            <p:cNvPr id="64" name=""/>
            <p:cNvSpPr/>
            <p:nvPr/>
          </p:nvSpPr>
          <p:spPr>
            <a:xfrm>
              <a:off x="2841480" y="3500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7120" y="364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76360" y="206064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698920" y="3502080"/>
            <a:ext cx="287280" cy="287280"/>
            <a:chOff x="2698920" y="3502080"/>
            <a:chExt cx="287280" cy="287280"/>
          </a:xfrm>
        </p:grpSpPr>
        <p:sp>
          <p:nvSpPr>
            <p:cNvPr id="69" name=""/>
            <p:cNvSpPr/>
            <p:nvPr/>
          </p:nvSpPr>
          <p:spPr>
            <a:xfrm>
              <a:off x="2843280" y="3502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98920" y="3646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87280" y="141300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r le bout de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51320" y="35402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917720"/>
            <a:ext cx="482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r le doigt enfoncé sur le clic de la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ti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r de dir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8200" y="2908440"/>
            <a:ext cx="3168720" cy="1511280"/>
            <a:chOff x="538200" y="2908440"/>
            <a:chExt cx="3168720" cy="1511280"/>
          </a:xfrm>
        </p:grpSpPr>
        <p:pic>
          <p:nvPicPr>
            <p:cNvPr id="76" name="" descr=""/>
            <p:cNvPicPr/>
            <p:nvPr/>
          </p:nvPicPr>
          <p:blipFill>
            <a:blip r:embed="rId3"/>
            <a:srcRect l="44746" t="33206" r="32154" b="49171"/>
            <a:stretch/>
          </p:blipFill>
          <p:spPr>
            <a:xfrm>
              <a:off x="538200" y="2908440"/>
              <a:ext cx="31687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3274920" y="3700800"/>
              <a:ext cx="287280" cy="288720"/>
              <a:chOff x="3274920" y="3700800"/>
              <a:chExt cx="28728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3417840" y="37008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74920" y="38451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538200" y="2763720"/>
            <a:ext cx="3241800" cy="1800360"/>
            <a:chOff x="538200" y="2763720"/>
            <a:chExt cx="3241800" cy="1800360"/>
          </a:xfrm>
        </p:grpSpPr>
        <p:pic>
          <p:nvPicPr>
            <p:cNvPr id="81" name="" descr=""/>
            <p:cNvPicPr/>
            <p:nvPr/>
          </p:nvPicPr>
          <p:blipFill>
            <a:blip r:embed="rId4"/>
            <a:srcRect l="44746" t="31518" r="31621" b="47483"/>
            <a:stretch/>
          </p:blipFill>
          <p:spPr>
            <a:xfrm>
              <a:off x="538200" y="2763720"/>
              <a:ext cx="324180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3274920" y="4060800"/>
              <a:ext cx="287280" cy="288720"/>
              <a:chOff x="3274920" y="4060800"/>
              <a:chExt cx="287280" cy="288720"/>
            </a:xfrm>
          </p:grpSpPr>
          <p:sp>
            <p:nvSpPr>
              <p:cNvPr id="83" name=""/>
              <p:cNvSpPr/>
              <p:nvPr/>
            </p:nvSpPr>
            <p:spPr>
              <a:xfrm>
                <a:off x="3417840" y="40608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4920" y="42051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324000" y="2944800"/>
            <a:ext cx="3527280" cy="1923840"/>
            <a:chOff x="324000" y="2944800"/>
            <a:chExt cx="3527280" cy="192384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42132" t="34894" r="29006" b="39933"/>
            <a:stretch/>
          </p:blipFill>
          <p:spPr>
            <a:xfrm>
              <a:off x="324000" y="2944800"/>
              <a:ext cx="3527280" cy="19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2987640" y="4419360"/>
              <a:ext cx="287280" cy="288720"/>
              <a:chOff x="2987640" y="4419360"/>
              <a:chExt cx="287280" cy="288720"/>
            </a:xfrm>
          </p:grpSpPr>
          <p:sp>
            <p:nvSpPr>
              <p:cNvPr id="88" name=""/>
              <p:cNvSpPr/>
              <p:nvPr/>
            </p:nvSpPr>
            <p:spPr>
              <a:xfrm>
                <a:off x="3130560" y="44193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87640" y="4563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1116000" y="26384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84360" y="2989440"/>
            <a:ext cx="28080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989000"/>
            <a:ext cx="8496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le n’arrive pas à l’endroit voulu exactement, il faut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gler avec sa taille et sa position (dans le Format de la forme automatiqu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voir les espacements de la Grille (Menu Affichage)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rfois simplement d’afficher la diapositive en zoom élevé permet de régler le problè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06:01Z</dcterms:created>
  <dc:creator>Tribouillier</dc:creator>
  <dc:description/>
  <dc:language>en-US</dc:language>
  <cp:lastModifiedBy>Tribouillier</cp:lastModifiedBy>
  <dcterms:modified xsi:type="dcterms:W3CDTF">2008-02-23T12:27:21Z</dcterms:modified>
  <cp:revision>2</cp:revision>
  <dc:subject/>
  <dc:title>Manipuler un effet de trajectoire 3</dc:title>
</cp:coreProperties>
</file>