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4E5-3D95-4C17-955C-4E1B411F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9A77-D26B-452E-871D-F1B55B39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032-7AF3-4747-8398-3D6FC0D4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6A5F-46A4-48FB-98BC-A1DDBE32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3537-79A3-4C9B-816B-9F327061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4E3-9C93-4115-BE6C-BC672F5F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668-ACAC-4C80-9B84-4C2746E7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7525-05D9-4259-A6E5-46BAA133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BC8-9669-49BF-9838-D1D406C6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069-A27C-45BE-9625-A2D12FE1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E04-0F52-4C0D-B4BB-8A9721BC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5BF-2132-4C93-9524-9CAA76B3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E7D9-ADCD-4B3E-A659-E26EAFAAD26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f 3 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r la direction d’une trajec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12528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r une trajectoi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46680" y="673920"/>
            <a:ext cx="3627360" cy="2288880"/>
            <a:chOff x="346680" y="673920"/>
            <a:chExt cx="3627360" cy="2288880"/>
          </a:xfrm>
        </p:grpSpPr>
        <p:sp>
          <p:nvSpPr>
            <p:cNvPr id="45" name=""/>
            <p:cNvSpPr/>
            <p:nvPr/>
          </p:nvSpPr>
          <p:spPr>
            <a:xfrm>
              <a:off x="901440" y="1078920"/>
              <a:ext cx="2624400" cy="1486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4980200">
              <a:off x="408240" y="735480"/>
              <a:ext cx="431640" cy="43164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248640" y="2287080"/>
              <a:ext cx="725400" cy="675720"/>
              <a:chOff x="3248640" y="2287080"/>
              <a:chExt cx="725400" cy="675720"/>
            </a:xfrm>
          </p:grpSpPr>
          <p:sp>
            <p:nvSpPr>
              <p:cNvPr id="48" name=""/>
              <p:cNvSpPr/>
              <p:nvPr/>
            </p:nvSpPr>
            <p:spPr>
              <a:xfrm rot="14980200">
                <a:off x="3309840" y="2348640"/>
                <a:ext cx="432000" cy="43164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243200">
                <a:off x="3813840" y="2461320"/>
                <a:ext cx="73080" cy="504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" name=""/>
          <p:cNvGrpSpPr/>
          <p:nvPr/>
        </p:nvGrpSpPr>
        <p:grpSpPr>
          <a:xfrm>
            <a:off x="5435640" y="747000"/>
            <a:ext cx="2519280" cy="2824920"/>
            <a:chOff x="5435640" y="747000"/>
            <a:chExt cx="2519280" cy="2824920"/>
          </a:xfrm>
        </p:grpSpPr>
        <p:sp>
          <p:nvSpPr>
            <p:cNvPr id="51" name=""/>
            <p:cNvSpPr/>
            <p:nvPr/>
          </p:nvSpPr>
          <p:spPr>
            <a:xfrm>
              <a:off x="5435640" y="1052640"/>
              <a:ext cx="2519280" cy="251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3428600">
              <a:off x="6370200" y="835920"/>
              <a:ext cx="431640" cy="43164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476360" y="4073040"/>
            <a:ext cx="3501720" cy="1879920"/>
            <a:chOff x="1476360" y="4073040"/>
            <a:chExt cx="3501720" cy="1879920"/>
          </a:xfrm>
        </p:grpSpPr>
        <p:sp>
          <p:nvSpPr>
            <p:cNvPr id="54" name=""/>
            <p:cNvSpPr/>
            <p:nvPr/>
          </p:nvSpPr>
          <p:spPr>
            <a:xfrm rot="20650800">
              <a:off x="1998360" y="4382640"/>
              <a:ext cx="2448000" cy="1260360"/>
            </a:xfrm>
            <a:custGeom>
              <a:avLst/>
              <a:gdLst/>
              <a:ahLst/>
              <a:rect l="l" t="t" r="r" b="b"/>
              <a:pathLst>
                <a:path w="3628" h="794">
                  <a:moveTo>
                    <a:pt x="0" y="98"/>
                  </a:moveTo>
                  <a:cubicBezTo>
                    <a:pt x="340" y="344"/>
                    <a:pt x="680" y="590"/>
                    <a:pt x="907" y="688"/>
                  </a:cubicBezTo>
                  <a:cubicBezTo>
                    <a:pt x="1134" y="786"/>
                    <a:pt x="1141" y="786"/>
                    <a:pt x="1360" y="688"/>
                  </a:cubicBezTo>
                  <a:cubicBezTo>
                    <a:pt x="1579" y="590"/>
                    <a:pt x="1995" y="196"/>
                    <a:pt x="2222" y="98"/>
                  </a:cubicBezTo>
                  <a:cubicBezTo>
                    <a:pt x="2449" y="0"/>
                    <a:pt x="2509" y="0"/>
                    <a:pt x="2721" y="98"/>
                  </a:cubicBezTo>
                  <a:cubicBezTo>
                    <a:pt x="2933" y="196"/>
                    <a:pt x="3356" y="582"/>
                    <a:pt x="3492" y="688"/>
                  </a:cubicBezTo>
                  <a:cubicBezTo>
                    <a:pt x="3628" y="794"/>
                    <a:pt x="3583" y="763"/>
                    <a:pt x="3538" y="7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45000">
              <a:off x="1478880" y="4426200"/>
              <a:ext cx="432000" cy="43200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308840" y="5020560"/>
              <a:ext cx="669240" cy="706680"/>
              <a:chOff x="4308840" y="5020560"/>
              <a:chExt cx="669240" cy="706680"/>
            </a:xfrm>
          </p:grpSpPr>
          <p:sp>
            <p:nvSpPr>
              <p:cNvPr id="57" name=""/>
              <p:cNvSpPr/>
              <p:nvPr/>
            </p:nvSpPr>
            <p:spPr>
              <a:xfrm rot="16473000">
                <a:off x="4325040" y="5036760"/>
                <a:ext cx="432000" cy="43164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736000">
                <a:off x="4735440" y="5271840"/>
                <a:ext cx="73080" cy="504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trajectoire se manipule un peu comme une forme automatiq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e se sélectionne, puis en tirant avec la souris l’une des extrémités, on peut, en modifiant sa form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placer son point de départ ou d’arrivé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r la distance que l’objet, auquel elle est liée, aura à parcou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lle est ronde ou carrée, en agissant avec la touche « minuscules », on peut changer sa taille tout en respectant sa for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lle est courbe, on peut en supprimer, ajouter ou déplacer les points qui la compos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yons l’exemple de la trajectoire droite qui se manipule comme un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00833E-006 L -0.12379 0.0222 C -0.17952 0.03191 -0.26302 -0.10638 -0.27552 -0.22849 L -0.30295 -0.50093 E">
                                      <p:cBhvr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9.25069E-007 L 0.28559 9.25069E-007 C 0.41354 9.25069E-007 0.57118 0.11401 0.57118 0.20698 L 0.57118 0.4142 E">
                                      <p:cBhvr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2 -0.05735 L 0.0533 0.1457 C 0.07101 0.23659 -0.00121 0.38113 -0.0776 0.40772 L -0.24809 0.4667 E">
                                      <p:cBhvr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43280" y="2700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r de dire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697120" y="3500280"/>
            <a:ext cx="287280" cy="287280"/>
            <a:chOff x="2697120" y="3500280"/>
            <a:chExt cx="287280" cy="287280"/>
          </a:xfrm>
        </p:grpSpPr>
        <p:sp>
          <p:nvSpPr>
            <p:cNvPr id="64" name=""/>
            <p:cNvSpPr/>
            <p:nvPr/>
          </p:nvSpPr>
          <p:spPr>
            <a:xfrm>
              <a:off x="2841480" y="3500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7120" y="3644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76360" y="2060640"/>
            <a:ext cx="31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lectionner la 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27000"/>
            <a:ext cx="9134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698920" y="3502080"/>
            <a:ext cx="287280" cy="287280"/>
            <a:chOff x="2698920" y="3502080"/>
            <a:chExt cx="287280" cy="287280"/>
          </a:xfrm>
        </p:grpSpPr>
        <p:sp>
          <p:nvSpPr>
            <p:cNvPr id="69" name=""/>
            <p:cNvSpPr/>
            <p:nvPr/>
          </p:nvSpPr>
          <p:spPr>
            <a:xfrm>
              <a:off x="2843280" y="35020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98920" y="36464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187280" y="1413000"/>
            <a:ext cx="31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sir le bout de la 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51320" y="354024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917720"/>
            <a:ext cx="48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isser le doigt enfoncé sur le clic de la sou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ti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r de dire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38200" y="2908440"/>
            <a:ext cx="3168720" cy="1511280"/>
            <a:chOff x="538200" y="2908440"/>
            <a:chExt cx="3168720" cy="1511280"/>
          </a:xfrm>
        </p:grpSpPr>
        <p:pic>
          <p:nvPicPr>
            <p:cNvPr id="76" name="" descr=""/>
            <p:cNvPicPr/>
            <p:nvPr/>
          </p:nvPicPr>
          <p:blipFill>
            <a:blip r:embed="rId3"/>
            <a:srcRect l="44746" t="33206" r="32154" b="49171"/>
            <a:stretch/>
          </p:blipFill>
          <p:spPr>
            <a:xfrm>
              <a:off x="538200" y="2908440"/>
              <a:ext cx="3168720" cy="15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3274920" y="3700800"/>
              <a:ext cx="287280" cy="288720"/>
              <a:chOff x="3274920" y="3700800"/>
              <a:chExt cx="287280" cy="288720"/>
            </a:xfrm>
          </p:grpSpPr>
          <p:sp>
            <p:nvSpPr>
              <p:cNvPr id="78" name=""/>
              <p:cNvSpPr/>
              <p:nvPr/>
            </p:nvSpPr>
            <p:spPr>
              <a:xfrm>
                <a:off x="3417840" y="370080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274920" y="384516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538200" y="2763720"/>
            <a:ext cx="3241800" cy="1800360"/>
            <a:chOff x="538200" y="2763720"/>
            <a:chExt cx="3241800" cy="1800360"/>
          </a:xfrm>
        </p:grpSpPr>
        <p:pic>
          <p:nvPicPr>
            <p:cNvPr id="81" name="" descr=""/>
            <p:cNvPicPr/>
            <p:nvPr/>
          </p:nvPicPr>
          <p:blipFill>
            <a:blip r:embed="rId4"/>
            <a:srcRect l="44746" t="31518" r="31621" b="47483"/>
            <a:stretch/>
          </p:blipFill>
          <p:spPr>
            <a:xfrm>
              <a:off x="538200" y="2763720"/>
              <a:ext cx="3241800" cy="180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3274920" y="4060800"/>
              <a:ext cx="287280" cy="288720"/>
              <a:chOff x="3274920" y="4060800"/>
              <a:chExt cx="287280" cy="288720"/>
            </a:xfrm>
          </p:grpSpPr>
          <p:sp>
            <p:nvSpPr>
              <p:cNvPr id="83" name=""/>
              <p:cNvSpPr/>
              <p:nvPr/>
            </p:nvSpPr>
            <p:spPr>
              <a:xfrm>
                <a:off x="3417840" y="406080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4920" y="420516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324000" y="2944800"/>
            <a:ext cx="3527280" cy="1923840"/>
            <a:chOff x="324000" y="2944800"/>
            <a:chExt cx="3527280" cy="1923840"/>
          </a:xfrm>
        </p:grpSpPr>
        <p:pic>
          <p:nvPicPr>
            <p:cNvPr id="86" name="" descr=""/>
            <p:cNvPicPr/>
            <p:nvPr/>
          </p:nvPicPr>
          <p:blipFill>
            <a:blip r:embed="rId5"/>
            <a:srcRect l="42132" t="34894" r="29006" b="39933"/>
            <a:stretch/>
          </p:blipFill>
          <p:spPr>
            <a:xfrm>
              <a:off x="324000" y="2944800"/>
              <a:ext cx="3527280" cy="192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2987640" y="4419360"/>
              <a:ext cx="287280" cy="288720"/>
              <a:chOff x="2987640" y="4419360"/>
              <a:chExt cx="287280" cy="288720"/>
            </a:xfrm>
          </p:grpSpPr>
          <p:sp>
            <p:nvSpPr>
              <p:cNvPr id="88" name=""/>
              <p:cNvSpPr/>
              <p:nvPr/>
            </p:nvSpPr>
            <p:spPr>
              <a:xfrm>
                <a:off x="3130560" y="441936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987640" y="45637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"/>
          <p:cNvSpPr/>
          <p:nvPr/>
        </p:nvSpPr>
        <p:spPr>
          <a:xfrm>
            <a:off x="1116000" y="2638440"/>
            <a:ext cx="316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â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84360" y="2989440"/>
            <a:ext cx="280800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1989000"/>
            <a:ext cx="8496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e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lle n’arrive pas à l’endroit voulu exactement, il faut 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ngler avec sa taille et sa position (dans le Format de la forme automatique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voir les espacements de la Grille (Menu Affichage),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arfois simplement d’afficher la diapositive en zoom élevé permet de régler le problè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2:06:01Z</dcterms:created>
  <dc:creator>Tribouillier</dc:creator>
  <dc:description/>
  <dc:language>en-US</dc:language>
  <cp:lastModifiedBy>Tribouillier</cp:lastModifiedBy>
  <dcterms:modified xsi:type="dcterms:W3CDTF">2008-02-23T12:27:21Z</dcterms:modified>
  <cp:revision>2</cp:revision>
  <dc:subject/>
  <dc:title>Manipuler un effet de trajectoire 3</dc:title>
</cp:coreProperties>
</file>