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67D-C5EA-4808-A37A-D8B61939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26E-ED52-4162-8E98-9C4D344F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098-1D36-4B6C-B25F-738D6EDD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EC3-C8AB-436A-9D51-48691FFD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15F-FF05-4777-9E51-64FD9039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53E-C14C-468A-9A56-D4BA8DCE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FBC-ED0F-46D5-BB5D-CCBCCA69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E11-DA14-4D42-9549-5DA6ACE5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A19-4B14-4D04-9BD8-4E6781EF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CDDE-2CE1-4F9A-8D03-8E034E43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161-2FF7-42D2-9071-080155A8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9FF-53E3-407E-A034-7B8238FF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619E-DEBB-41B1-81DD-D9C95233E1F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240" y="188640"/>
            <a:ext cx="8736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vous de jouer</a:t>
            </a:r>
            <a:br>
              <a:rPr sz="36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ur éviter l’accident, il faut changer la trajectoire de la voiture ro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43640" y="1154160"/>
            <a:ext cx="194328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flipH="1">
            <a:off x="468000" y="3733920"/>
            <a:ext cx="1235160" cy="10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3.7037E-007 L -0.61806 0.6787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96296E-006 L 0.79861 -2.96296E-006 E">
                                      <p:cBhvr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0:05:05Z</dcterms:created>
  <dc:creator>Tribouillier</dc:creator>
  <dc:description/>
  <dc:language>en-US</dc:language>
  <cp:lastModifiedBy>Tribouillier</cp:lastModifiedBy>
  <dcterms:modified xsi:type="dcterms:W3CDTF">2008-02-23T12:32:55Z</dcterms:modified>
  <cp:revision>2</cp:revision>
  <dc:subject/>
  <dc:title>Manipuler un effet de trajectoire 3</dc:title>
</cp:coreProperties>
</file>