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B25-FC13-4374-BB1B-519F07FA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8E3-D7BD-4206-8A44-A428117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F2B-8974-4434-BA33-F14E7FCD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C0E-CE09-4909-A1C9-0DA8C005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B43-47A2-4DAF-A6DA-4787C41D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33B-4D76-4594-9FF4-D6B3AAD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237-18AD-4DA6-8431-82DCE0D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2E4-BC7B-48A5-A9FF-D1E7C36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8B6-D304-4E76-AAF2-D7F8D52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DB9-933F-460E-893B-A9615C4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BFE-A7C7-4294-93F9-B601596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7E9-EF17-4FFB-A8DC-2ADC563C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6399-5DCD-4DEC-A1FB-801F309D75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88640"/>
            <a:ext cx="8736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ur éviter l’accident, il faut changer la trajectoire de la voiture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1154160"/>
            <a:ext cx="1943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468000" y="3733920"/>
            <a:ext cx="123516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7037E-007 L -0.61806 0.6787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79861 -2.96296E-006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0:05:05Z</dcterms:created>
  <dc:creator>Tribouillier</dc:creator>
  <dc:description/>
  <dc:language>en-US</dc:language>
  <cp:lastModifiedBy>Tribouillier</cp:lastModifiedBy>
  <dcterms:modified xsi:type="dcterms:W3CDTF">2008-02-23T12:32:55Z</dcterms:modified>
  <cp:revision>2</cp:revision>
  <dc:subject/>
  <dc:title>Manipuler un effet de trajectoire 3</dc:title>
</cp:coreProperties>
</file>