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EEB-438F-49A6-8246-01A6135B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F2F-79E8-47A5-9A53-D28C75E7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189-1A6F-486F-8B10-06ECF155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935-F77C-4BDC-83A6-4C95373C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680-4403-42AB-84B5-CE3AC6A5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DC4-9FB8-43F7-9576-117BC2D2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8B3-735F-492F-A326-E6F74254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FC1-D955-4803-98C0-A37EA6BF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83F-76C8-41B4-A786-663EA070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149-0E63-4F90-8144-68D6CCC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BF0-C372-40CC-A498-010DFE98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79F-0C0C-496F-A8E3-D9FEDC30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ECDF-5A17-4068-9D9F-5BB0FF148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995640"/>
            <a:ext cx="3975120" cy="2840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73480" y="21600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885960"/>
            <a:ext cx="2568600" cy="350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079960" y="2664000"/>
            <a:ext cx="547560" cy="598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059280" y="1100160"/>
            <a:ext cx="1850760" cy="1563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533600" y="216000"/>
            <a:ext cx="1797120" cy="245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09600" y="216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266840" y="541656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7305840" y="5040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05840" y="2087640"/>
            <a:ext cx="1796760" cy="245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443640" y="4005360"/>
            <a:ext cx="1033560" cy="141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012000" y="123840"/>
            <a:ext cx="769680" cy="105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7799400" y="216000"/>
            <a:ext cx="947880" cy="129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6873840" y="1509840"/>
            <a:ext cx="1851120" cy="156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179280" y="4005360"/>
            <a:ext cx="1851120" cy="156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234120" y="3406680"/>
            <a:ext cx="547560" cy="59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5073480" y="1100160"/>
            <a:ext cx="547920" cy="598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3330720" y="501480"/>
            <a:ext cx="547560" cy="59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2030400" y="4390920"/>
            <a:ext cx="547560" cy="59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36360" y="25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4713120" y="25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3490920" y="12621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2577960" y="21765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1230480" y="2347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4614840" y="4540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6781680" y="391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7"/>
          <a:stretch/>
        </p:blipFill>
        <p:spPr>
          <a:xfrm>
            <a:off x="2747880" y="37400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6:05:34Z</dcterms:created>
  <dc:creator>Tribouillier</dc:creator>
  <dc:description/>
  <dc:language>en-US</dc:language>
  <cp:lastModifiedBy>Tribouillier</cp:lastModifiedBy>
  <dcterms:modified xsi:type="dcterms:W3CDTF">2008-02-05T16:31:08Z</dcterms:modified>
  <cp:revision>3</cp:revision>
  <dc:subject/>
  <dc:title>Diapositive 1</dc:title>
</cp:coreProperties>
</file>