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DECD-5600-4B18-A5B0-89C92A25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570D-A57C-4B66-AA2D-0F08B55D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660E-E8CF-4D0E-808C-1E51B2AE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D2C7-4E43-4DDE-8F7E-4893B996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24DE-FBE1-4EB1-8705-CF3D9A1C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4560-BDA5-4C4D-AEA3-2DC8C6D2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0F13-B2A6-491C-982B-B206E437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F7C7-8032-47FB-A985-56224364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3888-5DAF-48A6-B371-4695C31E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6693-A986-4952-A835-0A401FB5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6CEB-BF01-462C-92D3-D9A75AE7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9103-2A0C-4DA2-8EE2-515C89A2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08CB-CAE2-4D88-8D00-47CDDDB09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3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995640"/>
            <a:ext cx="3975120" cy="28400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73480" y="216000"/>
            <a:ext cx="3384720" cy="3384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79280" y="885960"/>
            <a:ext cx="2568600" cy="3504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079960" y="2664000"/>
            <a:ext cx="547560" cy="598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059280" y="1100160"/>
            <a:ext cx="1850760" cy="1563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1533600" y="216000"/>
            <a:ext cx="1797120" cy="2452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09600" y="216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1266840" y="541656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7305840" y="504036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305840" y="2087640"/>
            <a:ext cx="1796760" cy="2452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6443640" y="4005360"/>
            <a:ext cx="1033560" cy="1411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6012000" y="123840"/>
            <a:ext cx="769680" cy="1050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7799400" y="216000"/>
            <a:ext cx="947880" cy="1293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6873840" y="1509840"/>
            <a:ext cx="1851120" cy="1563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179280" y="4005360"/>
            <a:ext cx="1851120" cy="1563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6234120" y="3406680"/>
            <a:ext cx="547560" cy="598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5073480" y="1100160"/>
            <a:ext cx="547920" cy="598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3330720" y="501480"/>
            <a:ext cx="547560" cy="59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2030400" y="4390920"/>
            <a:ext cx="547560" cy="598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0"/>
          <a:stretch/>
        </p:blipFill>
        <p:spPr>
          <a:xfrm>
            <a:off x="36360" y="2562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1"/>
          <a:stretch/>
        </p:blipFill>
        <p:spPr>
          <a:xfrm>
            <a:off x="4713120" y="2562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2"/>
          <a:stretch/>
        </p:blipFill>
        <p:spPr>
          <a:xfrm>
            <a:off x="3490920" y="12621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3"/>
          <a:stretch/>
        </p:blipFill>
        <p:spPr>
          <a:xfrm>
            <a:off x="2577960" y="21765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4"/>
          <a:stretch/>
        </p:blipFill>
        <p:spPr>
          <a:xfrm>
            <a:off x="1230480" y="2347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5"/>
          <a:stretch/>
        </p:blipFill>
        <p:spPr>
          <a:xfrm>
            <a:off x="4614840" y="4540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6"/>
          <a:stretch/>
        </p:blipFill>
        <p:spPr>
          <a:xfrm>
            <a:off x="6781680" y="3914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7"/>
          <a:stretch/>
        </p:blipFill>
        <p:spPr>
          <a:xfrm>
            <a:off x="2747880" y="37400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6:05:34Z</dcterms:created>
  <dc:creator>Tribouillier</dc:creator>
  <dc:description/>
  <dc:language>en-US</dc:language>
  <cp:lastModifiedBy>Tribouillier</cp:lastModifiedBy>
  <dcterms:modified xsi:type="dcterms:W3CDTF">2008-02-05T16:31:08Z</dcterms:modified>
  <cp:revision>3</cp:revision>
  <dc:subject/>
  <dc:title>Diapositive 1</dc:title>
</cp:coreProperties>
</file>