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616-4491-4257-B479-FFF9D0B7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DD5-C7AA-44CF-9F2D-22A09A1B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F8D-7FD4-4888-81DD-2370DB61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842-D733-4536-9AF0-38E3448A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281-7537-48DD-A84A-B640730A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C6D-56CC-41BB-9918-C4A15518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CD1-6B10-4C9B-A5FC-3BE00CC4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B50-00AE-44E5-A4A6-B52241FC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760-7650-4430-A155-C3AAF44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11D-AFE3-4F2E-B234-555C0D1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15A-ABB3-4D1A-AE60-2C85DE8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EF5-0603-408D-A942-C1918B3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7E6B-D4E7-4B13-8B2E-CDEDCE4DF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électionner ensemble plusieurs effets QUI SE SUI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992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 avec des objets : avec la touche « minuscules » en bas du clavier alphanum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8360" y="5697360"/>
            <a:ext cx="1079280" cy="863640"/>
            <a:chOff x="468360" y="5697360"/>
            <a:chExt cx="1079280" cy="863640"/>
          </a:xfrm>
        </p:grpSpPr>
        <p:sp>
          <p:nvSpPr>
            <p:cNvPr id="44" name=""/>
            <p:cNvSpPr/>
            <p:nvPr/>
          </p:nvSpPr>
          <p:spPr>
            <a:xfrm>
              <a:off x="468360" y="5697360"/>
              <a:ext cx="107928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9640" y="5734080"/>
              <a:ext cx="432000" cy="324000"/>
            </a:xfrm>
            <a:prstGeom prst="upArrow">
              <a:avLst>
                <a:gd name="adj1" fmla="val 50731"/>
                <a:gd name="adj2" fmla="val 5548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940360" y="5697360"/>
            <a:ext cx="2675160" cy="863640"/>
            <a:chOff x="5940360" y="5697360"/>
            <a:chExt cx="2675160" cy="863640"/>
          </a:xfrm>
        </p:grpSpPr>
        <p:sp>
          <p:nvSpPr>
            <p:cNvPr id="47" name=""/>
            <p:cNvSpPr/>
            <p:nvPr/>
          </p:nvSpPr>
          <p:spPr>
            <a:xfrm>
              <a:off x="5940360" y="5697360"/>
              <a:ext cx="267516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12000" y="5734080"/>
              <a:ext cx="431640" cy="324000"/>
            </a:xfrm>
            <a:prstGeom prst="upArrow">
              <a:avLst>
                <a:gd name="adj1" fmla="val 50731"/>
                <a:gd name="adj2" fmla="val 5548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H="1">
            <a:off x="1763280" y="5084640"/>
            <a:ext cx="360360" cy="289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8200" y="5084640"/>
            <a:ext cx="469800" cy="324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317840"/>
            <a:ext cx="180036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4317840"/>
            <a:ext cx="180000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c la touche « 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uscu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lique sur le premier effet dans le vole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ppuie sur la touche « Minuscules » et la laisse enfonc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lique sur le dernier effet de la li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s les effets compris entre le premier cliqué et le dernier cliqué seront sélectionn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électionner ensemble plusieurs effets qui NE se suivent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636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 avec des objets : avec la touche Ctrl (control) en bas du clavier alphanum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000" y="5554800"/>
            <a:ext cx="1439640" cy="1006200"/>
            <a:chOff x="108000" y="5554800"/>
            <a:chExt cx="1439640" cy="1006200"/>
          </a:xfrm>
        </p:grpSpPr>
        <p:sp>
          <p:nvSpPr>
            <p:cNvPr id="58" name=""/>
            <p:cNvSpPr/>
            <p:nvPr/>
          </p:nvSpPr>
          <p:spPr>
            <a:xfrm>
              <a:off x="468360" y="5697360"/>
              <a:ext cx="107928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8000" y="5554800"/>
              <a:ext cx="11523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236000" y="5554800"/>
            <a:ext cx="1439280" cy="1006200"/>
            <a:chOff x="7236000" y="5554800"/>
            <a:chExt cx="1439280" cy="1006200"/>
          </a:xfrm>
        </p:grpSpPr>
        <p:sp>
          <p:nvSpPr>
            <p:cNvPr id="61" name=""/>
            <p:cNvSpPr/>
            <p:nvPr/>
          </p:nvSpPr>
          <p:spPr>
            <a:xfrm>
              <a:off x="7596000" y="5697360"/>
              <a:ext cx="1079280" cy="86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6000" y="5554800"/>
              <a:ext cx="11523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1763280" y="5084640"/>
            <a:ext cx="360360" cy="289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38200" y="5084640"/>
            <a:ext cx="469800" cy="324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317840"/>
            <a:ext cx="180036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4317840"/>
            <a:ext cx="1800000" cy="766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À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c la touc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électionne un premier eff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ppuie sur Ctrl au moment on l’on veut ajouter un autre effet à sa sé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eut sélectionner plusieurs effets à la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ntage d’une sélection d’effe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eut agir sur leurs paramètres tous en même tem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tte fin, un seul déroulant se matérialise pour tous les eff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08720" y="2349360"/>
            <a:ext cx="142920" cy="201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720" y="3646440"/>
            <a:ext cx="358920" cy="358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13:18Z</dcterms:created>
  <dc:creator>Tribouillier</dc:creator>
  <dc:description/>
  <dc:language>en-US</dc:language>
  <cp:lastModifiedBy>Tribouillier</cp:lastModifiedBy>
  <dcterms:modified xsi:type="dcterms:W3CDTF">2008-02-05T18:04:15Z</dcterms:modified>
  <cp:revision>2</cp:revision>
  <dc:subject/>
  <dc:title>minuscules et Ctrl</dc:title>
</cp:coreProperties>
</file>