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0442-9A06-4809-89DF-B37940C72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A360-12D3-442A-83DD-F1073E73C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C1C1-5698-4D0E-BAD0-0BC094A94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A52E-3903-4B33-BBDA-A8689670F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E032-1393-4F0E-B527-AB14A22B9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7693-F33B-4C61-850B-6FB0B9A52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812D-A46E-4756-92A9-276CD1BD6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1728-BFFB-49C6-B8D8-D1839A7D3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2D4E-B384-4298-9AF9-1C8B3778D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1E89-417A-4855-841E-6C00DFE9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BE9A-BB10-4784-881B-207CDE5B9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7A73-1C35-415D-B315-8EE0C3CC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789E7-88A7-46B3-81C9-481894796D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602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électionner ensemble plusieurs effets QUI SE SUIV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9920" y="2491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 avec des objets : avec la touche « minuscules » en bas du clavier alphanumér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468360" y="5697360"/>
            <a:ext cx="1079280" cy="863640"/>
            <a:chOff x="468360" y="5697360"/>
            <a:chExt cx="1079280" cy="863640"/>
          </a:xfrm>
        </p:grpSpPr>
        <p:sp>
          <p:nvSpPr>
            <p:cNvPr id="44" name=""/>
            <p:cNvSpPr/>
            <p:nvPr/>
          </p:nvSpPr>
          <p:spPr>
            <a:xfrm>
              <a:off x="468360" y="5697360"/>
              <a:ext cx="1079280" cy="8636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39640" y="5734080"/>
              <a:ext cx="432000" cy="324000"/>
            </a:xfrm>
            <a:prstGeom prst="upArrow">
              <a:avLst>
                <a:gd name="adj1" fmla="val 50731"/>
                <a:gd name="adj2" fmla="val 55486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940360" y="5697360"/>
            <a:ext cx="2675160" cy="863640"/>
            <a:chOff x="5940360" y="5697360"/>
            <a:chExt cx="2675160" cy="863640"/>
          </a:xfrm>
        </p:grpSpPr>
        <p:sp>
          <p:nvSpPr>
            <p:cNvPr id="47" name=""/>
            <p:cNvSpPr/>
            <p:nvPr/>
          </p:nvSpPr>
          <p:spPr>
            <a:xfrm>
              <a:off x="5940360" y="5697360"/>
              <a:ext cx="2675160" cy="8636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012000" y="5734080"/>
              <a:ext cx="431640" cy="324000"/>
            </a:xfrm>
            <a:prstGeom prst="upArrow">
              <a:avLst>
                <a:gd name="adj1" fmla="val 50731"/>
                <a:gd name="adj2" fmla="val 55486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H="1">
            <a:off x="1763280" y="5084640"/>
            <a:ext cx="360360" cy="28908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38200" y="5084640"/>
            <a:ext cx="469800" cy="3240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63640" y="4317840"/>
            <a:ext cx="1800360" cy="7668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À gau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508720" y="4317840"/>
            <a:ext cx="1800000" cy="7668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À dro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vec la touche « 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inuscul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 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clique sur le premier effet dans le volet off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appuie sur la touche « Minuscules » et la laisse enfoncé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clique sur le dernier effet de la lis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us les effets compris entre le premier cliqué et le dernier cliqué seront sélectionné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602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électionner ensemble plusieurs effets qui NE se suivent P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476360" y="2276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 avec des objets : avec la touche Ctrl (control) en bas du clavier alphanumér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08000" y="5554800"/>
            <a:ext cx="1439640" cy="1006200"/>
            <a:chOff x="108000" y="5554800"/>
            <a:chExt cx="1439640" cy="1006200"/>
          </a:xfrm>
        </p:grpSpPr>
        <p:sp>
          <p:nvSpPr>
            <p:cNvPr id="58" name=""/>
            <p:cNvSpPr/>
            <p:nvPr/>
          </p:nvSpPr>
          <p:spPr>
            <a:xfrm>
              <a:off x="468360" y="5697360"/>
              <a:ext cx="1079280" cy="8636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8000" y="5554800"/>
              <a:ext cx="1152360" cy="61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tr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7236000" y="5554800"/>
            <a:ext cx="1439280" cy="1006200"/>
            <a:chOff x="7236000" y="5554800"/>
            <a:chExt cx="1439280" cy="1006200"/>
          </a:xfrm>
        </p:grpSpPr>
        <p:sp>
          <p:nvSpPr>
            <p:cNvPr id="61" name=""/>
            <p:cNvSpPr/>
            <p:nvPr/>
          </p:nvSpPr>
          <p:spPr>
            <a:xfrm>
              <a:off x="7596000" y="5697360"/>
              <a:ext cx="1079280" cy="8636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236000" y="5554800"/>
              <a:ext cx="1152360" cy="61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tr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 flipH="1">
            <a:off x="1763280" y="5084640"/>
            <a:ext cx="360360" cy="28908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38200" y="5084640"/>
            <a:ext cx="469800" cy="3240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63640" y="4317840"/>
            <a:ext cx="1800360" cy="7668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À gau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4317840"/>
            <a:ext cx="1800000" cy="7668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À dro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vec la touche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n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sélectionne un premier eff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appuie sur Ctrl au moment on l’on veut ajouter un autre effet à sa sé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peut sélectionner plusieurs effets à la su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vantage d’une sélection d’effet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peut agir sur leurs paramètres tous en même temp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ette fin, un seul déroulant se matérialise pour tous les effe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rcRect l="21578" t="0" r="0" b="5879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508720" y="2349360"/>
            <a:ext cx="142920" cy="2016360"/>
          </a:xfrm>
          <a:custGeom>
            <a:avLst/>
            <a:gdLst>
              <a:gd name="textAreaLeft" fmla="*/ 91440 w 142920"/>
              <a:gd name="textAreaRight" fmla="*/ 143280 w 142920"/>
              <a:gd name="textAreaTop" fmla="*/ 52560 h 2016360"/>
              <a:gd name="textAreaBottom" fmla="*/ 1963800 h 20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748720" y="3646440"/>
            <a:ext cx="358920" cy="35892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5T17:13:18Z</dcterms:created>
  <dc:creator>Tribouillier</dc:creator>
  <dc:description/>
  <dc:language>en-US</dc:language>
  <cp:lastModifiedBy>Tribouillier</cp:lastModifiedBy>
  <dcterms:modified xsi:type="dcterms:W3CDTF">2008-02-05T18:04:15Z</dcterms:modified>
  <cp:revision>2</cp:revision>
  <dc:subject/>
  <dc:title>minuscules et Ctrl</dc:title>
</cp:coreProperties>
</file>