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4E0-0FE6-47AC-8DFF-ABAD2BC5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C9E-02EA-4A91-AFD1-53D3CAF8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276-D858-40B5-A8E0-F069A18E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D72-04BB-48DF-A06B-AC0F4A90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B2F-B96E-4FCA-B1C2-70ECBCE9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3EB-A13B-4B7E-B832-0FAC69C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7D6-DC2C-4CEB-99A3-523F634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64E-6FB6-47A7-9846-F25A629F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275-E4E4-4846-B286-E0D4036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341-D72F-436D-B5FB-C9A08AC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9D1-5DCF-445A-B833-A06BFE5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EC0-BA83-4457-A001-B95974D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6584-FB06-479D-825B-1EAD69797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briquer un coucher d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5280" y="291132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213372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141300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70632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80" y="70632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141300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87640" y="213372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87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e dis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</p:spTree>
  </p:cSld>
  <p:transition advTm="12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d’ouve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objet qui a un effet d’ouverture existe dans la diapositive en diaporama dès son effet se prod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ès lors tout ce qui se passera derrière l’objet ne sera pas vu à l’éc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57360"/>
            <a:ext cx="777240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 des effets d’ouve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85555 L 0 -2.22222E-006 E">
                                      <p:cBhvr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08360" y="287964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21906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00360" y="14130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3640" y="7650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32000" y="21906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0360" y="141300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7650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'ap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  <p:sp>
        <p:nvSpPr>
          <p:cNvPr id="107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15556 0.13843 E">
                                      <p:cBhvr>
                                        <p:cTn id="12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5313 0.04398 E">
                                      <p:cBhvr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-0.05313 -0.06944 E">
                                      <p:cBhvr>
                                        <p:cTn id="13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15556 -0.16991 E">
                                      <p:cBhvr>
                                        <p:cTn id="13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08360" y="287964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19060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00360" y="1413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3640" y="765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32000" y="21906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60360" y="141300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'ap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119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</p:spTree>
  </p:cSld>
  <p:transition advTm="12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d’ouve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est toujours plus simple de travailler dans l’ordre chronolog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plus, en travaillant avec des effets d’ouverture, le rectangle en arrière-plan est le dégradé le plus clair. Si on lui applique un effet d’ouverture et que le fond de la présentation est clair, cela crée un l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donc l’option que j’ai reten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08360" y="287964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19060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00360" y="1413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3640" y="765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32000" y="21906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0360" y="141300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765000"/>
            <a:ext cx="539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'ap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133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135" name=""/>
          <p:cNvSpPr/>
          <p:nvPr/>
        </p:nvSpPr>
        <p:spPr>
          <a:xfrm>
            <a:off x="3149640" y="283860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93064E-006 L 0.14775 0.13826 E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32948E-006 L 0.04532 0.04393 E">
                                      <p:cBhvr>
                                        <p:cTn id="16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87283E-006 L -0.06093 -0.06937 E">
                                      <p:cBhvr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4798E-006 L -0.16337 -0.16971 E">
                                      <p:cBhvr>
                                        <p:cTn id="16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égradé les couleurs de remplissage du premier rectangle du rose et à l’orange par « motifs et textures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6920" y="3213000"/>
            <a:ext cx="457056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2266920" y="3212640"/>
            <a:ext cx="4570560" cy="3429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006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: quand on copie un objet auquel est attaché un effet, son effet aussi est copié. Ce qui signifie que l’objet copié a lui aussi un effet attaché, que c’est le même effet que celui de l’objet original et il est paramétré de la même faç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nc appliqué l’effet d’ouverture « estomper » avant de copier le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997440" y="-4995720"/>
            <a:ext cx="5689800" cy="566100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C 0.02378 0.00255 0.09288 -0.00185 0.14288 0.01574 C 0.19323 0.03333 0.2493 0.06458 0.30052 0.10579 C 0.35174 0.14699 0.41094 0.20255 0.45052 0.2625 C 0.4901 0.32245 0.51545 0.38079 0.53802 0.46574 C 0.56059 0.55069 0.57014 0.63079 0.58559 0.77245 C 0.60104 0.91389 0.62118 1.20255 0.63055 1.31574 E">
                                      <p:cBhvr>
                                        <p:cTn id="6" dur="8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4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" dur="7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é, collé, replacé, j’ai choisi les couleurs de chaque rectangle pour créer l’illusion que les couleurs desc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3068640"/>
            <a:ext cx="4570560" cy="3429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2700360" y="3428640"/>
            <a:ext cx="4570560" cy="3429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006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022E-016 L -0.02934 -0.05046 E">
                                      <p:cBhvr>
                                        <p:cTn id="20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36360" y="5145120"/>
            <a:ext cx="2286000" cy="171432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36360" y="3430440"/>
            <a:ext cx="2286000" cy="17146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6360" y="1716120"/>
            <a:ext cx="2286000" cy="171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6360" y="1440"/>
            <a:ext cx="2286000" cy="1714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56536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609444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2602080"/>
            <a:ext cx="201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609444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leurs du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53726 L 0 -4.07407E-006 E">
                                      <p:cBhvr>
                                        <p:cTn id="21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34757 -0.73217 E">
                                      <p:cBhvr>
                                        <p:cTn id="21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68611 -0.48217 E">
                                      <p:cBhvr>
                                        <p:cTn id="21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34757 0.29283 E">
                                      <p:cBhvr>
                                        <p:cTn id="22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68611 0.54283 E">
                                      <p:cBhvr>
                                        <p:cTn id="22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249228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oul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6560" y="33336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ul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249228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ul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33336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Couleu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560" y="595008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Couleu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6560" y="3789360"/>
            <a:ext cx="3529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uleu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602280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uleu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3860640"/>
            <a:ext cx="352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eu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1654560" y="-64080"/>
            <a:ext cx="1152720" cy="3529080"/>
          </a:xfrm>
          <a:custGeom>
            <a:avLst/>
            <a:gdLst>
              <a:gd name="textAreaLeft" fmla="*/ 180000 w 1152720"/>
              <a:gd name="textAreaRight" fmla="*/ 924480 w 115272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6264720" y="-64080"/>
            <a:ext cx="1152720" cy="3529080"/>
          </a:xfrm>
          <a:custGeom>
            <a:avLst/>
            <a:gdLst>
              <a:gd name="textAreaLeft" fmla="*/ 180000 w 1152720"/>
              <a:gd name="textAreaRight" fmla="*/ 924480 w 115272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727640" y="3393000"/>
            <a:ext cx="1152720" cy="3529080"/>
          </a:xfrm>
          <a:custGeom>
            <a:avLst/>
            <a:gdLst>
              <a:gd name="textAreaLeft" fmla="*/ 180000 w 1152720"/>
              <a:gd name="textAreaRight" fmla="*/ 924480 w 115272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6265080" y="3464280"/>
            <a:ext cx="1152360" cy="3529080"/>
          </a:xfrm>
          <a:custGeom>
            <a:avLst/>
            <a:gdLst>
              <a:gd name="textAreaLeft" fmla="*/ 180000 w 1152360"/>
              <a:gd name="textAreaRight" fmla="*/ 924120 w 1152360"/>
              <a:gd name="textAreaTop" fmla="*/ 788400 h 3529080"/>
              <a:gd name="textAreaBottom" fmla="*/ 2740680 h 3529080"/>
            </a:gdLst>
            <a:ahLst/>
            <a:rect l="textAreaLeft" t="textAreaTop" r="textAreaRight" b="textAreaBottom"/>
            <a:pathLst>
              <a:path w="21600" h="21600">
                <a:moveTo>
                  <a:pt x="3375" y="4826"/>
                </a:moveTo>
                <a:lnTo>
                  <a:pt x="13864" y="4826"/>
                </a:lnTo>
                <a:lnTo>
                  <a:pt x="13864" y="0"/>
                </a:lnTo>
                <a:lnTo>
                  <a:pt x="21600" y="10800"/>
                </a:lnTo>
                <a:lnTo>
                  <a:pt x="13864" y="21600"/>
                </a:lnTo>
                <a:lnTo>
                  <a:pt x="13864" y="16774"/>
                </a:lnTo>
                <a:lnTo>
                  <a:pt x="3375" y="16774"/>
                </a:lnTo>
                <a:close/>
              </a:path>
              <a:path w="21600" h="21600">
                <a:moveTo>
                  <a:pt x="0" y="4826"/>
                </a:moveTo>
                <a:lnTo>
                  <a:pt x="675" y="4826"/>
                </a:lnTo>
                <a:lnTo>
                  <a:pt x="675" y="16774"/>
                </a:lnTo>
                <a:lnTo>
                  <a:pt x="0" y="16774"/>
                </a:lnTo>
                <a:close/>
              </a:path>
              <a:path w="21600" h="21600">
                <a:moveTo>
                  <a:pt x="1350" y="4826"/>
                </a:moveTo>
                <a:lnTo>
                  <a:pt x="2700" y="4826"/>
                </a:lnTo>
                <a:lnTo>
                  <a:pt x="2700" y="16774"/>
                </a:lnTo>
                <a:lnTo>
                  <a:pt x="1350" y="167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gradé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 volet Office, j’ai sélectionné les trois derniers effets, et je les ai fait débutés avec la précé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affiché la chronologie avanc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mps de l’effet « estomper » dure 2 secondes par défaut. Le temps de passage de chacun des rectangles est donc de 2 secon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laissé 2 secondes avant de commencer les estompes successives de manière à voir le soleil sur le fond de la diapositive. Ce qui donne 5 fonds fois 2 secondes : le temps de passage de la diapo est donc de 10 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stompes successives ont été paramétrées de la manière suiva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229600" cy="4268880"/>
        </p:xfrm>
        <a:graphic>
          <a:graphicData uri="http://schemas.openxmlformats.org/drawingml/2006/table">
            <a:tbl>
              <a:tblPr/>
              <a:tblGrid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560"/>
                <a:gridCol w="357480"/>
                <a:gridCol w="35712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173240" y="6350040"/>
            <a:ext cx="715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30360" y="6021360"/>
            <a:ext cx="6440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de passage de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000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2968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4268880"/>
        </p:xfrm>
        <a:graphic>
          <a:graphicData uri="http://schemas.openxmlformats.org/drawingml/2006/table">
            <a:tbl>
              <a:tblPr/>
              <a:tblGrid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560"/>
                <a:gridCol w="357480"/>
                <a:gridCol w="35712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0" y="11304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le début de chaque effet par rapport à 0 dans l’Onglet « minutage » de l’ef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85840" y="2438280"/>
            <a:ext cx="1417680" cy="360360"/>
            <a:chOff x="1185840" y="2438280"/>
            <a:chExt cx="1417680" cy="360360"/>
          </a:xfrm>
        </p:grpSpPr>
        <p:sp>
          <p:nvSpPr>
            <p:cNvPr id="200" name=""/>
            <p:cNvSpPr/>
            <p:nvPr/>
          </p:nvSpPr>
          <p:spPr>
            <a:xfrm>
              <a:off x="1186200" y="2619360"/>
              <a:ext cx="14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5840" y="2438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03520" y="2438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70000" y="2330280"/>
            <a:ext cx="1430280" cy="57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70000" y="3338640"/>
            <a:ext cx="2865600" cy="360360"/>
            <a:chOff x="1170000" y="3338640"/>
            <a:chExt cx="2865600" cy="360360"/>
          </a:xfrm>
        </p:grpSpPr>
        <p:sp>
          <p:nvSpPr>
            <p:cNvPr id="205" name=""/>
            <p:cNvSpPr/>
            <p:nvPr/>
          </p:nvSpPr>
          <p:spPr>
            <a:xfrm>
              <a:off x="1171080" y="3519720"/>
              <a:ext cx="28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70000" y="33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5600" y="33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173240" y="4238640"/>
            <a:ext cx="4309920" cy="360360"/>
            <a:chOff x="1173240" y="4238640"/>
            <a:chExt cx="4309920" cy="360360"/>
          </a:xfrm>
        </p:grpSpPr>
        <p:sp>
          <p:nvSpPr>
            <p:cNvPr id="209" name=""/>
            <p:cNvSpPr/>
            <p:nvPr/>
          </p:nvSpPr>
          <p:spPr>
            <a:xfrm>
              <a:off x="1175040" y="4419720"/>
              <a:ext cx="430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3240" y="42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3160" y="423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70000" y="5094360"/>
            <a:ext cx="5722920" cy="360360"/>
            <a:chOff x="1170000" y="5094360"/>
            <a:chExt cx="5722920" cy="360360"/>
          </a:xfrm>
        </p:grpSpPr>
        <p:sp>
          <p:nvSpPr>
            <p:cNvPr id="213" name=""/>
            <p:cNvSpPr/>
            <p:nvPr/>
          </p:nvSpPr>
          <p:spPr>
            <a:xfrm>
              <a:off x="1172520" y="5275440"/>
              <a:ext cx="57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70000" y="5094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92920" y="5094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177920" y="3228840"/>
            <a:ext cx="2857680" cy="57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4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77920" y="4108320"/>
            <a:ext cx="4287960" cy="57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6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70000" y="4989600"/>
            <a:ext cx="5727600" cy="57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lai : 8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2349360"/>
            <a:ext cx="712800" cy="5781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6280" y="3211560"/>
            <a:ext cx="712800" cy="57780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4200" y="4103640"/>
            <a:ext cx="712800" cy="577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4200" y="4989600"/>
            <a:ext cx="712800" cy="577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360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2712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920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8948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21560" y="1600200"/>
            <a:ext cx="35244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4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une forme automatique (rubrique forme de b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essiné sa trajectoire avec « tracer une trajectoire personnalisée / courbe », mais en appliquant une trajectoire arquée vers la droite et en l’adaptant c’est possible aus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rajectoire arrive jusqu’au bord inférieur de la dia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-3855960"/>
            <a:ext cx="3672000" cy="38559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2544 C 0.02378 0.02798 0.09288 0.02358 0.14288 0.04116 C 0.19322 0.05874 0.2493 0.08996 0.30052 0.13112 C 0.35173 0.17252 0.41093 0.22803 0.45052 0.28792 C 0.4901 0.34782 0.51545 0.40633 0.53802 0.49121 C 0.56059 0.57608 0.57013 0.65633 0.58559 0.79787 C 0.60104 0.9394 0.62118 1.22803 0.63055 1.34111 E">
                                      <p:cBhvr>
                                        <p:cTn id="462" dur="78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autres effets sont ajoutés pour accentuer le coucher de solei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’em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 assombrir » 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 ferme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 barres aléatoires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t paramétrés pour débuter « avec la précédente », afin que tous les effets de la diapositive se déroulent lors d’une seule et mêm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0"/>
            <a:ext cx="2087640" cy="2076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mph" presetID="24">
                                  <p:stCondLst>
                                    <p:cond delay="900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7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4" presetSubtype="10">
                                  <p:stCondLst>
                                    <p:cond delay="1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rière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 droit sur la diapositive vierge, puis sur « arrière-plan », choisir une couleur parmi l’échantillonnage ou parmi les « autres couleurs », appliq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rajectoire est paramétrée pour durer 8s et commence l’animation de la dia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’emphase « assombrir » commence à 2s et finit à 9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ffet de fermeture « barres aléatoires » débute à 7s et finit à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0"/>
            <a:ext cx="2087640" cy="2076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mph" presetID="24">
                                  <p:stCondLst>
                                    <p:cond delay="9000"/>
                                  </p:stCondLst>
                                  <p:childTnLst>
                                    <p:animClr clrSpc="hsl" dir="cw">
                                      <p:cBhvr>
                                        <p:cTn id="480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1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2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83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4" presetSubtype="10">
                                  <p:stCondLst>
                                    <p:cond delay="1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l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600200"/>
          <a:ext cx="8229600" cy="3178080"/>
        </p:xfrm>
        <a:graphic>
          <a:graphicData uri="http://schemas.openxmlformats.org/drawingml/2006/table">
            <a:tbl>
              <a:tblPr/>
              <a:tblGrid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560"/>
                <a:gridCol w="357480"/>
                <a:gridCol w="35712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173240" y="6350040"/>
            <a:ext cx="715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30360" y="6021360"/>
            <a:ext cx="6440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de passage de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7000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29680" y="616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971640" y="177840"/>
            <a:ext cx="43164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9720" y="1844640"/>
            <a:ext cx="7425000" cy="49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commence sa cour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 ci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encore le fond de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posi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2340000" y="177840"/>
            <a:ext cx="50940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2654280"/>
            <a:ext cx="4697640" cy="39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commence 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assombrir au fur 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mesure que la lumiè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isse, c’est-à-d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s rectang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cent le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t success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’estom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3905280" y="177840"/>
            <a:ext cx="4771800" cy="6572160"/>
            <a:chOff x="3905280" y="177840"/>
            <a:chExt cx="4771800" cy="6572160"/>
          </a:xfrm>
        </p:grpSpPr>
        <p:sp>
          <p:nvSpPr>
            <p:cNvPr id="252" name=""/>
            <p:cNvSpPr/>
            <p:nvPr/>
          </p:nvSpPr>
          <p:spPr>
            <a:xfrm>
              <a:off x="3905280" y="177840"/>
              <a:ext cx="1733400" cy="657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38840" y="274680"/>
              <a:ext cx="2838240" cy="647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 deuxième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ectangle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’estompe, 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uivi du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roisièm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732720" y="115920"/>
            <a:ext cx="360360" cy="644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01760" y="225360"/>
            <a:ext cx="4532400" cy="647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mpo s’accélè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passe de 2s à 1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51640" y="115920"/>
            <a:ext cx="360360" cy="64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115920"/>
            <a:ext cx="360360" cy="324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940360" y="177840"/>
            <a:ext cx="53820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01760" y="2654280"/>
            <a:ext cx="4349880" cy="40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comm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disparaître 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es aléato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ant que 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isième rectang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estom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6621480" y="177840"/>
            <a:ext cx="54288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01760" y="3463920"/>
            <a:ext cx="5070600" cy="32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arrête sa cour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rs que le derni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, le plus somb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ce à s’estom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7345440" y="177840"/>
            <a:ext cx="53964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01760" y="3463920"/>
            <a:ext cx="5791320" cy="32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leil finit de disparaî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barres aléato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es, en même tem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il s’arrête de s’assomb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466560" y="285840"/>
          <a:ext cx="8229600" cy="6383160"/>
        </p:xfrm>
        <a:graphic>
          <a:graphicData uri="http://schemas.openxmlformats.org/drawingml/2006/table">
            <a:tbl>
              <a:tblPr/>
              <a:tblGrid>
                <a:gridCol w="357120"/>
                <a:gridCol w="358560"/>
                <a:gridCol w="357480"/>
                <a:gridCol w="358560"/>
                <a:gridCol w="357120"/>
                <a:gridCol w="357480"/>
                <a:gridCol w="358560"/>
                <a:gridCol w="357120"/>
                <a:gridCol w="358920"/>
                <a:gridCol w="3571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  <a:gridCol w="357120"/>
                <a:gridCol w="358920"/>
                <a:gridCol w="357120"/>
                <a:gridCol w="358920"/>
                <a:gridCol w="357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jectoire 8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ombrir 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 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cc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2a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8064360" y="177840"/>
            <a:ext cx="540000" cy="6572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39720" y="4254480"/>
            <a:ext cx="4889520" cy="24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nimation de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positive s’achève a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n de l’eff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le rectangle bleu-n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3997440" y="-4995720"/>
            <a:ext cx="5689800" cy="566100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C 0.02378 0.00255 0.09288 -0.00185 0.14288 0.01574 C 0.19323 0.03333 0.2493 0.06458 0.30052 0.10579 C 0.35174 0.14699 0.41094 0.20255 0.45052 0.2625 C 0.4901 0.32245 0.51545 0.38079 0.53802 0.46574 C 0.56059 0.55069 0.57014 0.63079 0.58559 0.77245 C 0.60104 0.91389 0.62118 1.20255 0.63055 1.31574 E">
                                      <p:cBhvr>
                                        <p:cTn id="504" dur="8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4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506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7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8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9" dur="7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1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fait le coucher de soleil sur une seule diapositive : un soleil qui se couche sur plusieurs fonds successifs, 4 rectangles de la grandeur de la dia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6920" y="3384720"/>
            <a:ext cx="457056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dégradés du ciel se partagent sur ces 4 rectangles et sont fondus les uns aux autres par l’effet d’estom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options se sont offertes à moi : faire apparaître ou disparaître progressivement les rectangles. Leur disposition en dépend, de travailler en premier sur le dégradé le plus foncé ou le plus clair en dépend égal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de ferme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objet, qui a un effet de fermeture, disparaît dans la diapositive en diaporama dès que son effet se prod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ès lors invisible, tout ce qui est derrière l’objet sera vu à l’éc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557360"/>
            <a:ext cx="777240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 des effets de fermetur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85555 L 0 -2.22222E-006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35280" y="2911320"/>
            <a:ext cx="4572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13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4130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7063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706320"/>
            <a:ext cx="5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79640" y="141300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87640" y="2133720"/>
            <a:ext cx="5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633800">
            <a:off x="6372360" y="1457280"/>
            <a:ext cx="199044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ingdings 3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ingdings 3"/>
              <a:ea typeface="Wingdings 3"/>
            </a:endParaRPr>
          </a:p>
        </p:txBody>
      </p:sp>
      <p:sp>
        <p:nvSpPr>
          <p:cNvPr id="76" name=""/>
          <p:cNvSpPr txBox="1"/>
          <p:nvPr/>
        </p:nvSpPr>
        <p:spPr>
          <a:xfrm rot="1950000">
            <a:off x="377640" y="521496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ens de dispos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 rot="1633800">
            <a:off x="791640" y="5907240"/>
            <a:ext cx="19908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Wingdings 3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Wingdings 3"/>
              <a:ea typeface="Wingdings 3"/>
            </a:endParaRPr>
          </a:p>
        </p:txBody>
      </p:sp>
      <p:sp>
        <p:nvSpPr>
          <p:cNvPr id="78" name=""/>
          <p:cNvSpPr txBox="1"/>
          <p:nvPr/>
        </p:nvSpPr>
        <p:spPr>
          <a:xfrm rot="1950000">
            <a:off x="5957640" y="765000"/>
            <a:ext cx="27716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 de dispa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5607E-006 L 0.18316 0.14682 E">
                                      <p:cBhvr>
                                        <p:cTn id="7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32948E-006 L 0.07292 0.04393 E">
                                      <p:cBhvr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2775E-006 L -0.03733 -0.06104 E">
                                      <p:cBhvr>
                                        <p:cTn id="8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-0.14757 -0.17434 E">
                                      <p:cBhvr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12:15Z</dcterms:created>
  <dc:creator>Tribouillier</dc:creator>
  <dc:description/>
  <dc:language>en-US</dc:language>
  <cp:lastModifiedBy>Tribouillier</cp:lastModifiedBy>
  <dcterms:modified xsi:type="dcterms:W3CDTF">2008-03-01T14:12:15Z</dcterms:modified>
  <cp:revision>25</cp:revision>
  <dc:subject/>
  <dc:title>Coucher de soleil</dc:title>
</cp:coreProperties>
</file>