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463B-E71E-43DD-A677-2A1DD5B0B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4A9F-499C-47AE-B0EA-8B5FAD98E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774B-C688-4563-83EC-FCC05967A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E882-7931-4776-BE6C-39036C7F3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B2D7-B552-4530-A051-A59EFB45B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309A-5C34-4E22-AAE6-EFF308837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7082-FBAE-436A-BA06-BDA3AAD80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5813-0FDC-4FDA-8801-D4EDB882F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32A1-FA8A-4532-8C90-F92BD35A2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4D1F-7FD4-4728-8D70-282D57458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074E-0443-41F4-AB77-ED5507636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1E50-8FF0-4A68-B4C7-975708779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903FA-70D1-4E71-A162-59E0C7C593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briquer un coucher de sole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635280" y="2911320"/>
            <a:ext cx="4572000" cy="3429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627280" y="2133720"/>
            <a:ext cx="4572000" cy="3429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800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619280" y="1413000"/>
            <a:ext cx="4572000" cy="3429000"/>
          </a:xfrm>
          <a:prstGeom prst="rect">
            <a:avLst/>
          </a:prstGeom>
          <a:gradFill rotWithShape="0">
            <a:gsLst>
              <a:gs pos="0">
                <a:srgbClr val="800080"/>
              </a:gs>
              <a:gs pos="100000">
                <a:srgbClr val="cc00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11280" y="706320"/>
            <a:ext cx="4572000" cy="3429000"/>
          </a:xfrm>
          <a:prstGeom prst="rect">
            <a:avLst/>
          </a:prstGeom>
          <a:gradFill rotWithShape="0">
            <a:gsLst>
              <a:gs pos="0">
                <a:srgbClr val="cc0066"/>
              </a:gs>
              <a:gs pos="100000">
                <a:srgbClr val="cc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280" y="706320"/>
            <a:ext cx="54000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079640" y="1413000"/>
            <a:ext cx="53964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087640" y="2133720"/>
            <a:ext cx="53964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 rot="1633800">
            <a:off x="6372360" y="1457280"/>
            <a:ext cx="1990440" cy="60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Right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Wingdings 3"/>
              </a:rPr>
              <a:t>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Wingdings 3"/>
              <a:ea typeface="Wingdings 3"/>
            </a:endParaRPr>
          </a:p>
        </p:txBody>
      </p:sp>
      <p:sp>
        <p:nvSpPr>
          <p:cNvPr id="87" name=""/>
          <p:cNvSpPr txBox="1"/>
          <p:nvPr/>
        </p:nvSpPr>
        <p:spPr>
          <a:xfrm rot="1950000">
            <a:off x="5957640" y="765000"/>
            <a:ext cx="2771640" cy="80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Right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sens de disparit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88" name=""/>
          <p:cNvSpPr txBox="1"/>
          <p:nvPr/>
        </p:nvSpPr>
        <p:spPr>
          <a:xfrm rot="1950000">
            <a:off x="377640" y="5214960"/>
            <a:ext cx="2771640" cy="80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Right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sens de disposit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89" name=""/>
          <p:cNvSpPr txBox="1"/>
          <p:nvPr/>
        </p:nvSpPr>
        <p:spPr>
          <a:xfrm rot="1633800">
            <a:off x="791640" y="5907240"/>
            <a:ext cx="1990800" cy="60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Right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Wingdings 3"/>
              </a:rPr>
              <a:t>^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Wingdings 3"/>
              <a:ea typeface="Wingdings 3"/>
            </a:endParaRPr>
          </a:p>
        </p:txBody>
      </p:sp>
    </p:spTree>
  </p:cSld>
  <p:transition advTm="12000">
    <p:fade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ffets d’ouver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 objet qui a un effet d’ouverture existe dans la diapositive en diaporama dès son effet se produ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ès lors tout ce qui se passera derrière l’objet ne sera pas vu à l’écr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gradFill rotWithShape="0">
            <a:gsLst>
              <a:gs pos="0">
                <a:srgbClr val="cc0066"/>
              </a:gs>
              <a:gs pos="100000">
                <a:srgbClr val="cc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gradFill rotWithShape="0">
            <a:gsLst>
              <a:gs pos="0">
                <a:srgbClr val="800080"/>
              </a:gs>
              <a:gs pos="100000">
                <a:srgbClr val="cc00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800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85800" y="1557360"/>
            <a:ext cx="7772400" cy="36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 des effets d’ouver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path" presetID="42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0 -0.85555 L 0 -2.22222E-006 E">
                                      <p:cBhvr>
                                        <p:cTn id="108" dur="2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708360" y="2879640"/>
            <a:ext cx="4572000" cy="3429000"/>
          </a:xfrm>
          <a:prstGeom prst="rect">
            <a:avLst/>
          </a:prstGeom>
          <a:gradFill rotWithShape="0">
            <a:gsLst>
              <a:gs pos="0">
                <a:srgbClr val="cc0066"/>
              </a:gs>
              <a:gs pos="100000">
                <a:srgbClr val="cc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771640" y="21906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800360" y="14130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63640" y="7650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232000" y="2190600"/>
            <a:ext cx="539640" cy="64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260360" y="1413000"/>
            <a:ext cx="54000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765000"/>
            <a:ext cx="539640" cy="64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 rot="1950000">
            <a:off x="5957640" y="765000"/>
            <a:ext cx="2771640" cy="80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Right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sens d'apparit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06" name=""/>
          <p:cNvSpPr txBox="1"/>
          <p:nvPr/>
        </p:nvSpPr>
        <p:spPr>
          <a:xfrm rot="1633800">
            <a:off x="6372360" y="1457280"/>
            <a:ext cx="1990440" cy="60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Right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Wingdings 3"/>
              </a:rPr>
              <a:t>^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Wingdings 3"/>
              <a:ea typeface="Wingdings 3"/>
            </a:endParaRPr>
          </a:p>
        </p:txBody>
      </p:sp>
      <p:sp>
        <p:nvSpPr>
          <p:cNvPr id="107" name=""/>
          <p:cNvSpPr txBox="1"/>
          <p:nvPr/>
        </p:nvSpPr>
        <p:spPr>
          <a:xfrm rot="1950000">
            <a:off x="377640" y="5214960"/>
            <a:ext cx="2771640" cy="80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Right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sens de disposit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108" name=""/>
          <p:cNvSpPr txBox="1"/>
          <p:nvPr/>
        </p:nvSpPr>
        <p:spPr>
          <a:xfrm rot="1633800">
            <a:off x="791640" y="5907240"/>
            <a:ext cx="1990800" cy="60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Right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Wingdings 3"/>
              </a:rPr>
              <a:t>^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Wingdings 3"/>
              <a:ea typeface="Wingdings 3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4.07407E-006 L 0.15556 0.13843 E">
                                      <p:cBhvr>
                                        <p:cTn id="129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0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1.48148E-006 L 0.05313 0.04398 E">
                                      <p:cBhvr>
                                        <p:cTn id="131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2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4.44444E-006 L -0.05313 -0.06944 E">
                                      <p:cBhvr>
                                        <p:cTn id="133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4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2.59259E-006 L -0.15556 -0.16991 E">
                                      <p:cBhvr>
                                        <p:cTn id="135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708360" y="2879640"/>
            <a:ext cx="4572000" cy="3429000"/>
          </a:xfrm>
          <a:prstGeom prst="rect">
            <a:avLst/>
          </a:prstGeom>
          <a:gradFill rotWithShape="0">
            <a:gsLst>
              <a:gs pos="0">
                <a:srgbClr val="cc0066"/>
              </a:gs>
              <a:gs pos="100000">
                <a:srgbClr val="cc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771640" y="2190600"/>
            <a:ext cx="4572000" cy="3429000"/>
          </a:xfrm>
          <a:prstGeom prst="rect">
            <a:avLst/>
          </a:prstGeom>
          <a:gradFill rotWithShape="0">
            <a:gsLst>
              <a:gs pos="0">
                <a:srgbClr val="800080"/>
              </a:gs>
              <a:gs pos="100000">
                <a:srgbClr val="cc00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800360" y="1413000"/>
            <a:ext cx="4572000" cy="3429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800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63640" y="765000"/>
            <a:ext cx="4572000" cy="3429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232000" y="2190600"/>
            <a:ext cx="539640" cy="64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260360" y="1413000"/>
            <a:ext cx="54000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4000" y="765000"/>
            <a:ext cx="539640" cy="64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 rot="1950000">
            <a:off x="5957640" y="765000"/>
            <a:ext cx="2771640" cy="80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Right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sens d'apparit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118" name=""/>
          <p:cNvSpPr txBox="1"/>
          <p:nvPr/>
        </p:nvSpPr>
        <p:spPr>
          <a:xfrm rot="1633800">
            <a:off x="6372360" y="1457280"/>
            <a:ext cx="1990440" cy="60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Right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Wingdings 3"/>
              </a:rPr>
              <a:t>^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Wingdings 3"/>
              <a:ea typeface="Wingdings 3"/>
            </a:endParaRPr>
          </a:p>
        </p:txBody>
      </p:sp>
      <p:sp>
        <p:nvSpPr>
          <p:cNvPr id="119" name=""/>
          <p:cNvSpPr txBox="1"/>
          <p:nvPr/>
        </p:nvSpPr>
        <p:spPr>
          <a:xfrm rot="1950000">
            <a:off x="377640" y="5214960"/>
            <a:ext cx="2771640" cy="80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Right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sens de disposit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20" name=""/>
          <p:cNvSpPr txBox="1"/>
          <p:nvPr/>
        </p:nvSpPr>
        <p:spPr>
          <a:xfrm rot="1633800">
            <a:off x="791640" y="5907240"/>
            <a:ext cx="1990800" cy="60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Right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Wingdings 3"/>
              </a:rPr>
              <a:t>^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Wingdings 3"/>
              <a:ea typeface="Wingdings 3"/>
            </a:endParaRPr>
          </a:p>
        </p:txBody>
      </p:sp>
    </p:spTree>
  </p:cSld>
  <p:transition advTm="12000">
    <p:fade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ffets d’ouver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 est toujours plus simple de travailler dans l’ordre chronologiq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 plus, en travaillant avec des effets d’ouverture, le rectangle en arrière-plan est le dégradé le plus clair. Si on lui applique un effet d’ouverture et que le fond de la présentation est clair, cela crée un li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’est donc l’option que j’ai retenu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708360" y="2879640"/>
            <a:ext cx="4572000" cy="3429000"/>
          </a:xfrm>
          <a:prstGeom prst="rect">
            <a:avLst/>
          </a:prstGeom>
          <a:gradFill rotWithShape="0">
            <a:gsLst>
              <a:gs pos="0">
                <a:srgbClr val="cc0066"/>
              </a:gs>
              <a:gs pos="100000">
                <a:srgbClr val="cc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771640" y="2190600"/>
            <a:ext cx="4572000" cy="3429000"/>
          </a:xfrm>
          <a:prstGeom prst="rect">
            <a:avLst/>
          </a:prstGeom>
          <a:gradFill rotWithShape="0">
            <a:gsLst>
              <a:gs pos="0">
                <a:srgbClr val="800080"/>
              </a:gs>
              <a:gs pos="100000">
                <a:srgbClr val="cc00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800360" y="1413000"/>
            <a:ext cx="4572000" cy="3429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800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63640" y="765000"/>
            <a:ext cx="4572000" cy="3429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232000" y="2190600"/>
            <a:ext cx="539640" cy="64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260360" y="1413000"/>
            <a:ext cx="54000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24000" y="765000"/>
            <a:ext cx="539640" cy="64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 rot="1950000">
            <a:off x="5957640" y="765000"/>
            <a:ext cx="2771640" cy="80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Right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sens d'apparit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32" name=""/>
          <p:cNvSpPr txBox="1"/>
          <p:nvPr/>
        </p:nvSpPr>
        <p:spPr>
          <a:xfrm rot="1633800">
            <a:off x="6372360" y="1457280"/>
            <a:ext cx="1990440" cy="60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Right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Wingdings 3"/>
              </a:rPr>
              <a:t>^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Wingdings 3"/>
              <a:ea typeface="Wingdings 3"/>
            </a:endParaRPr>
          </a:p>
        </p:txBody>
      </p:sp>
      <p:sp>
        <p:nvSpPr>
          <p:cNvPr id="133" name=""/>
          <p:cNvSpPr txBox="1"/>
          <p:nvPr/>
        </p:nvSpPr>
        <p:spPr>
          <a:xfrm rot="1950000">
            <a:off x="377640" y="5214960"/>
            <a:ext cx="2771640" cy="80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Right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sens de disposit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34" name=""/>
          <p:cNvSpPr txBox="1"/>
          <p:nvPr/>
        </p:nvSpPr>
        <p:spPr>
          <a:xfrm rot="1633800">
            <a:off x="791640" y="5907240"/>
            <a:ext cx="1990800" cy="60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Right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Wingdings 3"/>
              </a:rPr>
              <a:t>^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Wingdings 3"/>
              <a:ea typeface="Wingdings 3"/>
            </a:endParaRPr>
          </a:p>
        </p:txBody>
      </p:sp>
      <p:sp>
        <p:nvSpPr>
          <p:cNvPr id="135" name=""/>
          <p:cNvSpPr/>
          <p:nvPr/>
        </p:nvSpPr>
        <p:spPr>
          <a:xfrm>
            <a:off x="3149640" y="2838600"/>
            <a:ext cx="53964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95640" y="1714680"/>
            <a:ext cx="4572000" cy="3429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fade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3.93064E-006 L 0.14775 0.13826 E">
                                      <p:cBhvr>
                                        <p:cTn id="158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9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1.32948E-006 L 0.04532 0.04393 E">
                                      <p:cBhvr>
                                        <p:cTn id="160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1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3.87283E-006 L -0.06093 -0.06937 E">
                                      <p:cBhvr>
                                        <p:cTn id="162" dur="2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3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2.94798E-006 L -0.16337 -0.16971 E">
                                      <p:cBhvr>
                                        <p:cTn id="164" dur="2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2" dur="2000" fill="hold"/>
                                        <p:tgtEl>
                                          <p:spTgt spid="136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0066"/>
              </a:gs>
              <a:gs pos="100000">
                <a:srgbClr val="cc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800080"/>
              </a:gs>
              <a:gs pos="100000">
                <a:srgbClr val="cc00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800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0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0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ci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’ai dégradé les couleurs de remplissage du premier rectangle du rose et à l’orange par « motifs et textures 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266920" y="3213000"/>
            <a:ext cx="4570560" cy="3429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rot="10800000">
            <a:off x="2266920" y="3212640"/>
            <a:ext cx="4570560" cy="3429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ff0066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ci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ortant : quand on copie un objet auquel est attaché un effet, son effet aussi est copié. Ce qui signifie que l’objet copié a lui aussi un effet attaché, que c’est le même effet que celui de l’objet original et il est paramétré de la même faç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’ai donc appliqué l’effet d’ouverture « estomper » avant de copier le rectang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0066"/>
              </a:gs>
              <a:gs pos="100000">
                <a:srgbClr val="cc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800080"/>
              </a:gs>
              <a:gs pos="100000">
                <a:srgbClr val="cc00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800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-3997440" y="-4995720"/>
            <a:ext cx="5689800" cy="5661000"/>
          </a:xfrm>
          <a:prstGeom prst="sun">
            <a:avLst>
              <a:gd name="adj" fmla="val 25000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7.40741E-007 C 0.02378 0.00255 0.09288 -0.00185 0.14288 0.01574 C 0.19323 0.03333 0.2493 0.06458 0.30052 0.10579 C 0.35174 0.14699 0.41094 0.20255 0.45052 0.2625 C 0.4901 0.32245 0.51545 0.38079 0.53802 0.46574 C 0.56059 0.55069 0.57014 0.63079 0.58559 0.77245 C 0.60104 0.91389 0.62118 1.20255 0.63055 1.31574 E">
                                      <p:cBhvr>
                                        <p:cTn id="6" dur="8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mph" presetID="24">
                                  <p:stCondLst>
                                    <p:cond delay="2000"/>
                                  </p:stCondLst>
                                  <p:childTnLst>
                                    <p:animClr clrSpc="hsl" dir="cw">
                                      <p:cBhvr>
                                        <p:cTn id="11" dur="7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2" dur="7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3" dur="7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4" dur="7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xit" presetID="14" presetSubtype="10">
                                  <p:stCondLst>
                                    <p:cond delay="700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22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ci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ié, collé, replacé, j’ai choisi les couleurs de chaque rectangle pour créer l’illusion que les couleurs descend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340000" y="3068640"/>
            <a:ext cx="4570560" cy="3429000"/>
          </a:xfrm>
          <a:prstGeom prst="rect">
            <a:avLst/>
          </a:prstGeom>
          <a:gradFill rotWithShape="0">
            <a:gsLst>
              <a:gs pos="0">
                <a:srgbClr val="ff0066"/>
              </a:gs>
              <a:gs pos="100000">
                <a:srgbClr val="ff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rot="10800000">
            <a:off x="2700360" y="3428640"/>
            <a:ext cx="4570560" cy="3429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ff0066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1.11022E-016 L -0.02934 -0.05046 E">
                                      <p:cBhvr>
                                        <p:cTn id="204" dur="2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-36360" y="5145120"/>
            <a:ext cx="2286000" cy="1714320"/>
          </a:xfrm>
          <a:prstGeom prst="rect">
            <a:avLst/>
          </a:prstGeom>
          <a:gradFill rotWithShape="0">
            <a:gsLst>
              <a:gs pos="0">
                <a:srgbClr val="cc0066"/>
              </a:gs>
              <a:gs pos="100000">
                <a:srgbClr val="cc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-36360" y="3430440"/>
            <a:ext cx="2286000" cy="1714680"/>
          </a:xfrm>
          <a:prstGeom prst="rect">
            <a:avLst/>
          </a:prstGeom>
          <a:gradFill rotWithShape="0">
            <a:gsLst>
              <a:gs pos="0">
                <a:srgbClr val="800080"/>
              </a:gs>
              <a:gs pos="100000">
                <a:srgbClr val="cc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-36360" y="1716120"/>
            <a:ext cx="2286000" cy="171432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800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-36360" y="1440"/>
            <a:ext cx="2286000" cy="17146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276720" y="256536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276720" y="609444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372360" y="2602080"/>
            <a:ext cx="2016000" cy="50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443640" y="609444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uleurs du ci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0.53726 L 0 -4.07407E-006 E">
                                      <p:cBhvr>
                                        <p:cTn id="210" dur="20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1.48148E-006 L 0.34757 -0.73217 E">
                                      <p:cBhvr>
                                        <p:cTn id="214" dur="20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1.48148E-006 L 0.68611 -0.48217 E">
                                      <p:cBhvr>
                                        <p:cTn id="218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1.48148E-006 L 0.34757 0.29283 E">
                                      <p:cBhvr>
                                        <p:cTn id="222" dur="2000" fill="hold"/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1.48148E-006 L 0.68611 0.54283 E">
                                      <p:cBhvr>
                                        <p:cTn id="226" dur="2000" fill="hold"/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gradFill rotWithShape="0">
            <a:gsLst>
              <a:gs pos="0">
                <a:srgbClr val="cc0066"/>
              </a:gs>
              <a:gs pos="100000">
                <a:srgbClr val="cc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gradFill rotWithShape="0">
            <a:gsLst>
              <a:gs pos="0">
                <a:srgbClr val="800080"/>
              </a:gs>
              <a:gs pos="100000">
                <a:srgbClr val="cc00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800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66560" y="2492280"/>
            <a:ext cx="3529080" cy="57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Couleur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66560" y="333360"/>
            <a:ext cx="352908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uleur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076720" y="2492280"/>
            <a:ext cx="3529080" cy="57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uleur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076720" y="333360"/>
            <a:ext cx="352908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99"/>
                </a:solidFill>
                <a:latin typeface="Arial"/>
              </a:rPr>
              <a:t>Couleur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6560" y="5950080"/>
            <a:ext cx="352908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99"/>
                </a:solidFill>
                <a:latin typeface="Arial"/>
              </a:rPr>
              <a:t>Couleur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6560" y="3789360"/>
            <a:ext cx="352908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ouleur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076720" y="6022800"/>
            <a:ext cx="3529080" cy="57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ouleur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3860640"/>
            <a:ext cx="3529080" cy="57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uleur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rot="16200000">
            <a:off x="1654560" y="-64080"/>
            <a:ext cx="1152720" cy="3529080"/>
          </a:xfrm>
          <a:custGeom>
            <a:avLst/>
            <a:gdLst>
              <a:gd name="textAreaLeft" fmla="*/ 180000 w 1152720"/>
              <a:gd name="textAreaRight" fmla="*/ 924480 w 1152720"/>
              <a:gd name="textAreaTop" fmla="*/ 788400 h 3529080"/>
              <a:gd name="textAreaBottom" fmla="*/ 2740680 h 3529080"/>
            </a:gdLst>
            <a:ahLst/>
            <a:rect l="textAreaLeft" t="textAreaTop" r="textAreaRight" b="textAreaBottom"/>
            <a:pathLst>
              <a:path w="21600" h="21600">
                <a:moveTo>
                  <a:pt x="3375" y="4826"/>
                </a:moveTo>
                <a:lnTo>
                  <a:pt x="13864" y="4826"/>
                </a:lnTo>
                <a:lnTo>
                  <a:pt x="13864" y="0"/>
                </a:lnTo>
                <a:lnTo>
                  <a:pt x="21600" y="10800"/>
                </a:lnTo>
                <a:lnTo>
                  <a:pt x="13864" y="21600"/>
                </a:lnTo>
                <a:lnTo>
                  <a:pt x="13864" y="16774"/>
                </a:lnTo>
                <a:lnTo>
                  <a:pt x="3375" y="16774"/>
                </a:lnTo>
                <a:close/>
              </a:path>
              <a:path w="21600" h="21600">
                <a:moveTo>
                  <a:pt x="0" y="4826"/>
                </a:moveTo>
                <a:lnTo>
                  <a:pt x="675" y="4826"/>
                </a:lnTo>
                <a:lnTo>
                  <a:pt x="675" y="16774"/>
                </a:lnTo>
                <a:lnTo>
                  <a:pt x="0" y="16774"/>
                </a:lnTo>
                <a:close/>
              </a:path>
              <a:path w="21600" h="21600">
                <a:moveTo>
                  <a:pt x="1350" y="4826"/>
                </a:moveTo>
                <a:lnTo>
                  <a:pt x="2700" y="4826"/>
                </a:lnTo>
                <a:lnTo>
                  <a:pt x="2700" y="16774"/>
                </a:lnTo>
                <a:lnTo>
                  <a:pt x="1350" y="1677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égradé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rot="16200000">
            <a:off x="6264720" y="-64080"/>
            <a:ext cx="1152720" cy="3529080"/>
          </a:xfrm>
          <a:custGeom>
            <a:avLst/>
            <a:gdLst>
              <a:gd name="textAreaLeft" fmla="*/ 180000 w 1152720"/>
              <a:gd name="textAreaRight" fmla="*/ 924480 w 1152720"/>
              <a:gd name="textAreaTop" fmla="*/ 788400 h 3529080"/>
              <a:gd name="textAreaBottom" fmla="*/ 2740680 h 3529080"/>
            </a:gdLst>
            <a:ahLst/>
            <a:rect l="textAreaLeft" t="textAreaTop" r="textAreaRight" b="textAreaBottom"/>
            <a:pathLst>
              <a:path w="21600" h="21600">
                <a:moveTo>
                  <a:pt x="3375" y="4826"/>
                </a:moveTo>
                <a:lnTo>
                  <a:pt x="13864" y="4826"/>
                </a:lnTo>
                <a:lnTo>
                  <a:pt x="13864" y="0"/>
                </a:lnTo>
                <a:lnTo>
                  <a:pt x="21600" y="10800"/>
                </a:lnTo>
                <a:lnTo>
                  <a:pt x="13864" y="21600"/>
                </a:lnTo>
                <a:lnTo>
                  <a:pt x="13864" y="16774"/>
                </a:lnTo>
                <a:lnTo>
                  <a:pt x="3375" y="16774"/>
                </a:lnTo>
                <a:close/>
              </a:path>
              <a:path w="21600" h="21600">
                <a:moveTo>
                  <a:pt x="0" y="4826"/>
                </a:moveTo>
                <a:lnTo>
                  <a:pt x="675" y="4826"/>
                </a:lnTo>
                <a:lnTo>
                  <a:pt x="675" y="16774"/>
                </a:lnTo>
                <a:lnTo>
                  <a:pt x="0" y="16774"/>
                </a:lnTo>
                <a:close/>
              </a:path>
              <a:path w="21600" h="21600">
                <a:moveTo>
                  <a:pt x="1350" y="4826"/>
                </a:moveTo>
                <a:lnTo>
                  <a:pt x="2700" y="4826"/>
                </a:lnTo>
                <a:lnTo>
                  <a:pt x="2700" y="16774"/>
                </a:lnTo>
                <a:lnTo>
                  <a:pt x="1350" y="1677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égradé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rot="16200000">
            <a:off x="1727640" y="3393000"/>
            <a:ext cx="1152720" cy="3529080"/>
          </a:xfrm>
          <a:custGeom>
            <a:avLst/>
            <a:gdLst>
              <a:gd name="textAreaLeft" fmla="*/ 180000 w 1152720"/>
              <a:gd name="textAreaRight" fmla="*/ 924480 w 1152720"/>
              <a:gd name="textAreaTop" fmla="*/ 788400 h 3529080"/>
              <a:gd name="textAreaBottom" fmla="*/ 2740680 h 3529080"/>
            </a:gdLst>
            <a:ahLst/>
            <a:rect l="textAreaLeft" t="textAreaTop" r="textAreaRight" b="textAreaBottom"/>
            <a:pathLst>
              <a:path w="21600" h="21600">
                <a:moveTo>
                  <a:pt x="3375" y="4826"/>
                </a:moveTo>
                <a:lnTo>
                  <a:pt x="13864" y="4826"/>
                </a:lnTo>
                <a:lnTo>
                  <a:pt x="13864" y="0"/>
                </a:lnTo>
                <a:lnTo>
                  <a:pt x="21600" y="10800"/>
                </a:lnTo>
                <a:lnTo>
                  <a:pt x="13864" y="21600"/>
                </a:lnTo>
                <a:lnTo>
                  <a:pt x="13864" y="16774"/>
                </a:lnTo>
                <a:lnTo>
                  <a:pt x="3375" y="16774"/>
                </a:lnTo>
                <a:close/>
              </a:path>
              <a:path w="21600" h="21600">
                <a:moveTo>
                  <a:pt x="0" y="4826"/>
                </a:moveTo>
                <a:lnTo>
                  <a:pt x="675" y="4826"/>
                </a:lnTo>
                <a:lnTo>
                  <a:pt x="675" y="16774"/>
                </a:lnTo>
                <a:lnTo>
                  <a:pt x="0" y="16774"/>
                </a:lnTo>
                <a:close/>
              </a:path>
              <a:path w="21600" h="21600">
                <a:moveTo>
                  <a:pt x="1350" y="4826"/>
                </a:moveTo>
                <a:lnTo>
                  <a:pt x="2700" y="4826"/>
                </a:lnTo>
                <a:lnTo>
                  <a:pt x="2700" y="16774"/>
                </a:lnTo>
                <a:lnTo>
                  <a:pt x="1350" y="1677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égradé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rot="16200000">
            <a:off x="6265080" y="3464280"/>
            <a:ext cx="1152360" cy="3529080"/>
          </a:xfrm>
          <a:custGeom>
            <a:avLst/>
            <a:gdLst>
              <a:gd name="textAreaLeft" fmla="*/ 180000 w 1152360"/>
              <a:gd name="textAreaRight" fmla="*/ 924120 w 1152360"/>
              <a:gd name="textAreaTop" fmla="*/ 788400 h 3529080"/>
              <a:gd name="textAreaBottom" fmla="*/ 2740680 h 3529080"/>
            </a:gdLst>
            <a:ahLst/>
            <a:rect l="textAreaLeft" t="textAreaTop" r="textAreaRight" b="textAreaBottom"/>
            <a:pathLst>
              <a:path w="21600" h="21600">
                <a:moveTo>
                  <a:pt x="3375" y="4826"/>
                </a:moveTo>
                <a:lnTo>
                  <a:pt x="13864" y="4826"/>
                </a:lnTo>
                <a:lnTo>
                  <a:pt x="13864" y="0"/>
                </a:lnTo>
                <a:lnTo>
                  <a:pt x="21600" y="10800"/>
                </a:lnTo>
                <a:lnTo>
                  <a:pt x="13864" y="21600"/>
                </a:lnTo>
                <a:lnTo>
                  <a:pt x="13864" y="16774"/>
                </a:lnTo>
                <a:lnTo>
                  <a:pt x="3375" y="16774"/>
                </a:lnTo>
                <a:close/>
              </a:path>
              <a:path w="21600" h="21600">
                <a:moveTo>
                  <a:pt x="0" y="4826"/>
                </a:moveTo>
                <a:lnTo>
                  <a:pt x="675" y="4826"/>
                </a:lnTo>
                <a:lnTo>
                  <a:pt x="675" y="16774"/>
                </a:lnTo>
                <a:lnTo>
                  <a:pt x="0" y="16774"/>
                </a:lnTo>
                <a:close/>
              </a:path>
              <a:path w="21600" h="21600">
                <a:moveTo>
                  <a:pt x="1350" y="4826"/>
                </a:moveTo>
                <a:lnTo>
                  <a:pt x="2700" y="4826"/>
                </a:lnTo>
                <a:lnTo>
                  <a:pt x="2700" y="16774"/>
                </a:lnTo>
                <a:lnTo>
                  <a:pt x="1350" y="1677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égradé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79" name=""/>
            <p:cNvSpPr/>
            <p:nvPr/>
          </p:nvSpPr>
          <p:spPr>
            <a:xfrm>
              <a:off x="4572000" y="0"/>
              <a:ext cx="0" cy="685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0" y="3429000"/>
              <a:ext cx="914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1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6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1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gradFill rotWithShape="0">
            <a:gsLst>
              <a:gs pos="0">
                <a:srgbClr val="cc0066"/>
              </a:gs>
              <a:gs pos="100000">
                <a:srgbClr val="cc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gradFill rotWithShape="0">
            <a:gsLst>
              <a:gs pos="0">
                <a:srgbClr val="800080"/>
              </a:gs>
              <a:gs pos="100000">
                <a:srgbClr val="cc00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800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2" dur="2000" fill="hold"/>
                                        <p:tgtEl>
                                          <p:spTgt spid="181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33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4" dur="2000" fill="hold"/>
                                        <p:tgtEl>
                                          <p:spTgt spid="182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33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6" dur="2000" fill="hold"/>
                                        <p:tgtEl>
                                          <p:spTgt spid="183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33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8" dur="2000" fill="hold"/>
                                        <p:tgtEl>
                                          <p:spTgt spid="184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ci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ns le volet Office, j’ai sélectionné les trois derniers effets, et je les ai fait débutés avec la précéden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’ai affiché la chronologie avancé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 temps de l’effet « estomper » dure 2 secondes par défaut. Le temps de passage de chacun des rectangles est donc de 2 second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ci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’ai laissé 2 secondes avant de commencer les estompes successives de manière à voir le soleil sur le fond de la diapositive. Ce qui donne 5 fonds fois 2 secondes : le temps de passage de la diapo est donc de 10 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 estompes successives ont été paramétrées de la manière suivante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ci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457200" y="1600200"/>
          <a:ext cx="8229600" cy="4268880"/>
        </p:xfrm>
        <a:graphic>
          <a:graphicData uri="http://schemas.openxmlformats.org/drawingml/2006/table">
            <a:tbl>
              <a:tblPr/>
              <a:tblGrid>
                <a:gridCol w="357120"/>
                <a:gridCol w="358920"/>
                <a:gridCol w="357120"/>
                <a:gridCol w="358920"/>
                <a:gridCol w="357120"/>
                <a:gridCol w="357120"/>
                <a:gridCol w="358920"/>
                <a:gridCol w="357120"/>
                <a:gridCol w="358560"/>
                <a:gridCol w="357480"/>
                <a:gridCol w="357120"/>
                <a:gridCol w="358560"/>
                <a:gridCol w="357120"/>
                <a:gridCol w="357480"/>
                <a:gridCol w="358560"/>
                <a:gridCol w="357120"/>
                <a:gridCol w="358920"/>
                <a:gridCol w="357120"/>
                <a:gridCol w="357120"/>
                <a:gridCol w="358920"/>
                <a:gridCol w="357120"/>
                <a:gridCol w="358920"/>
                <a:gridCol w="357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9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9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9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581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0066"/>
                        </a:gs>
                        <a:gs pos="100000">
                          <a:srgbClr val="ff9933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0066"/>
                        </a:gs>
                        <a:gs pos="100000">
                          <a:srgbClr val="ff9933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37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1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0099"/>
                        </a:gs>
                        <a:gs pos="100000">
                          <a:srgbClr val="ff0066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0099"/>
                        </a:gs>
                        <a:gs pos="100000">
                          <a:srgbClr val="ff0066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37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1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cc0099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cc0099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5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1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002a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002a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2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92" name=""/>
          <p:cNvSpPr/>
          <p:nvPr/>
        </p:nvSpPr>
        <p:spPr>
          <a:xfrm>
            <a:off x="1173240" y="6350040"/>
            <a:ext cx="7156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530360" y="6021360"/>
            <a:ext cx="644040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mps de passage de la diapos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170000" y="61689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8329680" y="61689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ci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457200" y="1600200"/>
          <a:ext cx="8229600" cy="4268880"/>
        </p:xfrm>
        <a:graphic>
          <a:graphicData uri="http://schemas.openxmlformats.org/drawingml/2006/table">
            <a:tbl>
              <a:tblPr/>
              <a:tblGrid>
                <a:gridCol w="357120"/>
                <a:gridCol w="358920"/>
                <a:gridCol w="357120"/>
                <a:gridCol w="358920"/>
                <a:gridCol w="357120"/>
                <a:gridCol w="357120"/>
                <a:gridCol w="358920"/>
                <a:gridCol w="357120"/>
                <a:gridCol w="358560"/>
                <a:gridCol w="357480"/>
                <a:gridCol w="357120"/>
                <a:gridCol w="358560"/>
                <a:gridCol w="357120"/>
                <a:gridCol w="357480"/>
                <a:gridCol w="358560"/>
                <a:gridCol w="357120"/>
                <a:gridCol w="358920"/>
                <a:gridCol w="357120"/>
                <a:gridCol w="357120"/>
                <a:gridCol w="358920"/>
                <a:gridCol w="357120"/>
                <a:gridCol w="358920"/>
                <a:gridCol w="357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9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9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9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581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0066"/>
                        </a:gs>
                        <a:gs pos="100000">
                          <a:srgbClr val="ff9933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0066"/>
                        </a:gs>
                        <a:gs pos="100000">
                          <a:srgbClr val="ff9933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37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1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0099"/>
                        </a:gs>
                        <a:gs pos="100000">
                          <a:srgbClr val="ff0066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0099"/>
                        </a:gs>
                        <a:gs pos="100000">
                          <a:srgbClr val="ff0066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37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1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cc0099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cc0099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5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1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002a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002a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2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98" name=""/>
          <p:cNvSpPr/>
          <p:nvPr/>
        </p:nvSpPr>
        <p:spPr>
          <a:xfrm>
            <a:off x="0" y="1130400"/>
            <a:ext cx="914400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mer le début de chaque effet par rapport à 0 dans l’Onglet « minutage » de l’eff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1185840" y="2438280"/>
            <a:ext cx="1417680" cy="360360"/>
            <a:chOff x="1185840" y="2438280"/>
            <a:chExt cx="1417680" cy="360360"/>
          </a:xfrm>
        </p:grpSpPr>
        <p:sp>
          <p:nvSpPr>
            <p:cNvPr id="200" name=""/>
            <p:cNvSpPr/>
            <p:nvPr/>
          </p:nvSpPr>
          <p:spPr>
            <a:xfrm>
              <a:off x="1186200" y="2619360"/>
              <a:ext cx="1417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185840" y="243828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603520" y="243828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1170000" y="2330280"/>
            <a:ext cx="1430280" cy="5781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élai : 2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1170000" y="3338640"/>
            <a:ext cx="2865600" cy="360360"/>
            <a:chOff x="1170000" y="3338640"/>
            <a:chExt cx="2865600" cy="360360"/>
          </a:xfrm>
        </p:grpSpPr>
        <p:sp>
          <p:nvSpPr>
            <p:cNvPr id="205" name=""/>
            <p:cNvSpPr/>
            <p:nvPr/>
          </p:nvSpPr>
          <p:spPr>
            <a:xfrm>
              <a:off x="1171080" y="3519720"/>
              <a:ext cx="2864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170000" y="333864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035600" y="333864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1173240" y="4238640"/>
            <a:ext cx="4309920" cy="360360"/>
            <a:chOff x="1173240" y="4238640"/>
            <a:chExt cx="4309920" cy="360360"/>
          </a:xfrm>
        </p:grpSpPr>
        <p:sp>
          <p:nvSpPr>
            <p:cNvPr id="209" name=""/>
            <p:cNvSpPr/>
            <p:nvPr/>
          </p:nvSpPr>
          <p:spPr>
            <a:xfrm>
              <a:off x="1175040" y="4419720"/>
              <a:ext cx="4307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173240" y="423864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83160" y="423864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1170000" y="5094360"/>
            <a:ext cx="5722920" cy="360360"/>
            <a:chOff x="1170000" y="5094360"/>
            <a:chExt cx="5722920" cy="360360"/>
          </a:xfrm>
        </p:grpSpPr>
        <p:sp>
          <p:nvSpPr>
            <p:cNvPr id="213" name=""/>
            <p:cNvSpPr/>
            <p:nvPr/>
          </p:nvSpPr>
          <p:spPr>
            <a:xfrm>
              <a:off x="1172520" y="5275440"/>
              <a:ext cx="5720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170000" y="50943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892920" y="50943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1177920" y="3228840"/>
            <a:ext cx="2857680" cy="5781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élai : 4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77920" y="4108320"/>
            <a:ext cx="4287960" cy="5781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élai : 6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70000" y="4989600"/>
            <a:ext cx="5727600" cy="577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élai : 8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57200" y="2349360"/>
            <a:ext cx="712800" cy="578160"/>
          </a:xfrm>
          <a:prstGeom prst="rect">
            <a:avLst/>
          </a:prstGeom>
          <a:gradFill rotWithShape="0">
            <a:gsLst>
              <a:gs pos="0">
                <a:srgbClr val="ff0066"/>
              </a:gs>
              <a:gs pos="100000">
                <a:srgbClr val="ff993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76280" y="3211560"/>
            <a:ext cx="712800" cy="577800"/>
          </a:xfrm>
          <a:prstGeom prst="rect">
            <a:avLst/>
          </a:prstGeom>
          <a:gradFill rotWithShape="0">
            <a:gsLst>
              <a:gs pos="0">
                <a:srgbClr val="cc0099"/>
              </a:gs>
              <a:gs pos="100000">
                <a:srgbClr val="ff00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84200" y="4103640"/>
            <a:ext cx="712800" cy="5778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cc00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84200" y="4989600"/>
            <a:ext cx="712800" cy="5778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993600" y="1600200"/>
            <a:ext cx="352440" cy="5176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427120" y="1600200"/>
            <a:ext cx="352440" cy="5176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859200" y="1600200"/>
            <a:ext cx="352440" cy="5176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289480" y="1600200"/>
            <a:ext cx="352440" cy="5176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721560" y="1600200"/>
            <a:ext cx="352440" cy="5176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indefinite"/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100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3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4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discrete" valueType="num">
                                      <p:cBhvr additive="repl">
                                        <p:cTn id="424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32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40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48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56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sole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’est une forme automatique (rubrique forme de base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’ai dessiné sa trajectoire avec « tracer une trajectoire personnalisée / courbe », mais en appliquant une trajectoire arquée vers la droite et en l’adaptant c’est possible auss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trajectoire arrive jusqu’au bord inférieur de la diaposit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547640" y="-3855960"/>
            <a:ext cx="3672000" cy="3855960"/>
          </a:xfrm>
          <a:prstGeom prst="sun">
            <a:avLst>
              <a:gd name="adj" fmla="val 25000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0">
    <p:fade/>
  </p:transition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0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0.02544 C 0.02378 0.02798 0.09288 0.02358 0.14288 0.04116 C 0.19322 0.05874 0.2493 0.08996 0.30052 0.13112 C 0.35173 0.17252 0.41093 0.22803 0.45052 0.28792 C 0.4901 0.34782 0.51545 0.40633 0.53802 0.49121 C 0.56059 0.57608 0.57013 0.65633 0.58559 0.79787 C 0.60104 0.9394 0.62118 1.22803 0.63055 1.34111 E">
                                      <p:cBhvr>
                                        <p:cTn id="462" dur="7800" fill="hold"/>
                                        <p:tgtEl>
                                          <p:spTgt spid="2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sole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68680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ux autres effets sont ajoutés pour accentuer le coucher de soleil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’effe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’empha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« assombrir » e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’effe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e fermetu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« barres aléatoires 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ou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ont paramétrés pour débuter « avec la précédente », afin que tous les effets de la diapositive se déroulent lors d’une seule et même 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804000" y="0"/>
            <a:ext cx="2087640" cy="2076480"/>
          </a:xfrm>
          <a:prstGeom prst="sun">
            <a:avLst>
              <a:gd name="adj" fmla="val 25000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0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withEffect" fill="hold" presetClass="emph" presetID="24">
                                  <p:stCondLst>
                                    <p:cond delay="9000"/>
                                  </p:stCondLst>
                                  <p:childTnLst>
                                    <p:animClr clrSpc="hsl" dir="cw">
                                      <p:cBhvr>
                                        <p:cTn id="468" dur="7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9" dur="7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70" dur="7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1" dur="7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nodeType="withEffect" fill="hold" presetClass="exit" presetID="14" presetSubtype="10">
                                  <p:stCondLst>
                                    <p:cond delay="1400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473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’arrière-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 droit sur la diapositive vierge, puis sur « arrière-plan », choisir une couleur parmi l’échantillonnage ou parmi les « autres couleurs », appliqu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sole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2781000"/>
            <a:ext cx="8229600" cy="34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trajectoire est paramétrée pour durer 8s et commence l’animation de la diap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’effet d’emphase « assombrir » commence à 2s et finit à 9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’effet de fermeture « barres aléatoires » débute à 7s et finit à 9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804000" y="0"/>
            <a:ext cx="2087640" cy="2076480"/>
          </a:xfrm>
          <a:prstGeom prst="sun">
            <a:avLst>
              <a:gd name="adj" fmla="val 25000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0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withEffect" fill="hold" presetClass="emph" presetID="24">
                                  <p:stCondLst>
                                    <p:cond delay="9000"/>
                                  </p:stCondLst>
                                  <p:childTnLst>
                                    <p:animClr clrSpc="hsl" dir="cw">
                                      <p:cBhvr>
                                        <p:cTn id="480" dur="7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81" dur="7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82" dur="7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83" dur="7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" nodeType="withEffect" fill="hold" presetClass="exit" presetID="14" presetSubtype="10">
                                  <p:stCondLst>
                                    <p:cond delay="1400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48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sole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457200" y="1600200"/>
          <a:ext cx="8229600" cy="3178080"/>
        </p:xfrm>
        <a:graphic>
          <a:graphicData uri="http://schemas.openxmlformats.org/drawingml/2006/table">
            <a:tbl>
              <a:tblPr/>
              <a:tblGrid>
                <a:gridCol w="357120"/>
                <a:gridCol w="358920"/>
                <a:gridCol w="357120"/>
                <a:gridCol w="358920"/>
                <a:gridCol w="357120"/>
                <a:gridCol w="357120"/>
                <a:gridCol w="358920"/>
                <a:gridCol w="357120"/>
                <a:gridCol w="358560"/>
                <a:gridCol w="357480"/>
                <a:gridCol w="357120"/>
                <a:gridCol w="358560"/>
                <a:gridCol w="357120"/>
                <a:gridCol w="357480"/>
                <a:gridCol w="358560"/>
                <a:gridCol w="357120"/>
                <a:gridCol w="358920"/>
                <a:gridCol w="357120"/>
                <a:gridCol w="357120"/>
                <a:gridCol w="358920"/>
                <a:gridCol w="357120"/>
                <a:gridCol w="358920"/>
                <a:gridCol w="357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581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ajectoire 8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1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sombrir 7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1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r 2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39" name=""/>
          <p:cNvSpPr/>
          <p:nvPr/>
        </p:nvSpPr>
        <p:spPr>
          <a:xfrm>
            <a:off x="1173240" y="6350040"/>
            <a:ext cx="7156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530360" y="6021360"/>
            <a:ext cx="644040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mps de passage de la diapos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170000" y="61689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8329680" y="61689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3" name=""/>
          <p:cNvGraphicFramePr/>
          <p:nvPr/>
        </p:nvGraphicFramePr>
        <p:xfrm>
          <a:off x="466560" y="285840"/>
          <a:ext cx="8229600" cy="6383160"/>
        </p:xfrm>
        <a:graphic>
          <a:graphicData uri="http://schemas.openxmlformats.org/drawingml/2006/table">
            <a:tbl>
              <a:tblPr/>
              <a:tblGrid>
                <a:gridCol w="357120"/>
                <a:gridCol w="358560"/>
                <a:gridCol w="357480"/>
                <a:gridCol w="358560"/>
                <a:gridCol w="357120"/>
                <a:gridCol w="357480"/>
                <a:gridCol w="358560"/>
                <a:gridCol w="357120"/>
                <a:gridCol w="358920"/>
                <a:gridCol w="357120"/>
                <a:gridCol w="357120"/>
                <a:gridCol w="358920"/>
                <a:gridCol w="357120"/>
                <a:gridCol w="357120"/>
                <a:gridCol w="358920"/>
                <a:gridCol w="357120"/>
                <a:gridCol w="358920"/>
                <a:gridCol w="357120"/>
                <a:gridCol w="357120"/>
                <a:gridCol w="358920"/>
                <a:gridCol w="357120"/>
                <a:gridCol w="358920"/>
                <a:gridCol w="357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1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1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581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ajectoire 8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1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1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1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sombrir 7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1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r 2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1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0066"/>
                        </a:gs>
                        <a:gs pos="100000">
                          <a:srgbClr val="ffcc00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0066"/>
                        </a:gs>
                        <a:gs pos="100000">
                          <a:srgbClr val="ff9933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5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1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0099"/>
                        </a:gs>
                        <a:gs pos="100000">
                          <a:srgbClr val="ff0066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0099"/>
                        </a:gs>
                        <a:gs pos="100000">
                          <a:srgbClr val="ff0066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1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cc0099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cc0099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1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002a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002a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 advTm="10000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4" name=""/>
          <p:cNvGraphicFramePr/>
          <p:nvPr/>
        </p:nvGraphicFramePr>
        <p:xfrm>
          <a:off x="466560" y="285840"/>
          <a:ext cx="8229600" cy="6383160"/>
        </p:xfrm>
        <a:graphic>
          <a:graphicData uri="http://schemas.openxmlformats.org/drawingml/2006/table">
            <a:tbl>
              <a:tblPr/>
              <a:tblGrid>
                <a:gridCol w="357120"/>
                <a:gridCol w="358560"/>
                <a:gridCol w="357480"/>
                <a:gridCol w="358560"/>
                <a:gridCol w="357120"/>
                <a:gridCol w="357480"/>
                <a:gridCol w="358560"/>
                <a:gridCol w="357120"/>
                <a:gridCol w="358920"/>
                <a:gridCol w="357120"/>
                <a:gridCol w="357120"/>
                <a:gridCol w="358920"/>
                <a:gridCol w="357120"/>
                <a:gridCol w="357120"/>
                <a:gridCol w="358920"/>
                <a:gridCol w="357120"/>
                <a:gridCol w="358920"/>
                <a:gridCol w="357120"/>
                <a:gridCol w="357120"/>
                <a:gridCol w="358920"/>
                <a:gridCol w="357120"/>
                <a:gridCol w="358920"/>
                <a:gridCol w="357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1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1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581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ajectoire 8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1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1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1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sombrir 7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1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r 2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1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0066"/>
                        </a:gs>
                        <a:gs pos="100000">
                          <a:srgbClr val="ffcc00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0066"/>
                        </a:gs>
                        <a:gs pos="100000">
                          <a:srgbClr val="ff9933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5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1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0099"/>
                        </a:gs>
                        <a:gs pos="100000">
                          <a:srgbClr val="ff0066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0099"/>
                        </a:gs>
                        <a:gs pos="100000">
                          <a:srgbClr val="ff0066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1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cc0099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cc0099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1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002a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002a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45" name=""/>
          <p:cNvSpPr/>
          <p:nvPr/>
        </p:nvSpPr>
        <p:spPr>
          <a:xfrm>
            <a:off x="971640" y="177840"/>
            <a:ext cx="431640" cy="65721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539720" y="1844640"/>
            <a:ext cx="7425000" cy="490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 soleil commence sa cours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ns le cie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 est encore le fond de la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apositiv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7" name=""/>
          <p:cNvGraphicFramePr/>
          <p:nvPr/>
        </p:nvGraphicFramePr>
        <p:xfrm>
          <a:off x="466560" y="285840"/>
          <a:ext cx="8229600" cy="6383160"/>
        </p:xfrm>
        <a:graphic>
          <a:graphicData uri="http://schemas.openxmlformats.org/drawingml/2006/table">
            <a:tbl>
              <a:tblPr/>
              <a:tblGrid>
                <a:gridCol w="357120"/>
                <a:gridCol w="358560"/>
                <a:gridCol w="357480"/>
                <a:gridCol w="358560"/>
                <a:gridCol w="357120"/>
                <a:gridCol w="357480"/>
                <a:gridCol w="358560"/>
                <a:gridCol w="357120"/>
                <a:gridCol w="358920"/>
                <a:gridCol w="357120"/>
                <a:gridCol w="357120"/>
                <a:gridCol w="358920"/>
                <a:gridCol w="357120"/>
                <a:gridCol w="357120"/>
                <a:gridCol w="358920"/>
                <a:gridCol w="357120"/>
                <a:gridCol w="358920"/>
                <a:gridCol w="357120"/>
                <a:gridCol w="357120"/>
                <a:gridCol w="358920"/>
                <a:gridCol w="357120"/>
                <a:gridCol w="358920"/>
                <a:gridCol w="357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1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1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581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ajectoire 8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1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1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1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sombrir 7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1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r 2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1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0066"/>
                        </a:gs>
                        <a:gs pos="100000">
                          <a:srgbClr val="ffcc00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0066"/>
                        </a:gs>
                        <a:gs pos="100000">
                          <a:srgbClr val="ff9933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5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1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0099"/>
                        </a:gs>
                        <a:gs pos="100000">
                          <a:srgbClr val="ff0066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0099"/>
                        </a:gs>
                        <a:gs pos="100000">
                          <a:srgbClr val="ff0066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1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cc0099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cc0099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1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002a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002a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48" name=""/>
          <p:cNvSpPr/>
          <p:nvPr/>
        </p:nvSpPr>
        <p:spPr>
          <a:xfrm>
            <a:off x="2340000" y="177840"/>
            <a:ext cx="509400" cy="65721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267080" y="2654280"/>
            <a:ext cx="4697640" cy="39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 soleil commence à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’assombrir au fur et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à mesure que la lumièr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isse, c’est-à-dir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 les rectangle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encent leu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t successi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’estomp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0" name=""/>
          <p:cNvGraphicFramePr/>
          <p:nvPr/>
        </p:nvGraphicFramePr>
        <p:xfrm>
          <a:off x="466560" y="285840"/>
          <a:ext cx="8229600" cy="6383160"/>
        </p:xfrm>
        <a:graphic>
          <a:graphicData uri="http://schemas.openxmlformats.org/drawingml/2006/table">
            <a:tbl>
              <a:tblPr/>
              <a:tblGrid>
                <a:gridCol w="357120"/>
                <a:gridCol w="358560"/>
                <a:gridCol w="357480"/>
                <a:gridCol w="358560"/>
                <a:gridCol w="357120"/>
                <a:gridCol w="357480"/>
                <a:gridCol w="358560"/>
                <a:gridCol w="357120"/>
                <a:gridCol w="358920"/>
                <a:gridCol w="357120"/>
                <a:gridCol w="357120"/>
                <a:gridCol w="358920"/>
                <a:gridCol w="357120"/>
                <a:gridCol w="357120"/>
                <a:gridCol w="358920"/>
                <a:gridCol w="357120"/>
                <a:gridCol w="358920"/>
                <a:gridCol w="357120"/>
                <a:gridCol w="357120"/>
                <a:gridCol w="358920"/>
                <a:gridCol w="357120"/>
                <a:gridCol w="358920"/>
                <a:gridCol w="357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1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1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581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ajectoire 8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1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1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1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sombrir 7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1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r 2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1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0066"/>
                        </a:gs>
                        <a:gs pos="100000">
                          <a:srgbClr val="ffcc00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0066"/>
                        </a:gs>
                        <a:gs pos="100000">
                          <a:srgbClr val="ff9933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5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1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0099"/>
                        </a:gs>
                        <a:gs pos="100000">
                          <a:srgbClr val="ff0066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0099"/>
                        </a:gs>
                        <a:gs pos="100000">
                          <a:srgbClr val="ff0066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1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cc0099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cc0099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1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002a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002a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pSp>
        <p:nvGrpSpPr>
          <p:cNvPr id="251" name=""/>
          <p:cNvGrpSpPr/>
          <p:nvPr/>
        </p:nvGrpSpPr>
        <p:grpSpPr>
          <a:xfrm>
            <a:off x="3905280" y="177840"/>
            <a:ext cx="4771800" cy="6572160"/>
            <a:chOff x="3905280" y="177840"/>
            <a:chExt cx="4771800" cy="6572160"/>
          </a:xfrm>
        </p:grpSpPr>
        <p:sp>
          <p:nvSpPr>
            <p:cNvPr id="252" name=""/>
            <p:cNvSpPr/>
            <p:nvPr/>
          </p:nvSpPr>
          <p:spPr>
            <a:xfrm>
              <a:off x="3905280" y="177840"/>
              <a:ext cx="1733400" cy="657216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838840" y="274680"/>
              <a:ext cx="2838240" cy="6475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Le deuxième</a:t>
              </a:r>
              <a:br>
                <a:rPr sz="3200"/>
              </a:b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rectangle</a:t>
              </a:r>
              <a:br>
                <a:rPr sz="3200"/>
              </a:b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s’estompe, </a:t>
              </a:r>
              <a:br>
                <a:rPr sz="3200"/>
              </a:b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suivi du</a:t>
              </a:r>
              <a:br>
                <a:rPr sz="3200"/>
              </a:b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troisième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advTm="6000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4" name=""/>
          <p:cNvGraphicFramePr/>
          <p:nvPr/>
        </p:nvGraphicFramePr>
        <p:xfrm>
          <a:off x="466560" y="285840"/>
          <a:ext cx="8229600" cy="6383160"/>
        </p:xfrm>
        <a:graphic>
          <a:graphicData uri="http://schemas.openxmlformats.org/drawingml/2006/table">
            <a:tbl>
              <a:tblPr/>
              <a:tblGrid>
                <a:gridCol w="357120"/>
                <a:gridCol w="358560"/>
                <a:gridCol w="357480"/>
                <a:gridCol w="358560"/>
                <a:gridCol w="357120"/>
                <a:gridCol w="357480"/>
                <a:gridCol w="358560"/>
                <a:gridCol w="357120"/>
                <a:gridCol w="358920"/>
                <a:gridCol w="357120"/>
                <a:gridCol w="357120"/>
                <a:gridCol w="358920"/>
                <a:gridCol w="357120"/>
                <a:gridCol w="357120"/>
                <a:gridCol w="358920"/>
                <a:gridCol w="357120"/>
                <a:gridCol w="358920"/>
                <a:gridCol w="357120"/>
                <a:gridCol w="357120"/>
                <a:gridCol w="358920"/>
                <a:gridCol w="357120"/>
                <a:gridCol w="358920"/>
                <a:gridCol w="357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1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1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581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ajectoire 8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1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1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1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sombrir 7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1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r 2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1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0066"/>
                        </a:gs>
                        <a:gs pos="100000">
                          <a:srgbClr val="ffcc00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0066"/>
                        </a:gs>
                        <a:gs pos="100000">
                          <a:srgbClr val="ff9933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5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1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0099"/>
                        </a:gs>
                        <a:gs pos="100000">
                          <a:srgbClr val="ff0066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0099"/>
                        </a:gs>
                        <a:gs pos="100000">
                          <a:srgbClr val="ff0066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1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cc0099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cc0099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1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002a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002a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55" name=""/>
          <p:cNvSpPr/>
          <p:nvPr/>
        </p:nvSpPr>
        <p:spPr>
          <a:xfrm>
            <a:off x="6732720" y="115920"/>
            <a:ext cx="360360" cy="64422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01760" y="225360"/>
            <a:ext cx="4532400" cy="6475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 tempo s’accélèr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 passe de 2s à 1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7451640" y="115920"/>
            <a:ext cx="360360" cy="6408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012000" y="115920"/>
            <a:ext cx="360360" cy="3241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9" name=""/>
          <p:cNvGraphicFramePr/>
          <p:nvPr/>
        </p:nvGraphicFramePr>
        <p:xfrm>
          <a:off x="466560" y="285840"/>
          <a:ext cx="8229600" cy="6383160"/>
        </p:xfrm>
        <a:graphic>
          <a:graphicData uri="http://schemas.openxmlformats.org/drawingml/2006/table">
            <a:tbl>
              <a:tblPr/>
              <a:tblGrid>
                <a:gridCol w="357120"/>
                <a:gridCol w="358560"/>
                <a:gridCol w="357480"/>
                <a:gridCol w="358560"/>
                <a:gridCol w="357120"/>
                <a:gridCol w="357480"/>
                <a:gridCol w="358560"/>
                <a:gridCol w="357120"/>
                <a:gridCol w="358920"/>
                <a:gridCol w="357120"/>
                <a:gridCol w="357120"/>
                <a:gridCol w="358920"/>
                <a:gridCol w="357120"/>
                <a:gridCol w="357120"/>
                <a:gridCol w="358920"/>
                <a:gridCol w="357120"/>
                <a:gridCol w="358920"/>
                <a:gridCol w="357120"/>
                <a:gridCol w="357120"/>
                <a:gridCol w="358920"/>
                <a:gridCol w="357120"/>
                <a:gridCol w="358920"/>
                <a:gridCol w="357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1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1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581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ajectoire 8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1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1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1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sombrir 7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1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r 2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1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0066"/>
                        </a:gs>
                        <a:gs pos="100000">
                          <a:srgbClr val="ffcc00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0066"/>
                        </a:gs>
                        <a:gs pos="100000">
                          <a:srgbClr val="ff9933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5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1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0099"/>
                        </a:gs>
                        <a:gs pos="100000">
                          <a:srgbClr val="ff0066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0099"/>
                        </a:gs>
                        <a:gs pos="100000">
                          <a:srgbClr val="ff0066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1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cc0099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cc0099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1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002a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002a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60" name=""/>
          <p:cNvSpPr/>
          <p:nvPr/>
        </p:nvSpPr>
        <p:spPr>
          <a:xfrm>
            <a:off x="5940360" y="177840"/>
            <a:ext cx="538200" cy="65721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301760" y="2654280"/>
            <a:ext cx="4349880" cy="4046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 soleil commenc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à disparaître e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rres aléatoir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rizontal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dant que l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oisième rectangl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’estomp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466560" y="285840"/>
          <a:ext cx="8229600" cy="6383160"/>
        </p:xfrm>
        <a:graphic>
          <a:graphicData uri="http://schemas.openxmlformats.org/drawingml/2006/table">
            <a:tbl>
              <a:tblPr/>
              <a:tblGrid>
                <a:gridCol w="357120"/>
                <a:gridCol w="358560"/>
                <a:gridCol w="357480"/>
                <a:gridCol w="358560"/>
                <a:gridCol w="357120"/>
                <a:gridCol w="357480"/>
                <a:gridCol w="358560"/>
                <a:gridCol w="357120"/>
                <a:gridCol w="358920"/>
                <a:gridCol w="357120"/>
                <a:gridCol w="357120"/>
                <a:gridCol w="358920"/>
                <a:gridCol w="357120"/>
                <a:gridCol w="357120"/>
                <a:gridCol w="358920"/>
                <a:gridCol w="357120"/>
                <a:gridCol w="358920"/>
                <a:gridCol w="357120"/>
                <a:gridCol w="357120"/>
                <a:gridCol w="358920"/>
                <a:gridCol w="357120"/>
                <a:gridCol w="358920"/>
                <a:gridCol w="357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1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1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581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ajectoire 8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1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1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1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sombrir 7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1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r 2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1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0066"/>
                        </a:gs>
                        <a:gs pos="100000">
                          <a:srgbClr val="ffcc00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0066"/>
                        </a:gs>
                        <a:gs pos="100000">
                          <a:srgbClr val="ff9933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5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1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0099"/>
                        </a:gs>
                        <a:gs pos="100000">
                          <a:srgbClr val="ff0066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0099"/>
                        </a:gs>
                        <a:gs pos="100000">
                          <a:srgbClr val="ff0066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1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cc0099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cc0099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1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002a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002a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63" name=""/>
          <p:cNvSpPr/>
          <p:nvPr/>
        </p:nvSpPr>
        <p:spPr>
          <a:xfrm>
            <a:off x="6621480" y="177840"/>
            <a:ext cx="542880" cy="65721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301760" y="3463920"/>
            <a:ext cx="5070600" cy="323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 soleil arrête sa cours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ors que le dernie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tangle, le plus sombr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ence à s’estomp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5" name=""/>
          <p:cNvGraphicFramePr/>
          <p:nvPr/>
        </p:nvGraphicFramePr>
        <p:xfrm>
          <a:off x="466560" y="285840"/>
          <a:ext cx="8229600" cy="6383160"/>
        </p:xfrm>
        <a:graphic>
          <a:graphicData uri="http://schemas.openxmlformats.org/drawingml/2006/table">
            <a:tbl>
              <a:tblPr/>
              <a:tblGrid>
                <a:gridCol w="357120"/>
                <a:gridCol w="358560"/>
                <a:gridCol w="357480"/>
                <a:gridCol w="358560"/>
                <a:gridCol w="357120"/>
                <a:gridCol w="357480"/>
                <a:gridCol w="358560"/>
                <a:gridCol w="357120"/>
                <a:gridCol w="358920"/>
                <a:gridCol w="357120"/>
                <a:gridCol w="357120"/>
                <a:gridCol w="358920"/>
                <a:gridCol w="357120"/>
                <a:gridCol w="357120"/>
                <a:gridCol w="358920"/>
                <a:gridCol w="357120"/>
                <a:gridCol w="358920"/>
                <a:gridCol w="357120"/>
                <a:gridCol w="357120"/>
                <a:gridCol w="358920"/>
                <a:gridCol w="357120"/>
                <a:gridCol w="358920"/>
                <a:gridCol w="357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1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1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581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ajectoire 8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1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1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1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sombrir 7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1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r 2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1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0066"/>
                        </a:gs>
                        <a:gs pos="100000">
                          <a:srgbClr val="ffcc00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0066"/>
                        </a:gs>
                        <a:gs pos="100000">
                          <a:srgbClr val="ff9933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5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1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0099"/>
                        </a:gs>
                        <a:gs pos="100000">
                          <a:srgbClr val="ff0066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0099"/>
                        </a:gs>
                        <a:gs pos="100000">
                          <a:srgbClr val="ff0066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1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cc0099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cc0099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1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002a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002a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66" name=""/>
          <p:cNvSpPr/>
          <p:nvPr/>
        </p:nvSpPr>
        <p:spPr>
          <a:xfrm>
            <a:off x="7345440" y="177840"/>
            <a:ext cx="539640" cy="65721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301760" y="3463920"/>
            <a:ext cx="5791320" cy="323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 soleil finit de disparaîtr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 barres aléatoir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rizontales, en même temp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’il s’arrête de s’assombri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ci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0066"/>
              </a:gs>
              <a:gs pos="100000">
                <a:srgbClr val="cc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800080"/>
              </a:gs>
              <a:gs pos="100000">
                <a:srgbClr val="cc00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800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8" name=""/>
          <p:cNvGraphicFramePr/>
          <p:nvPr/>
        </p:nvGraphicFramePr>
        <p:xfrm>
          <a:off x="466560" y="285840"/>
          <a:ext cx="8229600" cy="6383160"/>
        </p:xfrm>
        <a:graphic>
          <a:graphicData uri="http://schemas.openxmlformats.org/drawingml/2006/table">
            <a:tbl>
              <a:tblPr/>
              <a:tblGrid>
                <a:gridCol w="357120"/>
                <a:gridCol w="358560"/>
                <a:gridCol w="357480"/>
                <a:gridCol w="358560"/>
                <a:gridCol w="357120"/>
                <a:gridCol w="357480"/>
                <a:gridCol w="358560"/>
                <a:gridCol w="357120"/>
                <a:gridCol w="358920"/>
                <a:gridCol w="357120"/>
                <a:gridCol w="357120"/>
                <a:gridCol w="358920"/>
                <a:gridCol w="357120"/>
                <a:gridCol w="357120"/>
                <a:gridCol w="358920"/>
                <a:gridCol w="357120"/>
                <a:gridCol w="358920"/>
                <a:gridCol w="357120"/>
                <a:gridCol w="357120"/>
                <a:gridCol w="358920"/>
                <a:gridCol w="357120"/>
                <a:gridCol w="358920"/>
                <a:gridCol w="357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1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1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581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ajectoire 8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1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1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1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sombrir 7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1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r 2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1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0066"/>
                        </a:gs>
                        <a:gs pos="100000">
                          <a:srgbClr val="ffcc00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0066"/>
                        </a:gs>
                        <a:gs pos="100000">
                          <a:srgbClr val="ff9933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5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1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0099"/>
                        </a:gs>
                        <a:gs pos="100000">
                          <a:srgbClr val="ff0066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0099"/>
                        </a:gs>
                        <a:gs pos="100000">
                          <a:srgbClr val="ff0066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1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cc0099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cc0099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1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002a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002a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69" name=""/>
          <p:cNvSpPr/>
          <p:nvPr/>
        </p:nvSpPr>
        <p:spPr>
          <a:xfrm>
            <a:off x="8064360" y="177840"/>
            <a:ext cx="540000" cy="65721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539720" y="4254480"/>
            <a:ext cx="4889520" cy="249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’animation de la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apositive s’achève ave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fin de l’effe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r le rectangle bleu-noi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0066"/>
              </a:gs>
              <a:gs pos="100000">
                <a:srgbClr val="cc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800080"/>
              </a:gs>
              <a:gs pos="100000">
                <a:srgbClr val="cc00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800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-3997440" y="-4995720"/>
            <a:ext cx="5689800" cy="5661000"/>
          </a:xfrm>
          <a:prstGeom prst="sun">
            <a:avLst>
              <a:gd name="adj" fmla="val 25000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10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10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7.40741E-007 C 0.02378 0.00255 0.09288 -0.00185 0.14288 0.01574 C 0.19323 0.03333 0.2493 0.06458 0.30052 0.10579 C 0.35174 0.14699 0.41094 0.20255 0.45052 0.2625 C 0.4901 0.32245 0.51545 0.38079 0.53802 0.46574 C 0.56059 0.55069 0.57014 0.63079 0.58559 0.77245 C 0.60104 0.91389 0.62118 1.20255 0.63055 1.31574 E">
                                      <p:cBhvr>
                                        <p:cTn id="504" dur="8000" fill="hold"/>
                                        <p:tgtEl>
                                          <p:spTgt spid="2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5" nodeType="withEffect" fill="hold" presetClass="emph" presetID="24">
                                  <p:stCondLst>
                                    <p:cond delay="2000"/>
                                  </p:stCondLst>
                                  <p:childTnLst>
                                    <p:animClr clrSpc="hsl" dir="cw">
                                      <p:cBhvr>
                                        <p:cTn id="506" dur="7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507" dur="7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508" dur="7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509" dur="7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0" nodeType="withEffect" fill="hold" presetClass="exit" presetID="14" presetSubtype="10">
                                  <p:stCondLst>
                                    <p:cond delay="700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511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ci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8000" y="1341360"/>
            <a:ext cx="90360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’ai fait le coucher de soleil sur une seule diapositive : un soleil qui se couche sur plusieurs fonds successifs, 4 rectangles de la grandeur de la diaposit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266920" y="3384720"/>
            <a:ext cx="4570560" cy="3429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ci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 dégradés du ciel se partagent sur ces 4 rectangles et sont fondus les uns aux autres par l’effet d’estomp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ux options se sont offertes à moi : faire apparaître ou disparaître progressivement les rectangles. Leur disposition en dépend, de travailler en premier sur le dégradé le plus foncé ou le plus clair en dépend égaleme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ffets de ferme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 objet, qui a un effet de fermeture, disparaît dans la diapositive en diaporama dès que son effet se produ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ès lors invisible, tout ce qui est derrière l’objet sera vu à l’écr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800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gradFill rotWithShape="0">
            <a:gsLst>
              <a:gs pos="0">
                <a:srgbClr val="800080"/>
              </a:gs>
              <a:gs pos="100000">
                <a:srgbClr val="cc00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gradFill rotWithShape="0">
            <a:gsLst>
              <a:gs pos="0">
                <a:srgbClr val="cc0066"/>
              </a:gs>
              <a:gs pos="100000">
                <a:srgbClr val="cc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85800" y="1557360"/>
            <a:ext cx="7772400" cy="36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 des effets de fermeture 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path" presetID="42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0 -0.85555 L 0 -2.22222E-006 E">
                                      <p:cBhvr>
                                        <p:cTn id="58" dur="2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635280" y="2911320"/>
            <a:ext cx="4572000" cy="3429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627280" y="213372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619280" y="14130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1280" y="70632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1280" y="706320"/>
            <a:ext cx="54000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079640" y="1413000"/>
            <a:ext cx="53964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87640" y="2133720"/>
            <a:ext cx="53964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 rot="1633800">
            <a:off x="6372360" y="1457280"/>
            <a:ext cx="1990440" cy="60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Right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Wingdings 3"/>
              </a:rPr>
              <a:t>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Wingdings 3"/>
              <a:ea typeface="Wingdings 3"/>
            </a:endParaRPr>
          </a:p>
        </p:txBody>
      </p:sp>
      <p:sp>
        <p:nvSpPr>
          <p:cNvPr id="76" name=""/>
          <p:cNvSpPr txBox="1"/>
          <p:nvPr/>
        </p:nvSpPr>
        <p:spPr>
          <a:xfrm rot="1950000">
            <a:off x="377640" y="5214960"/>
            <a:ext cx="2771640" cy="80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Right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sens de disposit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77" name=""/>
          <p:cNvSpPr txBox="1"/>
          <p:nvPr/>
        </p:nvSpPr>
        <p:spPr>
          <a:xfrm rot="1633800">
            <a:off x="791640" y="5907240"/>
            <a:ext cx="1990800" cy="60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Right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Wingdings 3"/>
              </a:rPr>
              <a:t>^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Wingdings 3"/>
              <a:ea typeface="Wingdings 3"/>
            </a:endParaRPr>
          </a:p>
        </p:txBody>
      </p:sp>
      <p:sp>
        <p:nvSpPr>
          <p:cNvPr id="78" name=""/>
          <p:cNvSpPr txBox="1"/>
          <p:nvPr/>
        </p:nvSpPr>
        <p:spPr>
          <a:xfrm rot="1950000">
            <a:off x="5957640" y="765000"/>
            <a:ext cx="2771640" cy="80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Right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sens de disparit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1.15607E-006 L 0.18316 0.14682 E">
                                      <p:cBhvr>
                                        <p:cTn id="79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0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1.32948E-006 L 0.07292 0.04393 E">
                                      <p:cBhvr>
                                        <p:cTn id="81" dur="2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2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2.42775E-006 L -0.03733 -0.06104 E">
                                      <p:cBhvr>
                                        <p:cTn id="83" dur="2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4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2.77457E-006 L -0.14757 -0.17434 E">
                                      <p:cBhvr>
                                        <p:cTn id="85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6T13:12:15Z</dcterms:created>
  <dc:creator>Tribouillier</dc:creator>
  <dc:description/>
  <dc:language>en-US</dc:language>
  <cp:lastModifiedBy>Tribouillier</cp:lastModifiedBy>
  <dcterms:modified xsi:type="dcterms:W3CDTF">2008-03-01T14:12:15Z</dcterms:modified>
  <cp:revision>25</cp:revision>
  <dc:subject/>
  <dc:title>Coucher de soleil</dc:title>
</cp:coreProperties>
</file>