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CFF-0706-4F47-A6DE-04285536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F5E-9DAD-4664-B097-5281F870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7820-7A71-436E-99D0-AFEC4730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DFC-A1CC-49DA-975C-A6BD9FD4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8669-50D4-44D0-8F66-00AFE596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DCA-B4E5-482E-824E-75B7294A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C6E-E495-4AE2-81DF-0CB58BAE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E03-C63C-4C29-A4EF-6E4C4A86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DDCB-C948-4796-B124-4CA9B3BC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A473-FAA7-45EB-8421-D052413A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2775-93DB-4D70-9001-BB336D42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E9E6-7919-494F-8B21-13611B49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5753-0038-45D2-BA3D-2D4200982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1440" y="-885960"/>
            <a:ext cx="6259680" cy="62596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44640" y="512640"/>
            <a:ext cx="3654720" cy="30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Arial Black"/>
              </a:rPr>
              <a:t>Vacances d'ét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00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811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44720" y="-171360"/>
            <a:ext cx="2157120" cy="5870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136000" y="4316400"/>
            <a:ext cx="671400" cy="182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898880" y="2060640"/>
            <a:ext cx="1500480" cy="4083120"/>
          </a:xfrm>
          <a:prstGeom prst="rect">
            <a:avLst/>
          </a:prstGeom>
          <a:ln w="0">
            <a:noFill/>
          </a:ln>
        </p:spPr>
      </p:pic>
    </p:spTree>
  </p:cSld>
  <p:transition advTm="3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1:42:03Z</dcterms:created>
  <dc:creator>Tribouillier</dc:creator>
  <dc:description/>
  <dc:language>en-US</dc:language>
  <cp:lastModifiedBy>Tribouillier</cp:lastModifiedBy>
  <dcterms:modified xsi:type="dcterms:W3CDTF">2008-04-03T11:42:22Z</dcterms:modified>
  <cp:revision>1</cp:revision>
  <dc:subject/>
  <dc:title>Diapositive 1</dc:title>
</cp:coreProperties>
</file>