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1B3-24A1-4348-A4A6-F4849BC5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6D7-09F6-4AD6-9BF2-EDB4718C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5D2-4CBD-4B39-915D-C9E6876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7BB-C019-48E7-9E99-7B49F8B6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F29-DCAD-483D-A401-BEE71EE9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2DE-C49B-4436-8003-286D635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41E-9394-455C-A924-85BA622F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C7B-F5AA-42FC-A19A-74C95C7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ECF-5013-40EA-BA68-0D5560C8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791-157F-4D87-8A70-1DD8674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382-8120-41C7-9131-D373F40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192-0C09-4038-86C1-AFE8909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FC17-EA15-4857-961F-E8299981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1440" y="-885960"/>
            <a:ext cx="6259680" cy="6259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4640" y="512640"/>
            <a:ext cx="3654720" cy="30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Vacances d'é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81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4720" y="-171360"/>
            <a:ext cx="2157120" cy="587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36000" y="4316400"/>
            <a:ext cx="671400" cy="182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98880" y="2060640"/>
            <a:ext cx="1500480" cy="408312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2:03Z</dcterms:created>
  <dc:creator>Tribouillier</dc:creator>
  <dc:description/>
  <dc:language>en-US</dc:language>
  <cp:lastModifiedBy>Tribouillier</cp:lastModifiedBy>
  <dcterms:modified xsi:type="dcterms:W3CDTF">2008-04-03T11:42:22Z</dcterms:modified>
  <cp:revision>1</cp:revision>
  <dc:subject/>
  <dc:title>Diapositive 1</dc:title>
</cp:coreProperties>
</file>