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8B9-8E4C-4F6C-815C-5E72B462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9AD-1AEE-4941-B742-6034EF07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7EC-FF23-4472-9619-DC76564A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A97-270C-4816-BC98-782C427F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B89-D7C8-4F22-9846-70A32757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3DA-79EC-4FAA-A8E8-AE478D01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644-B470-41A2-AB58-6E03A15F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46B-EC1D-4A15-91BD-9723D12F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409-AA6C-4547-A613-3A7ACD97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759-3788-4305-9EF2-DBEFD346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081-7A68-491E-9DD0-9A6943DE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908-7A64-4ABB-B3E0-AA129F9D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5FB1-08D6-46C1-B2C2-0A3550D993A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708360" y="3230640"/>
            <a:ext cx="3672000" cy="2214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044720" y="4311720"/>
            <a:ext cx="277920" cy="2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7 L 1.42847 0.00023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1481E-006 C 0.06875 -0.00487 0.03611 4.81481E-006 0.06424 4.81481E-006 C 0.1533 0.0074 0.21406 0.04722 0.21406 0.11157 C 0.21406 0.07916 0.32257 -0.00209 0.41146 -0.00209 C 0.50538 -0.00209 0.57344 0.07685 0.57344 0.10879 C 0.57344 0.09282 0.63125 0.00763 0.73698 0.00046 C 0.84306 -0.00672 0.92084 0.08958 0.92084 0.11597 C 0.92084 0.10763 0.99132 0.00949 1.09688 0.00717 C 1.20313 0.00486 1.26702 0.08703 1.26702 0.11365 C 1.30191 0.07986 1.34479 0.01203 1.44427 0.00949 C 1.52813 0.00949 1.40868 0.00694 1.51441 0.00949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9:08:29Z</dcterms:created>
  <dc:creator>Tribouillier</dc:creator>
  <dc:description/>
  <dc:language>en-US</dc:language>
  <cp:lastModifiedBy>Tribouillier</cp:lastModifiedBy>
  <dcterms:modified xsi:type="dcterms:W3CDTF">2008-03-15T14:01:27Z</dcterms:modified>
  <cp:revision>2</cp:revision>
  <dc:subject/>
  <dc:title>Diapositive 1</dc:title>
</cp:coreProperties>
</file>