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27CC-64A1-4E16-A00E-479E0AE8A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24B0-F259-422F-B343-CD4EC56B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11D9-429B-43F0-85D8-F84294569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7BDA-2CD4-4D63-B79C-027F512E0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079B-9B4C-4B05-A15C-272807E9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2167-F126-4D24-9A8D-C0BF3CAE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A5B6-7AE8-470F-9908-B42BD009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5EC7-7060-40A5-926D-6589A7A9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061F-F746-4797-A579-31C701E4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2FCC-92CA-41C8-A474-8319FD3C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0DD7-86AF-4DB9-828F-C45288AC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22A2-8D3E-487F-923B-DF9B207E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7273-1552-4D34-8E30-27202253F33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708360" y="3230640"/>
            <a:ext cx="3672000" cy="2214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1044720" y="4311720"/>
            <a:ext cx="277920" cy="25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37E-007 L 1.42847 0.00023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81481E-006 C 0.06875 -0.00487 0.03611 4.81481E-006 0.06424 4.81481E-006 C 0.1533 0.0074 0.21406 0.04722 0.21406 0.11157 C 0.21406 0.07916 0.32257 -0.00209 0.41146 -0.00209 C 0.50538 -0.00209 0.57344 0.07685 0.57344 0.10879 C 0.57344 0.09282 0.63125 0.00763 0.73698 0.00046 C 0.84306 -0.00672 0.92084 0.08958 0.92084 0.11597 C 0.92084 0.10763 0.99132 0.00949 1.09688 0.00717 C 1.20313 0.00486 1.26702 0.08703 1.26702 0.11365 C 1.30191 0.07986 1.34479 0.01203 1.44427 0.00949 C 1.52813 0.00949 1.40868 0.00694 1.51441 0.00949 E">
                                      <p:cBhvr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09:08:29Z</dcterms:created>
  <dc:creator>Tribouillier</dc:creator>
  <dc:description/>
  <dc:language>en-US</dc:language>
  <cp:lastModifiedBy>Tribouillier</cp:lastModifiedBy>
  <dcterms:modified xsi:type="dcterms:W3CDTF">2008-03-15T14:01:27Z</dcterms:modified>
  <cp:revision>2</cp:revision>
  <dc:subject/>
  <dc:title>Diapositive 1</dc:title>
</cp:coreProperties>
</file>