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A08C-EE6B-41AF-88B9-6EE11D07F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13E1-0A07-4207-A545-FFEE945D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60C8-E5A8-43C2-8D5A-386C10BF0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B055-8E1C-4DC3-B5C1-8B5A3771D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3D6E-0376-4891-B177-CCA85913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AD61-63A2-4D26-BE80-74BF135A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1C71-34CD-465C-ABFB-CBEA9196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CFC0-AA77-4CB5-B341-462DA85C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FF26-FE6A-4A47-8F1F-FC59621A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711B-47CD-417E-83AE-935DDB1D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05A7-341D-4DC9-A5B1-0AD5CE75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36F8-021C-4941-86DC-C27AC002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135A-8559-4C65-8123-EFB0EAC3D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1644480" cy="2016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 rot="1998600">
            <a:off x="6156360" y="2060640"/>
            <a:ext cx="1644480" cy="20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08:56:19Z</dcterms:created>
  <dc:creator>Tribouillier</dc:creator>
  <dc:description/>
  <dc:language>en-US</dc:language>
  <cp:lastModifiedBy>Tribouillier</cp:lastModifiedBy>
  <dcterms:modified xsi:type="dcterms:W3CDTF">2008-02-09T08:57:08Z</dcterms:modified>
  <cp:revision>1</cp:revision>
  <dc:subject/>
  <dc:title>Diapositive 1</dc:title>
</cp:coreProperties>
</file>