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79C7-AFB0-4CFE-8757-B684029A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AA55-0B90-4BDD-AAA1-661007FA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EB67-65A5-413B-976F-2B2D6AEE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1F0C-6299-4614-9683-10B6986E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600D-9357-4A01-A1EF-753DF83B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30FA-3715-4B1B-A44C-A7E020DC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95E9-E537-4C0D-AC15-19E7AD88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1C86-A76C-47C9-A67C-E198DE52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9471-009C-48E1-8589-8D5A4E22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7B2A-7CA3-4F4F-AD16-301757BF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1EEC-100A-4EFF-B97B-25932729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1245-25DF-41EA-A50B-8FA52BB8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C9DC-E3C1-4DFD-B192-E84008E91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1644480" cy="2016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1998600">
            <a:off x="6156360" y="2060640"/>
            <a:ext cx="164448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8:56:19Z</dcterms:created>
  <dc:creator>Tribouillier</dc:creator>
  <dc:description/>
  <dc:language>en-US</dc:language>
  <cp:lastModifiedBy>Tribouillier</cp:lastModifiedBy>
  <dcterms:modified xsi:type="dcterms:W3CDTF">2008-02-09T08:57:08Z</dcterms:modified>
  <cp:revision>1</cp:revision>
  <dc:subject/>
  <dc:title>Diapositive 1</dc:title>
</cp:coreProperties>
</file>