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598-4A7E-415A-A3C8-DE2D5A2B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7DB-3E95-444D-BE2A-52BCF127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002-7623-444D-B168-B1C09941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DCE-0D16-4707-99F1-16DBB8A8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1FB-0A21-4534-820B-6247FF47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77D-429C-4FE1-B054-8C280D3E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BF9-DFD5-443F-ADE8-CF87C435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E3C-AD71-47BB-A065-E9887A17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538-E826-4140-B810-B83520E2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4A8-2625-4FDB-847C-EDD51DD2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9B1-33D1-4884-83CF-8E24B80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9A8-776E-4415-B55F-CA169085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EA95-3C65-4A45-BDDB-50EDFCA51F0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946320" cy="583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9320" y="549360"/>
            <a:ext cx="3946320" cy="583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28800" y="4076640"/>
            <a:ext cx="3024000" cy="201636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ci est un pap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91200" y="4076640"/>
            <a:ext cx="3024000" cy="2016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ci est un pap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8:58:44Z</dcterms:created>
  <dc:creator>Tribouillier</dc:creator>
  <dc:description/>
  <dc:language>en-US</dc:language>
  <cp:lastModifiedBy>Tribouillier</cp:lastModifiedBy>
  <dcterms:modified xsi:type="dcterms:W3CDTF">2008-02-09T08:59:00Z</dcterms:modified>
  <cp:revision>1</cp:revision>
  <dc:subject/>
  <dc:title>Diapositive 1</dc:title>
</cp:coreProperties>
</file>