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DBD-A409-4946-966A-AC5DAEE5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78F-4F36-42CC-9445-290F0216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463-36ED-4084-8332-F6ADCAD6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13F-0A8C-45A4-ACEF-12BA9090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AD7-170E-4254-8C8B-BA2FC355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87D-BE75-4E47-8428-57E2FB9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39A-2C8B-41D5-9DEF-8F8670F2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BB0-362E-406E-BEC7-3F62256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F84-59E2-4C1A-82C6-E369D9F1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F8C-5070-45DB-ABFE-0B9965B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219-678D-4A5A-9A20-5D71702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A3D-3C1D-48FA-88AA-9F40F85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82BC-1C71-4251-898B-A965803F3CB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946320" cy="583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9320" y="549360"/>
            <a:ext cx="3946320" cy="583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28800" y="4076640"/>
            <a:ext cx="3024000" cy="201636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ci est un pap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91200" y="4076640"/>
            <a:ext cx="3024000" cy="201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ci est un pap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8:58:44Z</dcterms:created>
  <dc:creator>Tribouillier</dc:creator>
  <dc:description/>
  <dc:language>en-US</dc:language>
  <cp:lastModifiedBy>Tribouillier</cp:lastModifiedBy>
  <dcterms:modified xsi:type="dcterms:W3CDTF">2008-02-09T08:59:00Z</dcterms:modified>
  <cp:revision>1</cp:revision>
  <dc:subject/>
  <dc:title>Diapositive 1</dc:title>
</cp:coreProperties>
</file>