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C5D5-2D33-48FD-A126-E92D8FBA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537-EFA4-420A-BC9D-3A1348BA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ED8-7124-4032-9F29-FF692F16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E2C-845E-4594-B0DF-2002851B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D0B-E988-4133-A944-9FBDC540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33FA-3798-4E03-A1BE-45B2DE11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456-1CE3-4DAA-AE5C-7175AA68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D160-52BE-4302-9CC6-94848025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1CF-7B7D-48C3-A043-3F488F43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9A8-A32E-499E-97CC-1FC967C9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4C4-53BB-4043-89EB-80D6FD82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8B65-F6A8-4AC9-92A6-CFB1E931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9303-3ACB-49DB-97BC-8C2974E9620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541440" y="404640"/>
            <a:ext cx="4084920" cy="408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67080" y="404640"/>
            <a:ext cx="4084560" cy="408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 C 0.081 0.06529 0.102 0.07195 0.124 0.07195 C 0.149 0.07195 0.169 0.06529 0.183 0.0533 L 0.25 0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 C 0.081 0.06529 0.102 0.07195 0.124 0.07195 C 0.149 0.07195 0.169 0.06529 0.183 0.0533 L 0.25 0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0:17Z</dcterms:created>
  <dc:creator>Tribouillier</dc:creator>
  <dc:description/>
  <dc:language>en-US</dc:language>
  <cp:lastModifiedBy>Tribouillier</cp:lastModifiedBy>
  <dcterms:modified xsi:type="dcterms:W3CDTF">2008-03-08T13:32:44Z</dcterms:modified>
  <cp:revision>2</cp:revision>
  <dc:subject/>
  <dc:title>Diapositive 1</dc:title>
</cp:coreProperties>
</file>