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2821-D4F5-4A2D-A0A0-3D79E8C6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3D24-C180-47E7-BC17-5508BB24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7791-84C3-4FF7-BC90-6C2B0927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902A-61DC-454B-BF5F-BCC708ED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7288-9401-4D01-AD07-56C54E5C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47B0-EE82-481B-8E2F-9715F8D4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A529-F53B-41F1-B4BC-23B502C5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2B8F-9A1F-4DD8-A74B-C709C2F3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B465-69E7-446E-BCB9-8FF4CDE5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E302-0C83-4974-B1CA-BDE264A8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F499-0D36-4867-B00D-0AA0489A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228C-6C58-4E77-B15E-4FE9442C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147F-8959-4783-AC57-1906FCCF751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541440" y="404640"/>
            <a:ext cx="4084920" cy="4084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67080" y="404640"/>
            <a:ext cx="4084560" cy="408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clickEffect" fill="hold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 C 0.081 0.06529 0.102 0.07195 0.124 0.07195 C 0.149 0.07195 0.169 0.06529 0.183 0.0533 L 0.25 0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autoRev="1" nodeType="withEffect" fill="hold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 C 0.081 0.06529 0.102 0.07195 0.124 0.07195 C 0.149 0.07195 0.169 0.06529 0.183 0.0533 L 0.25 0 E">
                                      <p:cBhvr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00:17Z</dcterms:created>
  <dc:creator>Tribouillier</dc:creator>
  <dc:description/>
  <dc:language>en-US</dc:language>
  <cp:lastModifiedBy>Tribouillier</cp:lastModifiedBy>
  <dcterms:modified xsi:type="dcterms:W3CDTF">2008-03-08T13:32:44Z</dcterms:modified>
  <cp:revision>2</cp:revision>
  <dc:subject/>
  <dc:title>Diapositive 1</dc:title>
</cp:coreProperties>
</file>