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629-0318-43BB-BDDC-471C7776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BBA4-51BA-494A-8FB0-47D34F6B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504-FBFF-437E-9ABB-EEDCA844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09A0-927A-48A8-B27E-69F62EB4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8748-9AE5-49F2-8B2D-5C3A7E80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1404-BF2F-4D3B-8F81-576F3C1B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84B0-0798-48CC-BEBF-CF53CDEC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4DA5-0F52-4838-BDEF-2D9ABC13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23DA-0564-4F08-BA24-5C67EB08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96BC-ADC9-44E4-B801-77765233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5448-7BD3-4A7B-9C9B-85CD4A28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BCA-25D0-462E-B642-26B2F54E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244A-7868-4298-AEC8-B9744B680D6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3.wmf"/><Relationship Id="rId10" Type="http://schemas.openxmlformats.org/officeDocument/2006/relationships/image" Target="../media/image4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4280"/>
            <a:ext cx="9144000" cy="3357720"/>
          </a:xfrm>
          <a:prstGeom prst="rect">
            <a:avLst/>
          </a:prstGeom>
          <a:gradFill rotWithShape="0">
            <a:gsLst>
              <a:gs pos="0">
                <a:srgbClr val="ffed9f"/>
              </a:gs>
              <a:gs pos="100000">
                <a:srgbClr val="eaa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ustralian Sunrise"/>
              </a:rPr>
              <a:t>Quel pays est-il évoqué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ustralian Sunrise"/>
              </a:rPr>
              <a:t>L’Australie ou la Chine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16280" y="851040"/>
            <a:ext cx="1287360" cy="938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5440" y="879480"/>
            <a:ext cx="1265400" cy="879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529080" y="885960"/>
            <a:ext cx="1289160" cy="866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145120" y="665280"/>
            <a:ext cx="1023840" cy="1309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8110440" y="378000"/>
            <a:ext cx="708120" cy="1882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6494400" y="903240"/>
            <a:ext cx="1289160" cy="831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456000"/>
            <a:ext cx="9144000" cy="3357720"/>
          </a:xfrm>
          <a:prstGeom prst="rect">
            <a:avLst/>
          </a:prstGeom>
          <a:gradFill rotWithShape="0">
            <a:gsLst>
              <a:gs pos="0">
                <a:srgbClr val="ffed9f"/>
              </a:gs>
              <a:gs pos="100000">
                <a:srgbClr val="eaa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ustralian Sunrise"/>
              </a:rPr>
              <a:t>Quel pays est-il évoqué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ustralian Sunrise"/>
              </a:rPr>
              <a:t>L’Australie ou la Chine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222640" y="4516560"/>
            <a:ext cx="1287360" cy="938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957240" y="3637080"/>
            <a:ext cx="1265400" cy="879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2884320" y="3881520"/>
            <a:ext cx="1289160" cy="866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4632480" y="3881520"/>
            <a:ext cx="10238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8110440" y="3571920"/>
            <a:ext cx="708120" cy="1882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6821640" y="4516560"/>
            <a:ext cx="1288800" cy="83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01:33Z</dcterms:created>
  <dc:creator>Tribouillier</dc:creator>
  <dc:description/>
  <dc:language>en-US</dc:language>
  <cp:lastModifiedBy>Tribouillier</cp:lastModifiedBy>
  <dcterms:modified xsi:type="dcterms:W3CDTF">2008-02-09T09:01:48Z</dcterms:modified>
  <cp:revision>1</cp:revision>
  <dc:subject/>
  <dc:title>Diapositive 1</dc:title>
</cp:coreProperties>
</file>