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BEA-44F5-41CE-905F-FC9D69AD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31DD-9FAB-4163-ADFD-96AD833A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847E-6135-453B-9468-DAF7C18C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DC3-B100-4FD7-B912-0FAC845E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8CD-836C-47FB-83AA-999D6B08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64A2-CFCB-4C0D-A646-888619CF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8EC-2E82-45FC-98D5-878A4341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D58-D998-4635-90BA-5B8A93D4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61A-CBAA-4463-8423-96B16587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2A3F-37B6-4EA6-BDD4-9D3CAAAA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374-7B2B-411F-B5AF-556DD41E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77F6-CA18-4B6B-BD19-5CB86F36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272C-D01A-4C2B-AC62-28DCF074C12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3.wmf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4280"/>
            <a:ext cx="9144000" cy="3357720"/>
          </a:xfrm>
          <a:prstGeom prst="rect">
            <a:avLst/>
          </a:prstGeom>
          <a:gradFill rotWithShape="0">
            <a:gsLst>
              <a:gs pos="0">
                <a:srgbClr val="ffed9f"/>
              </a:gs>
              <a:gs pos="100000">
                <a:srgbClr val="eaa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ustralian Sunrise"/>
              </a:rPr>
              <a:t>Quel pays est-il évoqué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ustralian Sunrise"/>
              </a:rPr>
              <a:t>L’Australie ou la Chin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16280" y="851040"/>
            <a:ext cx="1287360" cy="938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5440" y="879480"/>
            <a:ext cx="1265400" cy="879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529080" y="885960"/>
            <a:ext cx="1289160" cy="866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145120" y="665280"/>
            <a:ext cx="1023840" cy="1309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8110440" y="378000"/>
            <a:ext cx="708120" cy="1882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494400" y="903240"/>
            <a:ext cx="1289160" cy="831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456000"/>
            <a:ext cx="9144000" cy="3357720"/>
          </a:xfrm>
          <a:prstGeom prst="rect">
            <a:avLst/>
          </a:prstGeom>
          <a:gradFill rotWithShape="0">
            <a:gsLst>
              <a:gs pos="0">
                <a:srgbClr val="ffed9f"/>
              </a:gs>
              <a:gs pos="100000">
                <a:srgbClr val="eaa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ustralian Sunrise"/>
              </a:rPr>
              <a:t>Quel pays est-il évoqué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ustralian Sunrise"/>
              </a:rPr>
              <a:t>L’Australie ou la Chin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222640" y="4516560"/>
            <a:ext cx="1287360" cy="938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957240" y="3637080"/>
            <a:ext cx="1265400" cy="879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884320" y="3881520"/>
            <a:ext cx="1289160" cy="866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4632480" y="3881520"/>
            <a:ext cx="10238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8110440" y="3571920"/>
            <a:ext cx="708120" cy="1882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821640" y="4516560"/>
            <a:ext cx="1288800" cy="83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1:33Z</dcterms:created>
  <dc:creator>Tribouillier</dc:creator>
  <dc:description/>
  <dc:language>en-US</dc:language>
  <cp:lastModifiedBy>Tribouillier</cp:lastModifiedBy>
  <dcterms:modified xsi:type="dcterms:W3CDTF">2008-02-09T09:01:48Z</dcterms:modified>
  <cp:revision>1</cp:revision>
  <dc:subject/>
  <dc:title>Diapositive 1</dc:title>
</cp:coreProperties>
</file>