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D45-8DB2-4DEE-8F5F-36A8ED8D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5FF-336E-4B15-97D5-80CEC4D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CEA-E6E2-421F-A8CB-851A2D2C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73B-407A-4FE7-B4C7-F3181C9B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AD5-8C62-4155-AD8F-0B702E12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E1A-2B62-4C02-9589-227C024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6F9-F6AE-471B-BE7D-3254CB0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9B2-D273-45D7-9D7D-00B9DEC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F30-02B2-480A-9D3D-0B170EB7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7BE-5048-47D1-8DEA-9267283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5AE-C07B-4AF5-B69C-0698E22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33B-A290-48F5-89A6-75C7580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0E8-2F0A-43F5-839B-09E67B2D56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746360"/>
            <a:ext cx="1590480" cy="314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65280" y="2013120"/>
            <a:ext cx="17337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9880" y="5038560"/>
            <a:ext cx="1001520" cy="164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65280" y="4076640"/>
            <a:ext cx="1679760" cy="260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’allons-nous 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à Pari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Tour-Eiff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Carrous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musée Rod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u Notre-Da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88000" y="1749600"/>
            <a:ext cx="1590480" cy="314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784920" y="2016000"/>
            <a:ext cx="173376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159520" y="5041800"/>
            <a:ext cx="100152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784920" y="4079880"/>
            <a:ext cx="1679760" cy="260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212760"/>
            <a:ext cx="388764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’allons-nous 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à Londr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10960"/>
            <a:ext cx="388764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Tour-Eiff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9440" y="210960"/>
            <a:ext cx="388800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Carrous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9440" y="212760"/>
            <a:ext cx="3888000" cy="163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e musée Rod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9440" y="210960"/>
            <a:ext cx="3888000" cy="1632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u Notre-Da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2:28Z</dcterms:created>
  <dc:creator>Tribouillier</dc:creator>
  <dc:description/>
  <dc:language>en-US</dc:language>
  <cp:lastModifiedBy>Tribouillier</cp:lastModifiedBy>
  <dcterms:modified xsi:type="dcterms:W3CDTF">2008-02-09T09:02:36Z</dcterms:modified>
  <cp:revision>1</cp:revision>
  <dc:subject/>
  <dc:title>Diapositive 1</dc:title>
</cp:coreProperties>
</file>