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8C3-5A66-4AFC-8441-494CA4D2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B6F-35B7-4507-B637-244D68C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E54-EB5B-4C0D-A4A1-18645790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184-4ABE-42B5-A972-55128AF5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DD5-02A8-4036-84E7-6606016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F78-A57F-40BB-A41D-A8F35912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115-D821-4AAA-8CCE-D20A818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395-8AF8-4E86-8D6E-0118061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178-056E-42B4-87CD-256D2D89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61B-5B03-49CE-ADEC-DA41EBC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85E-87F2-4509-AE66-37F55CF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2F4-D5F3-470F-B2E8-E04B1EA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D79-E054-43A3-8174-360197E266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746360"/>
            <a:ext cx="1590480" cy="314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65280" y="2013120"/>
            <a:ext cx="17337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9880" y="5038560"/>
            <a:ext cx="1001520" cy="164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65280" y="4076640"/>
            <a:ext cx="1679760" cy="260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’allons-nous 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à Pari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Tour-Eiff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Carrous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musée Rod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u Notre-Da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88000" y="1749600"/>
            <a:ext cx="1590480" cy="314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784920" y="2016000"/>
            <a:ext cx="173376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159520" y="5041800"/>
            <a:ext cx="100152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784920" y="4079880"/>
            <a:ext cx="1679760" cy="260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’allons-nous 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à Londr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10960"/>
            <a:ext cx="388764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Tour-Eiff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9440" y="210960"/>
            <a:ext cx="388800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Carrous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9440" y="212760"/>
            <a:ext cx="388800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musée Rod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9440" y="210960"/>
            <a:ext cx="388800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u Notre-Da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2:28Z</dcterms:created>
  <dc:creator>Tribouillier</dc:creator>
  <dc:description/>
  <dc:language>en-US</dc:language>
  <cp:lastModifiedBy>Tribouillier</cp:lastModifiedBy>
  <dcterms:modified xsi:type="dcterms:W3CDTF">2008-02-09T09:02:36Z</dcterms:modified>
  <cp:revision>1</cp:revision>
  <dc:subject/>
  <dc:title>Diapositive 1</dc:title>
</cp:coreProperties>
</file>