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373-54F8-4217-888B-F6D5F6D1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8BC-7994-465C-886D-45740C24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E26-422B-4FC2-A1DE-4ACF77CC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8C4-6F70-4465-861F-67B7EEEC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7C2-5B29-4D44-BBF6-0F45B905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76D-E5CC-449D-BEA6-441245F6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F3E-3BF7-482E-82C8-FE9BA478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658-2CFF-4B18-A891-76C74CC4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6BF-0BBD-4222-9743-ADB84344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6B1-07EB-4844-BC01-16357C06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CE2-FAE5-410E-89A2-9778E733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618-F4D7-41DC-97B9-259AFD6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4275-7DB9-451C-B413-EB6823764A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2.wmf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7.wmf"/><Relationship Id="rId21" Type="http://schemas.openxmlformats.org/officeDocument/2006/relationships/image" Target="../media/image8.png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image" Target="../media/image11.wmf"/><Relationship Id="rId25" Type="http://schemas.openxmlformats.org/officeDocument/2006/relationships/image" Target="../media/image12.wmf"/><Relationship Id="rId26" Type="http://schemas.openxmlformats.org/officeDocument/2006/relationships/image" Target="../media/image13.wmf"/><Relationship Id="rId27" Type="http://schemas.openxmlformats.org/officeDocument/2006/relationships/image" Target="../media/image14.wmf"/><Relationship Id="rId28" Type="http://schemas.openxmlformats.org/officeDocument/2006/relationships/image" Target="../media/image1.jpeg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5911" t="0" r="0" b="0"/>
          <a:stretch/>
        </p:blipFill>
        <p:spPr>
          <a:xfrm>
            <a:off x="0" y="0"/>
            <a:ext cx="457200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551600">
            <a:off x="796680" y="907920"/>
            <a:ext cx="461880" cy="60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998400">
            <a:off x="1642680" y="603000"/>
            <a:ext cx="118440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511600">
            <a:off x="2234880" y="1842840"/>
            <a:ext cx="968400" cy="65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19714800">
            <a:off x="747360" y="2499840"/>
            <a:ext cx="895320" cy="617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235240" y="3117960"/>
            <a:ext cx="750960" cy="55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3447000">
            <a:off x="1185480" y="4187880"/>
            <a:ext cx="89532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986200" y="436572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5059400">
            <a:off x="227520" y="3499200"/>
            <a:ext cx="1040040" cy="691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2301000">
            <a:off x="2147400" y="5444640"/>
            <a:ext cx="67968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92200" y="5908680"/>
            <a:ext cx="814320" cy="94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116160" y="5908680"/>
            <a:ext cx="596880" cy="59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090960" y="770040"/>
            <a:ext cx="987480" cy="747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649680" y="3606840"/>
            <a:ext cx="706320" cy="581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9551600">
            <a:off x="5405040" y="934920"/>
            <a:ext cx="46188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998400">
            <a:off x="6251040" y="630000"/>
            <a:ext cx="118440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2511600">
            <a:off x="6843240" y="1869840"/>
            <a:ext cx="968400" cy="657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rot="19714800">
            <a:off x="5355720" y="2526840"/>
            <a:ext cx="895320" cy="61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6843600" y="3144960"/>
            <a:ext cx="750960" cy="550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rot="3447000">
            <a:off x="5794560" y="4214520"/>
            <a:ext cx="895320" cy="749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7594560" y="4392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 rot="15059400">
            <a:off x="4836240" y="3525840"/>
            <a:ext cx="1040040" cy="692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 rot="2301000">
            <a:off x="6756120" y="5472000"/>
            <a:ext cx="679320" cy="463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5200560" y="5935680"/>
            <a:ext cx="814320" cy="94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724880" y="5935680"/>
            <a:ext cx="596880" cy="59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7699320" y="797040"/>
            <a:ext cx="987480" cy="747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8258040" y="3633840"/>
            <a:ext cx="706680" cy="581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rcRect l="55911" t="0" r="0" b="0"/>
          <a:stretch/>
        </p:blipFill>
        <p:spPr>
          <a:xfrm>
            <a:off x="4572000" y="0"/>
            <a:ext cx="4572000" cy="68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7058 0.007 0.16914 0.025 0.16781 C 0.051 0.16781 0.053 -0.16248 0.084 -0.16381 C 0.112 -0.16381 0.097 0.12519 0.124 0.12386 C 0.152 0.12386 0.137 -0.08523 0.167 -0.08523 C 0.194 -0.08523 0.179 0.05594 0.203 0.05594 C 0.226 0.05594 0.214 -0.05194 0.235 -0.05194 C 0.247 -0.05194 0.248 -0.02264 0.249 0 E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9827E-006 C 0.00816 -0.01087 0.0184 -0.02728 0.00833 -0.0474 C -0.00591 -0.0763 -0.0507 -0.03954 -0.06823 -0.07445 C -0.08351 -0.10566 -0.03698 -0.12254 -0.05191 -0.15214 C -0.06736 -0.18335 -0.08681 -0.14243 -0.10313 -0.17549 C -0.11823 -0.20532 -0.09115 -0.20532 -0.10434 -0.23191 C -0.11719 -0.2578 -0.125 -0.23191 -0.13646 -0.25526 C -0.14306 -0.26844 -0.13959 -0.27283 -0.13716 -0.27676 E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58382E-006 C 0.01319 -0.01595 0.02934 -0.04346 0.01059 -0.08832 C -0.01684 -0.15445 -0.08993 -0.10682 -0.12292 -0.18566 C -0.15208 -0.25641 -0.07396 -0.26381 -0.10243 -0.33179 C -0.13177 -0.40277 -0.16111 -0.33156 -0.19219 -0.40716 C -0.22083 -0.47607 -0.17465 -0.46057 -0.19948 -0.52069 C -0.22361 -0.57896 -0.23438 -0.53179 -0.25643 -0.5852 C -0.26858 -0.61456 -0.26337 -0.6215 -0.25972 -0.6282 E"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341E-007 C -0.00573 -0.01526 0.00885 -0.03954 0.03177 -0.0548 C 0.05573 -0.07075 0.07917 -0.07191 0.08489 -0.05665 C 0.09062 -0.04139 0.11406 -0.04231 0.13785 -0.05803 C 0.16094 -0.07353 0.17552 -0.09803 0.16979 -0.11329 E"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3386 0.01179 0.06702 -0.01503 0.07552 -0.05896 C 0.08438 -0.10405 0.06528 -0.14914 0.03143 -0.16093 C -0.00243 -0.17295 -0.02152 -0.21804 -0.01267 -0.26289 C -0.00416 -0.30682 0.029 -0.33388 0.06285 -0.32208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8728E-006 C 0.01892 0.03977 0.06267 0.04463 0.09913 0.01434 C 0.13628 -0.01711 0.15174 -0.07237 0.13299 -0.11191 C 0.11424 -0.15144 0.12951 -0.2067 0.16684 -0.23792 C 0.20312 -0.26844 0.24705 -0.26358 0.26597 -0.22381 E"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52601E-006 C 0.03403 -0.01156 0.05312 -0.05664 0.04444 -0.10034 C 0.03594 -0.14566 0.00295 -0.17271 -0.03108 -0.16115 C -0.06528 -0.14936 -0.09809 -0.17664 -0.10677 -0.22196 C -0.11528 -0.26566 -0.09618 -0.31075 -0.06216 -0.32231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022E-016 L -0.03403 0.07329 C -0.04184 0.08855 -0.04601 0.11168 -0.04601 0.13572 C -0.04601 0.16301 -0.04184 0.18497 -0.03403 0.20023 L -8.33333E-007 0.27376 E"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5642 L 0.0132 -0.15329 C 0.01493 -0.1741 0.00973 -0.19838 -0.00069 -0.22012 C -0.01215 -0.24462 -0.02621 -0.26058 -0.04097 -0.26705 L -0.10902 -0.3022 E">
                                      <p:cBhvr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3526E-006 C 0.06893 -4.33526E-006 0.125 -0.01896 0.125 -0.04185 C 0.125 -0.06497 0.06893 -0.0837 -4.44444E-006 -0.0837 C -0.06892 -0.0837 -0.125 -0.06497 -0.125 -0.04185 C -0.125 -0.01896 -0.06892 -4.33526E-006 -4.44444E-006 -4.33526E-006 Z">
                                      <p:cBhvr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2 -0.14983 C 0.19913 -0.14983 0.2552 -0.07514 0.2552 0.01665 C 0.2552 0.10844 0.19913 0.18312 0.1302 0.18312 C 0.06128 0.18312 0.0052 0.10844 0.0052 0.01665 C 0.0052 -0.07514 0.06128 -0.14983 0.1302 -0.14983 Z">
                                      <p:cBhvr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7058 0.007 0.16914 0.025 0.16781 C 0.051 0.16781 0.053 -0.16248 0.084 -0.16381 C 0.112 -0.16381 0.097 0.12519 0.124 0.12386 C 0.152 0.12386 0.137 -0.08523 0.167 -0.08523 C 0.194 -0.08523 0.179 0.05594 0.203 0.05594 C 0.226 0.05594 0.214 -0.05194 0.235 -0.05194 C 0.247 -0.05194 0.248 -0.02264 0.249 0 E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9827E-006 C 0.00816 -0.01087 0.0184 -0.02728 0.00833 -0.0474 C -0.00591 -0.0763 -0.0507 -0.03954 -0.06823 -0.07445 C -0.08351 -0.10566 -0.03698 -0.12254 -0.05191 -0.15214 C -0.06736 -0.18335 -0.08681 -0.14243 -0.10313 -0.17549 C -0.11823 -0.20532 -0.09115 -0.20532 -0.10434 -0.23191 C -0.11719 -0.2578 -0.125 -0.23191 -0.13646 -0.25526 C -0.14306 -0.26844 -0.13959 -0.27283 -0.13716 -0.27676 E">
                                      <p:cBhvr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58382E-006 C 0.01319 -0.01595 0.02934 -0.04346 0.01059 -0.08832 C -0.01684 -0.15445 -0.08993 -0.10682 -0.12292 -0.18566 C -0.15208 -0.25641 -0.07396 -0.26381 -0.10243 -0.33179 C -0.13177 -0.40277 -0.16111 -0.33156 -0.19219 -0.40716 C -0.22083 -0.47607 -0.17465 -0.46057 -0.19948 -0.52069 C -0.22361 -0.57896 -0.23438 -0.53179 -0.25643 -0.5852 C -0.26858 -0.61456 -0.26337 -0.6215 -0.25972 -0.6282 E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341E-007 C -0.00573 -0.01526 0.00885 -0.03954 0.03177 -0.0548 C 0.05573 -0.07075 0.07917 -0.07191 0.08489 -0.05665 C 0.09062 -0.04139 0.11406 -0.04231 0.13785 -0.05803 C 0.16094 -0.07353 0.17552 -0.09803 0.16979 -0.11329 E">
                                      <p:cBhvr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3386 0.01179 0.06702 -0.01503 0.07552 -0.05896 C 0.08438 -0.10405 0.06528 -0.14914 0.03143 -0.16093 C -0.00243 -0.17295 -0.02152 -0.21804 -0.01267 -0.26289 C -0.00416 -0.30682 0.029 -0.33388 0.06285 -0.32208 E">
                                      <p:cBhvr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8728E-006 C 0.01892 0.03977 0.06267 0.04463 0.09913 0.01434 C 0.13628 -0.01711 0.15174 -0.07237 0.13299 -0.11191 C 0.11424 -0.15144 0.12951 -0.2067 0.16684 -0.23792 C 0.20312 -0.26844 0.24705 -0.26358 0.26597 -0.22381 E">
                                      <p:cBhvr>
                                        <p:cTn id="4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52601E-006 C 0.03403 -0.01156 0.05312 -0.05664 0.04444 -0.10034 C 0.03594 -0.14566 0.00295 -0.17271 -0.03108 -0.16115 C -0.06528 -0.14936 -0.09809 -0.17664 -0.10677 -0.22196 C -0.11528 -0.26566 -0.09618 -0.31075 -0.06216 -0.32231 E"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022E-016 L -0.03403 0.07329 C -0.04184 0.08855 -0.04601 0.11168 -0.04601 0.13572 C -0.04601 0.16301 -0.04184 0.18497 -0.03403 0.20023 L -8.33333E-007 0.27376 E">
                                      <p:cBhvr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5642 L 0.0132 -0.15329 C 0.01493 -0.1741 0.00973 -0.19838 -0.00069 -0.22012 C -0.01215 -0.24462 -0.02621 -0.26058 -0.04097 -0.26705 L -0.10902 -0.3022 E">
                                      <p:cBhvr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3526E-006 C 0.06893 -4.33526E-006 0.125 -0.01896 0.125 -0.04185 C 0.125 -0.06497 0.06893 -0.0837 -4.44444E-006 -0.0837 C -0.06892 -0.0837 -0.125 -0.06497 -0.125 -0.04185 C -0.125 -0.01896 -0.06892 -4.33526E-006 -4.44444E-006 -4.33526E-006 Z">
                                      <p:cBhvr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2 -0.14983 C 0.19913 -0.14983 0.2552 -0.07514 0.2552 0.01665 C 0.2552 0.10844 0.19913 0.18312 0.1302 0.18312 C 0.06128 0.18312 0.0052 0.10844 0.0052 0.01665 C 0.0052 -0.07514 0.06128 -0.14983 0.1302 -0.14983 Z">
                                      <p:cBhvr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4:26Z</dcterms:created>
  <dc:creator>Tribouillier</dc:creator>
  <dc:description/>
  <dc:language>en-US</dc:language>
  <cp:lastModifiedBy>Tribouillier</cp:lastModifiedBy>
  <dcterms:modified xsi:type="dcterms:W3CDTF">2008-02-09T09:04:37Z</dcterms:modified>
  <cp:revision>1</cp:revision>
  <dc:subject/>
  <dc:title>Diapositive 1</dc:title>
</cp:coreProperties>
</file>