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C66-B677-4897-A736-9A0730A1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D02-DC2D-40D9-BD9A-665D1343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648-07C0-4390-8BF1-78532A00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719-E390-495C-AF7C-F4C2586F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4E3-1A3C-4968-9C81-56A5CB2B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1FE-DAAB-404B-9A53-CBA3F701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14B-D34F-4C63-A4D0-621BA8AA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132-174A-4E58-AF62-1AC68F9E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6D2-A9ED-4349-8E2F-FD1F998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CB0-186D-41FD-827D-8A297C8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3A0-4072-4F69-A1AE-DAC6572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44C-40D9-47F5-8F84-BCD6F69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E25A-980B-45A0-B512-A15641E421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7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6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41440" y="404640"/>
            <a:ext cx="4084920" cy="408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27800" y="404640"/>
            <a:ext cx="4084560" cy="408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 C 0.081 0.06529 0.102 0.07195 0.124 0.07195 C 0.149 0.07195 0.169 0.06529 0.183 0.0533 L 0.25 0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 C 0.081 0.06529 0.102 0.07195 0.124 0.07195 C 0.149 0.07195 0.169 0.06529 0.183 0.0533 L 0.25 0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1:04Z</dcterms:created>
  <dc:creator>Tribouillier</dc:creator>
  <dc:description/>
  <dc:language>en-US</dc:language>
  <cp:lastModifiedBy>Tribouillier</cp:lastModifiedBy>
  <dcterms:modified xsi:type="dcterms:W3CDTF">2008-03-08T13:36:49Z</dcterms:modified>
  <cp:revision>2</cp:revision>
  <dc:subject/>
  <dc:title>Diapositive 1</dc:title>
</cp:coreProperties>
</file>