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4D3-5D70-44A5-B7CC-C931560C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2AF-C79B-467E-8608-C95142F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A55-96B1-4D5C-A605-2CE6928A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8B2-630E-4254-8677-2A5EBBCC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2D9-B130-4F30-B6AD-4CD8A7F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F80-F5AE-4395-94C9-933CEA60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771-FC86-4364-A1B2-AC91A22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2BA-DF7B-4353-905C-9FFE8823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10C-B6A7-4C88-AF64-42593F5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993-1BF8-4BDA-8D4E-8240A6D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8AA-8957-4851-B1E3-D84C65D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0F6-938C-4D62-9C70-9173A15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438-98CE-4E3E-8FEB-91E2915766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7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6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4084920" cy="408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27800" y="404640"/>
            <a:ext cx="4084560" cy="408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1:04Z</dcterms:created>
  <dc:creator>Tribouillier</dc:creator>
  <dc:description/>
  <dc:language>en-US</dc:language>
  <cp:lastModifiedBy>Tribouillier</cp:lastModifiedBy>
  <dcterms:modified xsi:type="dcterms:W3CDTF">2008-03-08T13:36:49Z</dcterms:modified>
  <cp:revision>2</cp:revision>
  <dc:subject/>
  <dc:title>Diapositive 1</dc:title>
</cp:coreProperties>
</file>