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FA20-482B-4CEC-8A61-C46A1157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B0AD-FB7F-40C5-B85A-6642C749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FD1-4B12-45CB-B722-425438FE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C8C0-0CDB-47B9-8407-F294E646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3B6C-D64D-4D70-AFF4-1227B56B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926-F17D-413E-9BFF-E0AE3B22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D46-102F-452E-97DE-2EE887B2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AAD9-B1D7-4854-8D0E-EF8DE60A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3CE-4665-450E-B8D4-961629B8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19A9-4895-47C8-BFA8-CE53BD74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F62F-6AD9-4AB1-B4A8-B60E1EAD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7C04-9E67-43BD-8042-693E0E79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3162-77B4-4BB1-8CBA-56227847073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rot="20924400">
            <a:off x="3012840" y="669600"/>
            <a:ext cx="726840" cy="527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>
            <a:off x="754920" y="1197000"/>
            <a:ext cx="2257560" cy="3095640"/>
          </a:xfrm>
          <a:prstGeom prst="blockArc">
            <a:avLst>
              <a:gd name="adj1" fmla="val 10772897"/>
              <a:gd name="adj2" fmla="val 27103"/>
              <a:gd name="adj3" fmla="val 17116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363280" y="1197000"/>
            <a:ext cx="2257560" cy="3095640"/>
          </a:xfrm>
          <a:prstGeom prst="blockArc">
            <a:avLst>
              <a:gd name="adj1" fmla="val 10772897"/>
              <a:gd name="adj2" fmla="val 27103"/>
              <a:gd name="adj3" fmla="val 17116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 rot="20924400">
            <a:off x="7621560" y="669600"/>
            <a:ext cx="727200" cy="52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5.15845E-007 L -0.24271 0.34559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5.15845E-007 L -0.24271 0.34559 E">
                                      <p:cBhvr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2:52Z</dcterms:created>
  <dc:creator>Tribouillier</dc:creator>
  <dc:description/>
  <dc:language>en-US</dc:language>
  <cp:lastModifiedBy>Tribouillier</cp:lastModifiedBy>
  <dcterms:modified xsi:type="dcterms:W3CDTF">2008-02-09T09:03:10Z</dcterms:modified>
  <cp:revision>1</cp:revision>
  <dc:subject/>
  <dc:title>Diapositive 1</dc:title>
</cp:coreProperties>
</file>