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E271-49BB-4C79-8476-E0C25376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8CDD-A51D-4AAC-A572-57F1B707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6EA7-A802-4CA1-83F1-54EC4F46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35D5-3C08-49B4-8738-791D0079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5CAE-FB1E-405C-959C-90271EF6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B95A-308C-414D-B739-865206D3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0316-11D0-4324-8FCC-C892DD9E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D3FE-5CAA-4575-B38B-6A114F88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21B8-C76E-4444-BC8E-646EB3BC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4876-B417-4119-922E-EE01493D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2307-7669-454F-90A0-1EA2419C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FC73-A97A-4743-B219-50C81F98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B28E-DF94-43B6-A7E1-D5BCD8CE57D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 rot="20924400">
            <a:off x="3012840" y="669600"/>
            <a:ext cx="726840" cy="527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H="1">
            <a:off x="754920" y="1197000"/>
            <a:ext cx="2257560" cy="3095640"/>
          </a:xfrm>
          <a:prstGeom prst="blockArc">
            <a:avLst>
              <a:gd name="adj1" fmla="val 10772897"/>
              <a:gd name="adj2" fmla="val 27103"/>
              <a:gd name="adj3" fmla="val 17116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363280" y="1197000"/>
            <a:ext cx="2257560" cy="3095640"/>
          </a:xfrm>
          <a:prstGeom prst="blockArc">
            <a:avLst>
              <a:gd name="adj1" fmla="val 10772897"/>
              <a:gd name="adj2" fmla="val 27103"/>
              <a:gd name="adj3" fmla="val 17116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 rot="20924400">
            <a:off x="7621560" y="669600"/>
            <a:ext cx="727200" cy="52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5.15845E-007 L -0.24271 0.34559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5.15845E-007 L -0.24271 0.34559 E">
                                      <p:cBhvr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9:02:52Z</dcterms:created>
  <dc:creator>Tribouillier</dc:creator>
  <dc:description/>
  <dc:language>en-US</dc:language>
  <cp:lastModifiedBy>Tribouillier</cp:lastModifiedBy>
  <dcterms:modified xsi:type="dcterms:W3CDTF">2008-02-09T09:03:10Z</dcterms:modified>
  <cp:revision>1</cp:revision>
  <dc:subject/>
  <dc:title>Diapositive 1</dc:title>
</cp:coreProperties>
</file>