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298-E95C-4E04-A192-724594B9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FCD-D21D-44A7-974A-9F1E426F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86A-FCB7-4789-BD6C-47BAAF5D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00D-328B-4521-9275-24CB3464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233-4E86-46CC-9C47-A689DB4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029-117D-4D3C-B38D-76A23FE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6AA-5B68-4A35-9731-5F6FE2D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14F-1D00-4A3F-8258-96B6DADF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C22-EAC0-4B4C-9A80-112153E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B51-3470-4638-9DB3-46A8D6D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990-B586-4F93-91E6-5F4C079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025-E4E5-4A93-93A3-2D85DDF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368-1E3C-4E49-8843-6E86D5A7EE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79640" y="2492280"/>
            <a:ext cx="1224000" cy="768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224000" cy="7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983 -4.44444E-006 L 0.00017 -4.44444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5:09Z</dcterms:created>
  <dc:creator>Tribouillier</dc:creator>
  <dc:description/>
  <dc:language>en-US</dc:language>
  <cp:lastModifiedBy>Tribouillier</cp:lastModifiedBy>
  <dcterms:modified xsi:type="dcterms:W3CDTF">2008-02-09T09:05:34Z</dcterms:modified>
  <cp:revision>1</cp:revision>
  <dc:subject/>
  <dc:title>Diapositive 1</dc:title>
</cp:coreProperties>
</file>