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313-438D-47B1-8C11-E4291E67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E2C-E273-4E68-9C00-94938904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77C-7E3B-4629-991D-375B4151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437-775E-41CC-AC0F-03F37C7F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4FC-C630-4520-9479-92DFA29B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E8A-C67B-40C6-8D21-AA507EB9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3BE-E81B-4DC5-8F6E-2468AE2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8E7-D8ED-4D33-BFAF-D99B70D8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5B7-E829-4422-8BD4-C9C0126F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652-3EDD-4F67-A5C7-361A1111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D3E-097F-47B0-9F3F-85B3D20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7FD-3565-4B0C-B81D-73E67451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CADC-619E-4BF6-A731-5BBA3A97EEF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79640" y="2492280"/>
            <a:ext cx="1224000" cy="768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08720" y="2492280"/>
            <a:ext cx="1224000" cy="7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983 -4.44444E-006 L 0.00017 -4.44444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5:09Z</dcterms:created>
  <dc:creator>Tribouillier</dc:creator>
  <dc:description/>
  <dc:language>en-US</dc:language>
  <cp:lastModifiedBy>Tribouillier</cp:lastModifiedBy>
  <dcterms:modified xsi:type="dcterms:W3CDTF">2008-02-09T09:05:34Z</dcterms:modified>
  <cp:revision>1</cp:revision>
  <dc:subject/>
  <dc:title>Diapositive 1</dc:title>
</cp:coreProperties>
</file>