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054-F5EB-4027-8BE5-91C648A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BC3-3B35-4094-A443-AB00324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A37-5746-4295-9073-97B2D19C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616-7338-4EC3-B2F1-DFADAF8B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22E-8C04-487F-BF8E-15E7F7D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69E-8B90-4795-A15B-15D81157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7DF-3CB2-4FE4-9A90-C0D1B13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F10-5345-4668-98F4-CF69E5C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5D1-2B2E-4E1C-ABF7-5E404B4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0CF-AFBC-4597-B0CE-AD4A0CE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6AF-A496-491F-937C-FDD9B87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E91-5F5B-457E-98A5-4A91C73D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486-4983-45B6-8CAF-C95B87E56DC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1920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24320" y="1700280"/>
            <a:ext cx="277560" cy="25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16280" y="3068640"/>
            <a:ext cx="367200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45320" y="414972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254 C 0.00591 0.00254 0.02379 0.02589 0.02379 0.05479 C 0.02379 0.0837 0.00591 0.10751 -0.0158 0.10751 C -0.0375 0.10751 -0.05503 0.0837 -0.05503 0.05479 C -0.05503 0.02589 -0.0375 0.00254 -0.0158 0.00254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5:52Z</dcterms:created>
  <dc:creator>Tribouillier</dc:creator>
  <dc:description/>
  <dc:language>en-US</dc:language>
  <cp:lastModifiedBy>Tribouillier</cp:lastModifiedBy>
  <dcterms:modified xsi:type="dcterms:W3CDTF">2008-02-09T09:05:59Z</dcterms:modified>
  <cp:revision>1</cp:revision>
  <dc:subject/>
  <dc:title>Diapositive 1</dc:title>
</cp:coreProperties>
</file>