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869-77D2-4E42-92A6-1D501844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B27-6F21-476A-9D6C-88135E38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07F-98D2-40EA-826C-7D4BEECC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642-1D8B-4657-AEB6-CD000E14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D88-037E-407F-B6C9-2B6400DE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7B6-E1C7-4EC2-87E3-3EACCCF9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80D-9D8E-4046-8318-C44BB799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4AC-521B-46DF-94F0-95EE6625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842-ED5E-4EEC-B544-4D5A15D1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BE6-19A6-45CB-B1EA-AA693357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0F3-93FC-46B2-A390-888A85B6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93B-A274-46AE-97D9-A5EC61BC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0798-E26C-48A8-8AC6-C9F0D20515E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619200"/>
            <a:ext cx="3672000" cy="2214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24320" y="1700280"/>
            <a:ext cx="277560" cy="25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16280" y="3068640"/>
            <a:ext cx="3672000" cy="221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645320" y="4149720"/>
            <a:ext cx="277920" cy="2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0254 C 0.00591 0.00254 0.02379 0.02589 0.02379 0.05479 C 0.02379 0.0837 0.00591 0.10751 -0.0158 0.10751 C -0.0375 0.10751 -0.05503 0.0837 -0.05503 0.05479 C -0.05503 0.02589 -0.0375 0.00254 -0.0158 0.00254 Z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5:52Z</dcterms:created>
  <dc:creator>Tribouillier</dc:creator>
  <dc:description/>
  <dc:language>en-US</dc:language>
  <cp:lastModifiedBy>Tribouillier</cp:lastModifiedBy>
  <dcterms:modified xsi:type="dcterms:W3CDTF">2008-02-09T09:05:59Z</dcterms:modified>
  <cp:revision>1</cp:revision>
  <dc:subject/>
  <dc:title>Diapositive 1</dc:title>
</cp:coreProperties>
</file>