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8A91-1572-41BE-9FCF-ED1B8977B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C70F-E074-46F4-BEDA-12DE1B48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A817-0948-4C6C-A2B4-31EF83358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E10A-B8A8-4CC5-BFFB-4FDE7A070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A58C-3A39-45BB-97D7-6466A64F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E2B0-B948-4BEB-99F1-36B89642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4D8A-9C4F-44A6-B73F-83584000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19F9-7CAD-4F16-9311-8A3F0F64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04E2-EA14-4B60-9F02-4EF9F8D5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4EFE-A685-4BAA-93ED-2FB9C00E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B3FC-529F-47FA-A448-CE877A1E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5DAA-BA1A-4DA9-912F-7C533FD2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B0A8-FB96-4897-8F63-6EE3D4C7C6E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1484280"/>
            <a:ext cx="3097080" cy="2881440"/>
          </a:xfrm>
          <a:prstGeom prst="ellipse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292720" y="1484280"/>
            <a:ext cx="3097080" cy="2881440"/>
          </a:xfrm>
          <a:prstGeom prst="ellipse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09:06:16Z</dcterms:created>
  <dc:creator>Tribouillier</dc:creator>
  <dc:description/>
  <dc:language>en-US</dc:language>
  <cp:lastModifiedBy>Tribouillier</cp:lastModifiedBy>
  <dcterms:modified xsi:type="dcterms:W3CDTF">2008-02-09T09:06:44Z</dcterms:modified>
  <cp:revision>1</cp:revision>
  <dc:subject/>
  <dc:title>Diapositive 1</dc:title>
</cp:coreProperties>
</file>