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3C7-E25E-4C20-97CD-20A3AE7E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224-3C00-42C8-94CE-A46BE45F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87B6-4466-4E59-A37F-4060B306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29EC-881E-4373-9B4C-E1677AC7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B4D-2DB8-479C-B7F9-F399CD34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CAF6-D9EC-4425-B607-29114C05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A8DD-704F-4E18-B4C7-E5FB8D20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0CA-3FA7-4445-ABA1-C25CDCA3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6870-6A84-491E-9ADC-A032B90D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800-59E9-48E6-B223-ADFA57A7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E7C8-A0A5-4B27-9C29-7BCF20FF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610-DBDE-414E-84BA-8413C526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C9FE-1D49-4B93-9697-AF4E9CD19C7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484280"/>
            <a:ext cx="3097080" cy="2881440"/>
          </a:xfrm>
          <a:prstGeom prst="ellipse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1484280"/>
            <a:ext cx="3097080" cy="2881440"/>
          </a:xfrm>
          <a:prstGeom prst="ellipse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6:16Z</dcterms:created>
  <dc:creator>Tribouillier</dc:creator>
  <dc:description/>
  <dc:language>en-US</dc:language>
  <cp:lastModifiedBy>Tribouillier</cp:lastModifiedBy>
  <dcterms:modified xsi:type="dcterms:W3CDTF">2008-02-09T09:06:44Z</dcterms:modified>
  <cp:revision>1</cp:revision>
  <dc:subject/>
  <dc:title>Diapositive 1</dc:title>
</cp:coreProperties>
</file>