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D0C-26A1-406C-8177-A3E6C960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651-BC02-4FB7-A6E3-9941D555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734-91EB-4EFB-BC90-CABB2C4C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84B-297B-4A8C-B279-944ACD27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9481-C4F4-47F2-84A7-DEE02A6E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84CE-679C-43E5-BF2C-CA067780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9BA9-8925-4B28-8398-30523024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CEF-1919-4C7C-9E85-D55377F6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A57-941B-43DE-A7DD-6285AB98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9541-BE1E-47FB-BF4C-519C2683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D58E-5448-4DAD-BA88-F2A2B733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468-879C-4CAB-AECD-86EFE457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E9FD-5525-41AC-889E-1CFEB792398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39416" r="-107" b="3619"/>
          <a:stretch/>
        </p:blipFill>
        <p:spPr>
          <a:xfrm>
            <a:off x="0" y="-100080"/>
            <a:ext cx="9396360" cy="3564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39416" r="-107" b="3619"/>
          <a:stretch/>
        </p:blipFill>
        <p:spPr>
          <a:xfrm>
            <a:off x="0" y="3429000"/>
            <a:ext cx="939636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14077800" y="0"/>
            <a:ext cx="1389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mot donné était « panorama ». Il a été recherché « dans toutes les collections ». Ceci est un Cli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4077800" y="3573360"/>
            <a:ext cx="1389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mot donné était « panorama ». Il a été recherché « dans toutes les collections ». Ceci est un Cli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79769E-006 L 2.53976 -4.79769E-006 E">
                                      <p:cBhvr>
                                        <p:cTn id="6" dur="20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77457E-006 L 2.53976 2.77457E-006 E">
                                      <p:cBhvr>
                                        <p:cTn id="10" dur="20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7:43Z</dcterms:created>
  <dc:creator>Tribouillier</dc:creator>
  <dc:description/>
  <dc:language>en-US</dc:language>
  <cp:lastModifiedBy>Tribouillier</cp:lastModifiedBy>
  <dcterms:modified xsi:type="dcterms:W3CDTF">2008-02-09T09:07:59Z</dcterms:modified>
  <cp:revision>1</cp:revision>
  <dc:subject/>
  <dc:title>Diapositive 1</dc:title>
</cp:coreProperties>
</file>