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110-3089-4B0F-B99A-D6E0D4BA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2A7-52EA-4022-9C81-E68F56C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84F-E4F3-4F98-8638-86E2FA3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52B-7AD5-496B-A0E2-ACEBB692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6A7-D59F-49EC-A91F-E8C5C9B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B53-3166-449F-A2A2-8409836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ABF-25FD-4DF4-A785-7204113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0FA-B244-42B4-85A2-6DD47F0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512-4ACB-401E-AB7D-C1993CF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ED5-FCE7-4546-B9C4-1961191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A8C-EF83-4130-8F9D-37D9C43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96A-F279-4B1F-9B7E-4CC406C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6A91-789D-45A0-B54F-3FEFF22F81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9416" r="-107" b="3619"/>
          <a:stretch/>
        </p:blipFill>
        <p:spPr>
          <a:xfrm>
            <a:off x="0" y="-100080"/>
            <a:ext cx="9396360" cy="356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39416" r="-107" b="3619"/>
          <a:stretch/>
        </p:blipFill>
        <p:spPr>
          <a:xfrm>
            <a:off x="0" y="3429000"/>
            <a:ext cx="939636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4077800" y="0"/>
            <a:ext cx="138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donné était « panorama ». Il a été recherché « dans toutes les collections ». Ceci est un Cli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4077800" y="3573360"/>
            <a:ext cx="138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donné était « panorama ». Il a été recherché « dans toutes les collections ». Ceci est un Cli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79769E-006 L 2.53976 -4.79769E-006 E">
                                      <p:cBhvr>
                                        <p:cTn id="6" dur="20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457E-006 L 2.53976 2.77457E-006 E">
                                      <p:cBhvr>
                                        <p:cTn id="10" dur="2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7:43Z</dcterms:created>
  <dc:creator>Tribouillier</dc:creator>
  <dc:description/>
  <dc:language>en-US</dc:language>
  <cp:lastModifiedBy>Tribouillier</cp:lastModifiedBy>
  <dcterms:modified xsi:type="dcterms:W3CDTF">2008-02-09T09:07:59Z</dcterms:modified>
  <cp:revision>1</cp:revision>
  <dc:subject/>
  <dc:title>Diapositive 1</dc:title>
</cp:coreProperties>
</file>