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1A9C7-5657-4430-BEA8-0244AE332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59C36-2589-4F0A-9E18-B9C1E8F14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5077A-BF87-4B25-B38E-E3C4C0A23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FC409-5A6A-4313-B687-56A01A159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B1AA6-EFB2-4E98-B0A1-7FA0C36AB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744E7-388B-4FEC-A753-EBD0E1407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83F2A-7CCA-457F-AB18-F62E73D21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F8A09-42FD-47D6-9975-0B6AF00D6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25253-D264-46A0-B9B4-8EB8676B2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CA1B3-D51A-4BBF-8A73-D39893729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198F8-7898-414C-8E44-4FEFF75E3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E4AAA-32FC-4EA0-8AFD-412AF168B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FCCD6-C6A7-449C-9731-A06A08C17810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419640" y="260280"/>
            <a:ext cx="1295280" cy="102564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524720" y="260280"/>
            <a:ext cx="1295280" cy="1025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38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0.00115 C -1.66667E-006 -0.00092 0.06563 0.07657 -1.66667E-006 0.10294 C -0.06562 0.12931 -0.07743 0.11659 -0.08958 0.16008 C -0.10173 0.20357 -0.04132 0.30835 -0.07309 0.36387 C -0.10486 0.41939 -0.24219 0.45177 -0.28003 0.49249 C -0.31788 0.5332 -0.36562 0.56489 -0.3 0.60838 C -0.23437 0.65187 -0.27274 0.62457 -0.20712 0.66806 C -0.14149 0.71155 -0.30121 0.74185 -0.30121 0.76359 E">
                                      <p:cBhvr>
                                        <p:cTn id="6" dur="2000" fill="hold"/>
                                        <p:tgtEl>
                                          <p:spTgt spid="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path" presetID="38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0.00115 C -1.66667E-006 -0.00092 0.06563 0.07657 -1.66667E-006 0.10294 C -0.06562 0.12931 -0.07743 0.11659 -0.08958 0.16008 C -0.10173 0.20357 -0.04132 0.30835 -0.07309 0.36387 C -0.10486 0.41939 -0.24219 0.45177 -0.28003 0.49249 C -0.31788 0.5332 -0.36562 0.56489 -0.3 0.60838 C -0.23437 0.65187 -0.27274 0.62457 -0.20712 0.66806 C -0.14149 0.71155 -0.30121 0.74185 -0.30121 0.76359 E">
                                      <p:cBhvr>
                                        <p:cTn id="10" dur="500" fill="hold"/>
                                        <p:tgtEl>
                                          <p:spTgt spid="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9T09:07:01Z</dcterms:created>
  <dc:creator>Tribouillier</dc:creator>
  <dc:description/>
  <dc:language>en-US</dc:language>
  <cp:lastModifiedBy>Tribouillier</cp:lastModifiedBy>
  <dcterms:modified xsi:type="dcterms:W3CDTF">2008-02-09T09:07:18Z</dcterms:modified>
  <cp:revision>1</cp:revision>
  <dc:subject/>
  <dc:title>Diapositive 1</dc:title>
</cp:coreProperties>
</file>