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140-3970-42FD-A97D-384433DD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3E2-1CD0-4C5C-A83C-B4C38F6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8B7-5472-4B0A-AC13-2308CDB8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F0F-4B40-4D7C-9E25-3CC15057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89F-58A8-457C-9439-65337296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E81-16E2-4EC6-9B90-833EC833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F06-137D-424F-AEA0-4B7EA183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2A9-35A0-4EF4-8118-C6AC04A4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713-21CA-468E-A921-4720F433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7F8-2CB1-4504-9673-D2B8481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17E-7BD5-4FB3-8856-A90BCD4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FDF-43B0-46EB-9F18-EE3CA92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AA5B-3ECD-411E-9329-0D6B60F5D5F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1295280" cy="1025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295280" cy="10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115 C -1.66667E-006 -0.00092 0.06563 0.07657 -1.66667E-006 0.10294 C -0.06562 0.12931 -0.07743 0.11659 -0.08958 0.16008 C -0.10173 0.20357 -0.04132 0.30835 -0.07309 0.36387 C -0.10486 0.41939 -0.24219 0.45177 -0.28003 0.49249 C -0.31788 0.5332 -0.36562 0.56489 -0.3 0.60838 C -0.23437 0.65187 -0.27274 0.62457 -0.20712 0.66806 C -0.14149 0.71155 -0.30121 0.74185 -0.30121 0.76359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115 C -1.66667E-006 -0.00092 0.06563 0.07657 -1.66667E-006 0.10294 C -0.06562 0.12931 -0.07743 0.11659 -0.08958 0.16008 C -0.10173 0.20357 -0.04132 0.30835 -0.07309 0.36387 C -0.10486 0.41939 -0.24219 0.45177 -0.28003 0.49249 C -0.31788 0.5332 -0.36562 0.56489 -0.3 0.60838 C -0.23437 0.65187 -0.27274 0.62457 -0.20712 0.66806 C -0.14149 0.71155 -0.30121 0.74185 -0.30121 0.76359 E">
                                      <p:cBhvr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7:01Z</dcterms:created>
  <dc:creator>Tribouillier</dc:creator>
  <dc:description/>
  <dc:language>en-US</dc:language>
  <cp:lastModifiedBy>Tribouillier</cp:lastModifiedBy>
  <dcterms:modified xsi:type="dcterms:W3CDTF">2008-02-09T09:07:18Z</dcterms:modified>
  <cp:revision>1</cp:revision>
  <dc:subject/>
  <dc:title>Diapositive 1</dc:title>
</cp:coreProperties>
</file>