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899-6590-4840-A49E-82D10639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35D-C97A-4422-9DD3-7611E9AC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1B7-CBDF-4718-8FCC-1DE6525A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8D9-0EBD-47DA-A5CC-C1E06100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7B2-58C0-4503-9D4D-F5F0F9CA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A27-09CA-42B2-A1C0-3FFEC934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7F0-AE16-42D5-ADD7-4B00C553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1CB-7D6B-4835-BADF-A911BD41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AE6-096C-4773-B192-EB451CDE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DCB-17AB-4E6F-B911-B198C43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B8F-1BC8-473E-8B1B-B5FFE715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0D6-CC4F-45A5-90DE-E43FCABE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5778-A6CE-43EC-B61D-9C2133275E3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708360" y="619200"/>
            <a:ext cx="3672000" cy="2214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044720" y="1700280"/>
            <a:ext cx="277920" cy="25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3708360" y="3573360"/>
            <a:ext cx="3672000" cy="221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-1044720" y="4654440"/>
            <a:ext cx="277920" cy="2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7 L 1.42847 0.00023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1481E-006 C 0.06875 -0.00487 0.03611 4.81481E-006 0.06424 4.81481E-006 C 0.1533 0.0074 0.21406 0.04722 0.21406 0.11157 C 0.21406 0.07916 0.32257 -0.00209 0.41146 -0.00209 C 0.50538 -0.00209 0.57344 0.07685 0.57344 0.10879 C 0.57344 0.09282 0.63125 0.00763 0.73698 0.00046 C 0.84306 -0.00672 0.92084 0.08958 0.92084 0.11597 C 0.92084 0.10763 0.99132 0.00949 1.09688 0.00717 C 1.20313 0.00486 1.26702 0.08703 1.26702 0.11365 C 1.30191 0.07986 1.34479 0.01203 1.44427 0.00949 C 1.52813 0.00949 1.40868 0.00694 1.51441 0.00949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1.42847 0.00023 E">
                                      <p:cBhvr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2222E-006 C 0.06875 -0.00486 0.03611 -2.22222E-006 0.06424 -2.22222E-006 C 0.1533 0.00741 0.21406 0.04722 0.21406 0.11158 C 0.21406 0.07917 0.32257 -0.00208 0.41146 -0.00208 C 0.50538 -0.00208 0.57344 0.07685 0.57344 0.1088 C 0.57344 0.09283 0.63125 0.00764 0.73698 0.00047 C 0.84306 -0.00671 0.92084 0.08959 0.92084 0.11597 C 0.92084 0.10764 0.99132 0.00949 1.09688 0.00718 C 1.20313 0.00486 1.26702 0.08704 1.26702 0.11366 C 1.30191 0.07986 1.34479 0.01204 1.44427 0.00949 C 1.52813 0.00949 1.40868 0.00695 1.51441 0.00949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8:29Z</dcterms:created>
  <dc:creator>Tribouillier</dc:creator>
  <dc:description/>
  <dc:language>en-US</dc:language>
  <cp:lastModifiedBy>Tribouillier</cp:lastModifiedBy>
  <dcterms:modified xsi:type="dcterms:W3CDTF">2008-02-09T09:08:50Z</dcterms:modified>
  <cp:revision>1</cp:revision>
  <dc:subject/>
  <dc:title>Diapositive 1</dc:title>
</cp:coreProperties>
</file>