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44B-2091-4F88-B2D1-A680C2CA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7A61-434D-4B9C-9998-AC8B8B0B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DCB6-BE72-499F-8FF9-4804F57A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20E-ED58-4373-9D62-6E301CC8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353-F177-469E-93E2-BDFA1F40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CBD-072C-4D07-9AAF-FBB880F0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42F-326F-477E-8029-9BC3BE86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B3E-3F3B-49AC-A6C4-38C3548B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86A-3720-41C0-BADE-257620E7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62EA-EF61-4314-ACE9-8240D311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A012-DA81-4DA0-BC42-0AAA2144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240E-AD12-4A2D-B9AF-CC7BBD2E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879E-A7FE-49C0-AF50-66A5ED66217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708360" y="619200"/>
            <a:ext cx="3672000" cy="2214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1044720" y="1700280"/>
            <a:ext cx="277920" cy="25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3708360" y="3573360"/>
            <a:ext cx="3672000" cy="2214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-1044720" y="4654440"/>
            <a:ext cx="277920" cy="2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7 L 1.42847 0.00023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81481E-006 C 0.06875 -0.00487 0.03611 4.81481E-006 0.06424 4.81481E-006 C 0.1533 0.0074 0.21406 0.04722 0.21406 0.11157 C 0.21406 0.07916 0.32257 -0.00209 0.41146 -0.00209 C 0.50538 -0.00209 0.57344 0.07685 0.57344 0.10879 C 0.57344 0.09282 0.63125 0.00763 0.73698 0.00046 C 0.84306 -0.00672 0.92084 0.08958 0.92084 0.11597 C 0.92084 0.10763 0.99132 0.00949 1.09688 0.00717 C 1.20313 0.00486 1.26702 0.08703 1.26702 0.11365 C 1.30191 0.07986 1.34479 0.01203 1.44427 0.00949 C 1.52813 0.00949 1.40868 0.00694 1.51441 0.00949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1.42847 0.00023 E">
                                      <p:cBhvr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2222E-006 C 0.06875 -0.00486 0.03611 -2.22222E-006 0.06424 -2.22222E-006 C 0.1533 0.00741 0.21406 0.04722 0.21406 0.11158 C 0.21406 0.07917 0.32257 -0.00208 0.41146 -0.00208 C 0.50538 -0.00208 0.57344 0.07685 0.57344 0.1088 C 0.57344 0.09283 0.63125 0.00764 0.73698 0.00047 C 0.84306 -0.00671 0.92084 0.08959 0.92084 0.11597 C 0.92084 0.10764 0.99132 0.00949 1.09688 0.00718 C 1.20313 0.00486 1.26702 0.08704 1.26702 0.11366 C 1.30191 0.07986 1.34479 0.01204 1.44427 0.00949 C 1.52813 0.00949 1.40868 0.00695 1.51441 0.00949 E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8:29Z</dcterms:created>
  <dc:creator>Tribouillier</dc:creator>
  <dc:description/>
  <dc:language>en-US</dc:language>
  <cp:lastModifiedBy>Tribouillier</cp:lastModifiedBy>
  <dcterms:modified xsi:type="dcterms:W3CDTF">2008-02-09T09:08:50Z</dcterms:modified>
  <cp:revision>1</cp:revision>
  <dc:subject/>
  <dc:title>Diapositive 1</dc:title>
</cp:coreProperties>
</file>