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C3E-920A-4782-B430-47C616EA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BEC-4788-4A9F-9A75-525FD5A3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861-CE63-4AAB-B9C1-50EA6D89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EFF-2AB1-4CBB-BAF3-3F1AA0DC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CE0-82E6-469B-B551-56532AFB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15F-7DD3-4954-8AF0-3E313BB1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BAD-CA7F-4EC0-826A-E3F232FB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66C-0A41-4040-BD47-F5C6E23E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D21-E8CB-4E3C-9244-EB2B652A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B5E-8768-4AF8-88CE-45529C17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9F4-A9F2-470A-8A38-F14E47BE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ADB-F47B-472F-8E25-40D3ECA2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943B-DCC2-45AC-B6B1-717764F8CB8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0715" r="68434" b="14024"/>
          <a:stretch/>
        </p:blipFill>
        <p:spPr>
          <a:xfrm rot="1105800">
            <a:off x="930240" y="344160"/>
            <a:ext cx="401760" cy="853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40715" r="68434" b="14024"/>
          <a:stretch/>
        </p:blipFill>
        <p:spPr>
          <a:xfrm rot="1105800">
            <a:off x="1392120" y="1417320"/>
            <a:ext cx="401760" cy="853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40715" r="68434" b="14024"/>
          <a:stretch/>
        </p:blipFill>
        <p:spPr>
          <a:xfrm rot="1105800">
            <a:off x="2381400" y="-853560"/>
            <a:ext cx="401400" cy="853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40715" r="68434" b="14024"/>
          <a:stretch/>
        </p:blipFill>
        <p:spPr>
          <a:xfrm rot="1105800">
            <a:off x="728640" y="4201920"/>
            <a:ext cx="401760" cy="85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rcRect l="0" t="40715" r="68434" b="14024"/>
          <a:stretch/>
        </p:blipFill>
        <p:spPr>
          <a:xfrm rot="1105800">
            <a:off x="2998800" y="1844280"/>
            <a:ext cx="401760" cy="854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rcRect l="0" t="40715" r="68434" b="14024"/>
          <a:stretch/>
        </p:blipFill>
        <p:spPr>
          <a:xfrm rot="1105800">
            <a:off x="1793880" y="3933360"/>
            <a:ext cx="401760" cy="854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rcRect l="0" t="40715" r="68434" b="14024"/>
          <a:stretch/>
        </p:blipFill>
        <p:spPr>
          <a:xfrm rot="1105800">
            <a:off x="3938760" y="-853560"/>
            <a:ext cx="4014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rcRect l="0" t="40715" r="68434" b="14024"/>
          <a:stretch/>
        </p:blipFill>
        <p:spPr>
          <a:xfrm rot="1105800">
            <a:off x="3198960" y="3506760"/>
            <a:ext cx="401400" cy="85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rcRect l="0" t="40715" r="68434" b="14024"/>
          <a:stretch/>
        </p:blipFill>
        <p:spPr>
          <a:xfrm rot="1105800">
            <a:off x="3938760" y="4361040"/>
            <a:ext cx="401400" cy="85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rcRect l="0" t="40715" r="68434" b="14024"/>
          <a:stretch/>
        </p:blipFill>
        <p:spPr>
          <a:xfrm rot="1105800">
            <a:off x="4140360" y="560520"/>
            <a:ext cx="401400" cy="85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rcRect l="0" t="40715" r="68434" b="14024"/>
          <a:stretch/>
        </p:blipFill>
        <p:spPr>
          <a:xfrm rot="1105800">
            <a:off x="2597040" y="344160"/>
            <a:ext cx="401760" cy="853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rcRect l="0" t="40715" r="68434" b="14024"/>
          <a:stretch/>
        </p:blipFill>
        <p:spPr>
          <a:xfrm rot="1105800">
            <a:off x="6732720" y="2271600"/>
            <a:ext cx="401400" cy="8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6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9:10Z</dcterms:created>
  <dc:creator>Tribouillier</dc:creator>
  <dc:description/>
  <dc:language>en-US</dc:language>
  <cp:lastModifiedBy>Tribouillier</cp:lastModifiedBy>
  <dcterms:modified xsi:type="dcterms:W3CDTF">2008-02-09T09:09:19Z</dcterms:modified>
  <cp:revision>1</cp:revision>
  <dc:subject/>
  <dc:title>Diapositive 1</dc:title>
</cp:coreProperties>
</file>