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20E-0E9B-4020-BA90-03A78E98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EEB-BAF8-4CB7-A6C0-BBE673C8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164-DCBC-4CC0-8835-2D2BF26A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156-2718-4C42-905A-96B12EC7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42A-9A00-4251-A54A-580C487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FEA-3D93-4E5A-970A-4C5486ED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C2E-E692-45D1-8DD9-F0DDBBDF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D6E-951D-4E00-AEA1-E2CAC596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53A-B2F6-4B85-BFF6-2F8AF001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26B-D88E-4969-A736-1DEFCF0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031-1B84-4B8D-AF59-76CCCEA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74D-DC03-4384-AC24-319CD6D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3F41-B446-46E4-AB21-350DE5E8F27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0715" r="68434" b="14024"/>
          <a:stretch/>
        </p:blipFill>
        <p:spPr>
          <a:xfrm rot="1105800">
            <a:off x="930240" y="34416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40715" r="68434" b="14024"/>
          <a:stretch/>
        </p:blipFill>
        <p:spPr>
          <a:xfrm rot="1105800">
            <a:off x="1392120" y="141732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40715" r="68434" b="14024"/>
          <a:stretch/>
        </p:blipFill>
        <p:spPr>
          <a:xfrm rot="1105800">
            <a:off x="2381400" y="-85356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40715" r="68434" b="14024"/>
          <a:stretch/>
        </p:blipFill>
        <p:spPr>
          <a:xfrm rot="1105800">
            <a:off x="728640" y="420192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40715" r="68434" b="14024"/>
          <a:stretch/>
        </p:blipFill>
        <p:spPr>
          <a:xfrm rot="1105800">
            <a:off x="2998800" y="1844280"/>
            <a:ext cx="40176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0" t="40715" r="68434" b="14024"/>
          <a:stretch/>
        </p:blipFill>
        <p:spPr>
          <a:xfrm rot="1105800">
            <a:off x="1793880" y="3933360"/>
            <a:ext cx="401760" cy="85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0" t="40715" r="68434" b="14024"/>
          <a:stretch/>
        </p:blipFill>
        <p:spPr>
          <a:xfrm rot="1105800">
            <a:off x="3938760" y="-85356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rcRect l="0" t="40715" r="68434" b="14024"/>
          <a:stretch/>
        </p:blipFill>
        <p:spPr>
          <a:xfrm rot="1105800">
            <a:off x="3198960" y="3506760"/>
            <a:ext cx="401400" cy="85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rcRect l="0" t="40715" r="68434" b="14024"/>
          <a:stretch/>
        </p:blipFill>
        <p:spPr>
          <a:xfrm rot="1105800">
            <a:off x="3938760" y="436104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rcRect l="0" t="40715" r="68434" b="14024"/>
          <a:stretch/>
        </p:blipFill>
        <p:spPr>
          <a:xfrm rot="1105800">
            <a:off x="4140360" y="560520"/>
            <a:ext cx="40140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rcRect l="0" t="40715" r="68434" b="14024"/>
          <a:stretch/>
        </p:blipFill>
        <p:spPr>
          <a:xfrm rot="1105800">
            <a:off x="2597040" y="344160"/>
            <a:ext cx="401760" cy="85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rcRect l="0" t="40715" r="68434" b="14024"/>
          <a:stretch/>
        </p:blipFill>
        <p:spPr>
          <a:xfrm rot="1105800">
            <a:off x="6732720" y="2271600"/>
            <a:ext cx="4014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10069 0.3155 E">
                                      <p:cBhvr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9:10Z</dcterms:created>
  <dc:creator>Tribouillier</dc:creator>
  <dc:description/>
  <dc:language>en-US</dc:language>
  <cp:lastModifiedBy>Tribouillier</cp:lastModifiedBy>
  <dcterms:modified xsi:type="dcterms:W3CDTF">2008-02-09T09:09:19Z</dcterms:modified>
  <cp:revision>1</cp:revision>
  <dc:subject/>
  <dc:title>Diapositive 1</dc:title>
</cp:coreProperties>
</file>