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D7BD-14A9-4347-89CB-734CB1229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9580-4C6A-49BD-A569-8102F19F0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4350-236E-4081-BAD4-F56624DB5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503C-E4EC-4829-A75F-F1B1267AD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8487-1E8D-41D1-A450-690272B82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2ABD-ACA7-494D-B6A3-B0A83C9F1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1C3E-1508-4079-8D15-1074A1911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776D-DE45-4307-8BC6-74F2BFB79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8BE6-ADFD-416D-8D68-1D026961E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4432-CE17-4C3E-AC95-3B8A58F00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5318-F40E-4767-AA0B-B2C1D2D7C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E6C3-0975-4FDC-AA64-2061DEB57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60038-CA19-40FA-BDF3-A2CE4DAEF3CC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8000" y="333360"/>
            <a:ext cx="4329000" cy="5759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643280" y="333360"/>
            <a:ext cx="4329360" cy="5759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08000" y="1557360"/>
            <a:ext cx="1554120" cy="15825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643280" y="1558800"/>
            <a:ext cx="1554480" cy="158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5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4 -0.01066 0.018 -0.02132 0.023 -0.02132 C 0.054 -0.02132 0.086 0.14523 0.086 0.31178 C 0.086 0.22784 0.102 0.14523 0.117 0.14523 C 0.133 0.14523 0.148 0.22917 0.148 0.31178 C 0.148 0.27048 0.156 0.22784 0.164 0.22784 C 0.172 0.22784 0.18 0.26914 0.18 0.31178 C 0.18 0.29046 0.184 0.27048 0.188 0.27048 C 0.192 0.27048 0.196 0.2918 0.196 0.31178 C 0.196 0.30112 0.198 0.29046 0.2 0.29046 C 0.201 0.29046 0.204 0.30112 0.204 0.31178 C 0.204 0.30645 0.205 0.30112 0.206 0.30112 C 0.206 0.30245 0.208 0.30645 0.208 0.31178 C 0.208 0.30912 0.208 0.30645 0.209 0.30645 C 0.209 0.30778 0.21 0.30911 0.21 0.31178 C 0.21 0.31045 0.21 0.30912 0.21 0.30778 C 0.211 0.30778 0.211 0.30911 0.211 0.31044 C 0.212 0.31044 0.212 0.30911 0.212 0.30778 C 0.213 0.30778 0.213 0.30911 0.213 0.31044 E">
                                      <p:cBhvr>
                                        <p:cTn id="6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9T09:09:44Z</dcterms:created>
  <dc:creator>Tribouillier</dc:creator>
  <dc:description/>
  <dc:language>en-US</dc:language>
  <cp:lastModifiedBy>Tribouillier</cp:lastModifiedBy>
  <dcterms:modified xsi:type="dcterms:W3CDTF">2008-02-09T09:09:51Z</dcterms:modified>
  <cp:revision>1</cp:revision>
  <dc:subject/>
  <dc:title>Diapositive 1</dc:title>
</cp:coreProperties>
</file>