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6E6-D46A-466A-BF1A-B9B30521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A00-F2DF-466D-992D-39387D41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B5A-2203-4392-BC0C-220415A2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686-DA4B-4C68-8575-C30E11E8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62C-00C1-4C6C-BF52-E785C4AF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F87-F996-4F8B-AED2-1CB3DD9E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1BF-3BAE-42E0-B84F-DA07E406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13A-0BDD-4A71-A04B-36EB2BB0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758-60B6-4092-BC40-0849D5F9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958-C71F-4EC0-BAEA-183EF57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8AC-B05A-4AD9-B9BF-74FB84C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3D0-7C59-431F-AE06-F034A670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AAD3-6817-42C6-A130-A7C9013D2BA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4329000" cy="57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29360" cy="575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000" y="1557360"/>
            <a:ext cx="1554120" cy="158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43280" y="1558800"/>
            <a:ext cx="155448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6 0.018 -0.02132 0.023 -0.02132 C 0.054 -0.02132 0.086 0.14523 0.086 0.31178 C 0.086 0.22784 0.102 0.14523 0.117 0.14523 C 0.133 0.14523 0.148 0.22917 0.148 0.31178 C 0.148 0.27048 0.156 0.22784 0.164 0.22784 C 0.172 0.22784 0.18 0.26914 0.18 0.31178 C 0.18 0.29046 0.184 0.27048 0.188 0.27048 C 0.192 0.27048 0.196 0.2918 0.196 0.31178 C 0.196 0.30112 0.198 0.29046 0.2 0.29046 C 0.201 0.29046 0.204 0.30112 0.204 0.31178 C 0.204 0.30645 0.205 0.30112 0.206 0.30112 C 0.206 0.30245 0.208 0.30645 0.208 0.31178 C 0.208 0.30912 0.208 0.30645 0.209 0.30645 C 0.209 0.30778 0.21 0.30911 0.21 0.31178 C 0.21 0.31045 0.21 0.30912 0.21 0.30778 C 0.211 0.30778 0.211 0.30911 0.211 0.31044 C 0.212 0.31044 0.212 0.30911 0.212 0.30778 C 0.213 0.30778 0.213 0.30911 0.213 0.31044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9:44Z</dcterms:created>
  <dc:creator>Tribouillier</dc:creator>
  <dc:description/>
  <dc:language>en-US</dc:language>
  <cp:lastModifiedBy>Tribouillier</cp:lastModifiedBy>
  <dcterms:modified xsi:type="dcterms:W3CDTF">2008-02-09T09:09:51Z</dcterms:modified>
  <cp:revision>1</cp:revision>
  <dc:subject/>
  <dc:title>Diapositive 1</dc:title>
</cp:coreProperties>
</file>