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D1B-8796-425A-87F8-CF505B99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8F8-6734-4373-9A32-66777ABE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919-6B73-4178-9A9D-01CB79D9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B24-E8FB-490A-ACC2-C44A0DC1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150-BAB4-4B47-93B6-DC9818C6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9E7-1F56-4084-8168-1B4B2B0B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F63-DEEB-49CE-BD02-5DAC4C7E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F54-30A1-48DB-ABD1-A309AD6F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E23-F196-4A96-8F48-4024B4D2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C53-1315-4EB0-935C-949085B1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922-AA9B-4A1E-8A28-A1A5FB5E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E06-3B3A-4991-91FE-41ED38DA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2CF5-9203-4D4F-9494-4C54A741BA6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4329000" cy="575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29360" cy="575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8000" y="1557360"/>
            <a:ext cx="1554120" cy="158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43280" y="1558800"/>
            <a:ext cx="155448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52533E-006 C 0.00556 -0.01064 0.02656 -0.02128 0.03368 -0.02128 C 0.07969 -0.02128 0.12726 0.14527 0.12726 0.31206 C 0.12726 0.22785 0.15104 0.14527 0.17344 0.14527 C 0.19705 0.14527 0.21962 0.22924 0.21962 0.31206 C 0.21962 0.27042 0.23143 0.22785 0.2434 0.22785 C 0.25504 0.22785 0.26702 0.26926 0.26702 0.31206 C 0.26702 0.29054 0.27274 0.27042 0.27865 0.27042 C 0.28455 0.27042 0.29063 0.2917 0.29063 0.31206 C 0.29063 0.30118 0.29393 0.29054 0.29653 0.29054 C 0.29827 0.29054 0.30243 0.30118 0.30243 0.31206 C 0.30243 0.3065 0.30399 0.30118 0.30556 0.30118 C 0.30556 0.30257 0.30868 0.3065 0.30868 0.31206 C 0.30868 0.30928 0.30868 0.3065 0.31024 0.3065 C 0.31024 0.30789 0.31181 0.30905 0.31181 0.31206 C 0.31181 0.31044 0.31181 0.30928 0.31181 0.30789 C 0.31337 0.30789 0.31337 0.30928 0.31337 0.31044 C 0.31493 0.31044 0.31493 0.30905 0.31493 0.30789 C 0.31667 0.30789 0.31667 0.30928 0.31667 0.31044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6 0.018 -0.02132 0.023 -0.02132 C 0.054 -0.02132 0.086 0.14523 0.086 0.31178 C 0.086 0.22784 0.102 0.14523 0.117 0.14523 C 0.133 0.14523 0.148 0.22917 0.148 0.31178 C 0.148 0.27048 0.156 0.22784 0.164 0.22784 C 0.172 0.22784 0.18 0.26914 0.18 0.31178 C 0.18 0.29046 0.184 0.27048 0.188 0.27048 C 0.192 0.27048 0.196 0.2918 0.196 0.31178 C 0.196 0.30112 0.198 0.29046 0.2 0.29046 C 0.201 0.29046 0.204 0.30112 0.204 0.31178 C 0.204 0.30645 0.205 0.30112 0.206 0.30112 C 0.206 0.30245 0.208 0.30645 0.208 0.31178 C 0.208 0.30912 0.208 0.30645 0.209 0.30645 C 0.209 0.30778 0.21 0.30911 0.21 0.31178 C 0.21 0.31045 0.21 0.30912 0.21 0.30778 C 0.211 0.30778 0.211 0.30911 0.211 0.31044 C 0.212 0.31044 0.212 0.30911 0.212 0.30778 C 0.213 0.30778 0.213 0.30911 0.213 0.31044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10:08Z</dcterms:created>
  <dc:creator>Tribouillier</dc:creator>
  <dc:description/>
  <dc:language>en-US</dc:language>
  <cp:lastModifiedBy>Tribouillier</cp:lastModifiedBy>
  <dcterms:modified xsi:type="dcterms:W3CDTF">2008-02-09T09:10:15Z</dcterms:modified>
  <cp:revision>1</cp:revision>
  <dc:subject/>
  <dc:title>Diapositive 1</dc:title>
</cp:coreProperties>
</file>