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8A1-4D18-4005-BDEA-6103E0CA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818-C062-4C98-92F7-BEAA4CF4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4A0-F0A5-4C48-9CB4-635AE149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5ED-D635-40CD-83BF-84E7A61C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1AA-46C5-43E9-AB5C-8FE5E169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377-138D-4E12-B208-3E4117B7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E05-1FCF-45C2-9895-C4264CFB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363-5F3A-4B4C-ACDE-751FE4BE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FB2-35F7-4F59-9D86-5F71B962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7BB-B14D-4C7B-8BC2-87E91397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CB8-7931-4CAF-9692-38FC6E32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D76-F806-447F-9F4E-4534FF32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DD48-E6AA-4EB6-8280-FFF61AFC80D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4329000" cy="575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29360" cy="575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8000" y="1557360"/>
            <a:ext cx="1554120" cy="158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43280" y="1558800"/>
            <a:ext cx="155448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52533E-006 C 0.00556 -0.01064 0.02656 -0.02128 0.03368 -0.02128 C 0.07969 -0.02128 0.12726 0.14527 0.12726 0.31206 C 0.12726 0.22785 0.15104 0.14527 0.17344 0.14527 C 0.19705 0.14527 0.21962 0.22924 0.21962 0.31206 C 0.21962 0.27042 0.23143 0.22785 0.2434 0.22785 C 0.25504 0.22785 0.26702 0.26926 0.26702 0.31206 C 0.26702 0.29054 0.27274 0.27042 0.27865 0.27042 C 0.28455 0.27042 0.29063 0.2917 0.29063 0.31206 C 0.29063 0.30118 0.29393 0.29054 0.29653 0.29054 C 0.29827 0.29054 0.30243 0.30118 0.30243 0.31206 C 0.30243 0.3065 0.30399 0.30118 0.30556 0.30118 C 0.30556 0.30257 0.30868 0.3065 0.30868 0.31206 C 0.30868 0.30928 0.30868 0.3065 0.31024 0.3065 C 0.31024 0.30789 0.31181 0.30905 0.31181 0.31206 C 0.31181 0.31044 0.31181 0.30928 0.31181 0.30789 C 0.31337 0.30789 0.31337 0.30928 0.31337 0.31044 C 0.31493 0.31044 0.31493 0.30905 0.31493 0.30789 C 0.31667 0.30789 0.31667 0.30928 0.31667 0.31044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6 0.018 -0.02132 0.023 -0.02132 C 0.054 -0.02132 0.086 0.14523 0.086 0.31178 C 0.086 0.22784 0.102 0.14523 0.117 0.14523 C 0.133 0.14523 0.148 0.22917 0.148 0.31178 C 0.148 0.27048 0.156 0.22784 0.164 0.22784 C 0.172 0.22784 0.18 0.26914 0.18 0.31178 C 0.18 0.29046 0.184 0.27048 0.188 0.27048 C 0.192 0.27048 0.196 0.2918 0.196 0.31178 C 0.196 0.30112 0.198 0.29046 0.2 0.29046 C 0.201 0.29046 0.204 0.30112 0.204 0.31178 C 0.204 0.30645 0.205 0.30112 0.206 0.30112 C 0.206 0.30245 0.208 0.30645 0.208 0.31178 C 0.208 0.30912 0.208 0.30645 0.209 0.30645 C 0.209 0.30778 0.21 0.30911 0.21 0.31178 C 0.21 0.31045 0.21 0.30912 0.21 0.30778 C 0.211 0.30778 0.211 0.30911 0.211 0.31044 C 0.212 0.31044 0.212 0.30911 0.212 0.30778 C 0.213 0.30778 0.213 0.30911 0.213 0.31044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10:08Z</dcterms:created>
  <dc:creator>Tribouillier</dc:creator>
  <dc:description/>
  <dc:language>en-US</dc:language>
  <cp:lastModifiedBy>Tribouillier</cp:lastModifiedBy>
  <dcterms:modified xsi:type="dcterms:W3CDTF">2008-02-09T09:10:15Z</dcterms:modified>
  <cp:revision>1</cp:revision>
  <dc:subject/>
  <dc:title>Diapositive 1</dc:title>
</cp:coreProperties>
</file>